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media/image5.wmf" ContentType="image/x-wmf"/>
  <Override PartName="/ppt/media/image12.jpeg" ContentType="image/jpeg"/>
  <Override PartName="/ppt/media/image6.wmf" ContentType="image/x-wmf"/>
  <Override PartName="/ppt/media/image7.png" ContentType="image/png"/>
  <Override PartName="/ppt/media/image8.jpeg" ContentType="image/jpeg"/>
  <Override PartName="/ppt/media/image9.jpeg" ContentType="image/jpeg"/>
  <Override PartName="/ppt/media/image10.jpeg" ContentType="image/jpeg"/>
  <Override PartName="/ppt/media/image11.jpeg" ContentType="image/jpeg"/>
  <Override PartName="/ppt/media/image1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</p:sldIdLst>
  <p:sldSz cx="10288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0BD8AD-21F2-486B-B8B5-2922A1AD98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9480" y="4130640"/>
            <a:ext cx="963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19F3D0-D986-4F67-BD27-BDC36EE44C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4699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74720" y="1981080"/>
            <a:ext cx="4699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39480" y="4130640"/>
            <a:ext cx="4699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274720" y="4130640"/>
            <a:ext cx="4699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5184D2-C2EC-48CE-B5DA-2D55D3B973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3101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96040" y="1981080"/>
            <a:ext cx="3101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2600" y="1981080"/>
            <a:ext cx="3101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39480" y="4130640"/>
            <a:ext cx="3101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96040" y="4130640"/>
            <a:ext cx="3101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852600" y="4130640"/>
            <a:ext cx="3101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84E4AF-5908-4FF0-9C60-2F198A5FE6E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E2E0D9-8B7E-41D2-86C1-AC9BB4D84A2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9869EE-86DE-462B-A5C6-C7101679B4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4699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274720" y="1981080"/>
            <a:ext cx="4699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686CAB-797E-4DBC-B92B-1211E326A0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90ED0F-0C08-4AD6-AA55-B4F845B439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13920" y="294840"/>
            <a:ext cx="8366040" cy="64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95D4CD-2C56-4975-90F8-2EE767452C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4699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274720" y="1981080"/>
            <a:ext cx="4699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39480" y="4130640"/>
            <a:ext cx="4699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30742A-6703-4584-A541-B713AF8F27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4699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4720" y="1981080"/>
            <a:ext cx="4699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274720" y="4130640"/>
            <a:ext cx="4699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3BEB2E-2CAC-417B-ACEB-8DCD5B80CF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4699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4720" y="1981080"/>
            <a:ext cx="4699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39480" y="4130640"/>
            <a:ext cx="963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4E7B77-9041-4DCD-9259-CDC737C8CA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7320" y="160200"/>
            <a:ext cx="9990000" cy="6594480"/>
          </a:xfrm>
          <a:prstGeom prst="rect">
            <a:avLst/>
          </a:prstGeom>
          <a:solidFill>
            <a:srgbClr val="000000"/>
          </a:solidFill>
          <a:ln w="15840">
            <a:solidFill>
              <a:srgbClr val="863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74600" y="1833480"/>
            <a:ext cx="9958320" cy="4905360"/>
          </a:xfrm>
          <a:prstGeom prst="rect">
            <a:avLst/>
          </a:prstGeom>
          <a:gradFill rotWithShape="0">
            <a:gsLst>
              <a:gs pos="0">
                <a:srgbClr val="313131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57040" y="6248520"/>
            <a:ext cx="2143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885F7-6FBD-4A04-A15D-710FE01EED6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S2K" descr=""/>
          <p:cNvPicPr/>
          <p:nvPr/>
        </p:nvPicPr>
        <p:blipFill>
          <a:blip r:embed="rId2"/>
          <a:stretch/>
        </p:blipFill>
        <p:spPr>
          <a:xfrm>
            <a:off x="7155000" y="5908680"/>
            <a:ext cx="2836800" cy="714240"/>
          </a:xfrm>
          <a:prstGeom prst="rect">
            <a:avLst/>
          </a:prstGeom>
          <a:ln w="0">
            <a:noFill/>
          </a:ln>
        </p:spPr>
      </p:pic>
      <p:pic>
        <p:nvPicPr>
          <p:cNvPr id="6" name="crescent" descr=""/>
          <p:cNvPicPr/>
          <p:nvPr/>
        </p:nvPicPr>
        <p:blipFill>
          <a:blip r:embed="rId3"/>
          <a:stretch/>
        </p:blipFill>
        <p:spPr>
          <a:xfrm>
            <a:off x="8777160" y="403200"/>
            <a:ext cx="1246320" cy="110664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157320" y="1824120"/>
            <a:ext cx="9986760" cy="0"/>
          </a:xfrm>
          <a:prstGeom prst="line">
            <a:avLst/>
          </a:prstGeom>
          <a:ln w="12600">
            <a:solidFill>
              <a:srgbClr val="863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61760" y="2285640"/>
            <a:ext cx="87627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Graphics Techniques and Algorithms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293840" y="399744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Roger Corron, SGI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9928080" y="6499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Image Cach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Backing store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arely part of the graphics system, since the general case is expensive to implemen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e general case is rarely needed, so you can develop an implementation tuned to your need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se accelerated offscreen frame buffer if availab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Image Caching:</a:t>
            </a:r>
            <a:br>
              <a:rPr sz="3700"/>
            </a:b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Benefi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Improves traversal and geometry rate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othing is traversed, transformed, or lit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Improves host download rate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f offscreen frame buffer is availab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Optimizes fill rate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e graphics system does not have to calculate individua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ixels, but simply copy them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Application data cach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Database roaming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efetch nearest neighbo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Large textures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16080" y="294840"/>
            <a:ext cx="83642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ll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Don’t draw what you can’t see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4208400" y="3505320"/>
            <a:ext cx="1478160" cy="182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16080" y="294840"/>
            <a:ext cx="83642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lling:</a:t>
            </a:r>
            <a:br>
              <a:rPr sz="3700"/>
            </a:b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lling Typ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Use one. Use all. Pipeline them together.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View Frustum Culling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ckface Culling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cclusion Culling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ntribution Culling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16080" y="294840"/>
            <a:ext cx="83642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lling:</a:t>
            </a:r>
            <a:br>
              <a:rPr sz="3700"/>
            </a:b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Bounding Volum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Test against a bounding volume not individual primitives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an be bounding sphere, box, screen oriented box, or any enclosing volum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ierarchical bounding volumes to reduce cull tim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pheres are fast, boxes are more accurat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 a combination of both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16080" y="294840"/>
            <a:ext cx="83642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lling: </a:t>
            </a:r>
            <a:br>
              <a:rPr sz="3700"/>
            </a:b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View Frustum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Graphics pipeline clips data that falls outside the View Frustum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If data will be completely clipped, don’t  draw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2743200" y="3048120"/>
            <a:ext cx="3857400" cy="2209680"/>
            <a:chOff x="2743200" y="3048120"/>
            <a:chExt cx="3857400" cy="2209680"/>
          </a:xfrm>
        </p:grpSpPr>
        <p:sp>
          <p:nvSpPr>
            <p:cNvPr id="99" name=""/>
            <p:cNvSpPr/>
            <p:nvPr/>
          </p:nvSpPr>
          <p:spPr>
            <a:xfrm>
              <a:off x="2743200" y="3048120"/>
              <a:ext cx="3857400" cy="220968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  <a:effectLst>
              <a:outerShdw dist="40186" dir="109635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714560" y="3124080"/>
              <a:ext cx="1492920" cy="1363320"/>
            </a:xfrm>
            <a:custGeom>
              <a:avLst/>
              <a:gdLst/>
              <a:ahLst/>
              <a:rect l="l" t="t" r="r" b="b"/>
              <a:pathLst>
                <a:path w="836" h="859">
                  <a:moveTo>
                    <a:pt x="0" y="0"/>
                  </a:moveTo>
                  <a:lnTo>
                    <a:pt x="836" y="238"/>
                  </a:lnTo>
                  <a:lnTo>
                    <a:pt x="835" y="859"/>
                  </a:lnTo>
                  <a:lnTo>
                    <a:pt x="4" y="621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28440">
              <a:solidFill>
                <a:srgbClr val="863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771720" y="3657600"/>
              <a:ext cx="1028520" cy="914040"/>
            </a:xfrm>
            <a:prstGeom prst="rect">
              <a:avLst/>
            </a:prstGeom>
            <a:noFill/>
            <a:ln w="0">
              <a:noFill/>
            </a:ln>
            <a:effectLst>
              <a:outerShdw dist="40186" dir="109635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993040" y="3120840"/>
              <a:ext cx="1708920" cy="2009520"/>
            </a:xfrm>
            <a:custGeom>
              <a:avLst/>
              <a:gdLst/>
              <a:ahLst/>
              <a:rect l="l" t="t" r="r" b="b"/>
              <a:pathLst>
                <a:path w="957" h="1266">
                  <a:moveTo>
                    <a:pt x="0" y="1266"/>
                  </a:moveTo>
                  <a:lnTo>
                    <a:pt x="957" y="0"/>
                  </a:lnTo>
                </a:path>
              </a:pathLst>
            </a:custGeom>
            <a:noFill/>
            <a:ln w="28440">
              <a:solidFill>
                <a:srgbClr val="863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993040" y="3504960"/>
              <a:ext cx="3221640" cy="1625400"/>
            </a:xfrm>
            <a:custGeom>
              <a:avLst/>
              <a:gdLst/>
              <a:ahLst/>
              <a:rect l="l" t="t" r="r" b="b"/>
              <a:pathLst>
                <a:path w="1804" h="1024">
                  <a:moveTo>
                    <a:pt x="0" y="1024"/>
                  </a:moveTo>
                  <a:lnTo>
                    <a:pt x="1804" y="0"/>
                  </a:lnTo>
                </a:path>
              </a:pathLst>
            </a:custGeom>
            <a:noFill/>
            <a:ln w="9360">
              <a:solidFill>
                <a:srgbClr val="863d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993040" y="4498920"/>
              <a:ext cx="3230640" cy="631440"/>
            </a:xfrm>
            <a:custGeom>
              <a:avLst/>
              <a:gdLst/>
              <a:ahLst/>
              <a:rect l="l" t="t" r="r" b="b"/>
              <a:pathLst>
                <a:path w="1809" h="398">
                  <a:moveTo>
                    <a:pt x="0" y="398"/>
                  </a:moveTo>
                  <a:lnTo>
                    <a:pt x="1809" y="0"/>
                  </a:lnTo>
                </a:path>
              </a:pathLst>
            </a:custGeom>
            <a:noFill/>
            <a:ln w="28440">
              <a:solidFill>
                <a:srgbClr val="863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857040" y="4114800"/>
              <a:ext cx="771480" cy="685440"/>
            </a:xfrm>
            <a:custGeom>
              <a:avLst/>
              <a:gdLst/>
              <a:ahLst/>
              <a:rect l="l" t="t" r="r" b="b"/>
              <a:pathLst>
                <a:path w="651" h="732">
                  <a:moveTo>
                    <a:pt x="0" y="0"/>
                  </a:moveTo>
                  <a:lnTo>
                    <a:pt x="642" y="201"/>
                  </a:lnTo>
                  <a:lnTo>
                    <a:pt x="651" y="732"/>
                  </a:lnTo>
                  <a:lnTo>
                    <a:pt x="3" y="525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28440">
              <a:solidFill>
                <a:srgbClr val="863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000480" y="3048120"/>
              <a:ext cx="509040" cy="304560"/>
            </a:xfrm>
            <a:custGeom>
              <a:avLst/>
              <a:gdLst/>
              <a:ahLst/>
              <a:rect l="l" t="t" r="r" b="b"/>
              <a:pathLst>
                <a:path w="657" h="654">
                  <a:moveTo>
                    <a:pt x="0" y="651"/>
                  </a:moveTo>
                  <a:lnTo>
                    <a:pt x="411" y="0"/>
                  </a:lnTo>
                  <a:lnTo>
                    <a:pt x="657" y="654"/>
                  </a:lnTo>
                  <a:lnTo>
                    <a:pt x="0" y="651"/>
                  </a:lnTo>
                  <a:close/>
                </a:path>
              </a:pathLst>
            </a:custGeom>
            <a:solidFill>
              <a:srgbClr val="979393">
                <a:alpha val="50000"/>
              </a:srgbClr>
            </a:solidFill>
            <a:ln w="28440">
              <a:solidFill>
                <a:srgbClr val="863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800600" y="3962160"/>
              <a:ext cx="599760" cy="609480"/>
            </a:xfrm>
            <a:custGeom>
              <a:avLst/>
              <a:gdLst/>
              <a:ahLst/>
              <a:rect l="l" t="t" r="r" b="b"/>
              <a:pathLst>
                <a:path w="240" h="375">
                  <a:moveTo>
                    <a:pt x="0" y="306"/>
                  </a:moveTo>
                  <a:lnTo>
                    <a:pt x="189" y="0"/>
                  </a:lnTo>
                  <a:lnTo>
                    <a:pt x="240" y="375"/>
                  </a:lnTo>
                  <a:lnTo>
                    <a:pt x="0" y="306"/>
                  </a:lnTo>
                  <a:close/>
                </a:path>
              </a:pathLst>
            </a:custGeom>
            <a:solidFill>
              <a:srgbClr val="cc3300">
                <a:alpha val="50000"/>
              </a:srgbClr>
            </a:solidFill>
            <a:ln w="28440">
              <a:solidFill>
                <a:srgbClr val="863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943080" y="3504960"/>
              <a:ext cx="469800" cy="425160"/>
            </a:xfrm>
            <a:custGeom>
              <a:avLst/>
              <a:gdLst/>
              <a:ahLst/>
              <a:rect l="l" t="t" r="r" b="b"/>
              <a:pathLst>
                <a:path w="234" h="228">
                  <a:moveTo>
                    <a:pt x="0" y="228"/>
                  </a:moveTo>
                  <a:lnTo>
                    <a:pt x="103" y="0"/>
                  </a:lnTo>
                  <a:lnTo>
                    <a:pt x="234" y="132"/>
                  </a:lnTo>
                  <a:lnTo>
                    <a:pt x="0" y="228"/>
                  </a:lnTo>
                  <a:close/>
                </a:path>
              </a:pathLst>
            </a:custGeom>
            <a:solidFill>
              <a:srgbClr val="979393">
                <a:alpha val="50000"/>
              </a:srgbClr>
            </a:solidFill>
            <a:ln w="28440">
              <a:solidFill>
                <a:srgbClr val="863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260520" y="4241520"/>
              <a:ext cx="430200" cy="460080"/>
            </a:xfrm>
            <a:custGeom>
              <a:avLst/>
              <a:gdLst/>
              <a:ahLst/>
              <a:rect l="l" t="t" r="r" b="b"/>
              <a:pathLst>
                <a:path w="214" h="247">
                  <a:moveTo>
                    <a:pt x="0" y="192"/>
                  </a:moveTo>
                  <a:lnTo>
                    <a:pt x="54" y="0"/>
                  </a:lnTo>
                  <a:lnTo>
                    <a:pt x="214" y="247"/>
                  </a:lnTo>
                  <a:lnTo>
                    <a:pt x="0" y="192"/>
                  </a:lnTo>
                  <a:close/>
                </a:path>
              </a:pathLst>
            </a:custGeom>
            <a:solidFill>
              <a:srgbClr val="979393">
                <a:alpha val="50000"/>
              </a:srgbClr>
            </a:solidFill>
            <a:ln w="28440">
              <a:solidFill>
                <a:srgbClr val="863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032280" y="3749400"/>
              <a:ext cx="1157400" cy="1074600"/>
            </a:xfrm>
            <a:prstGeom prst="rtTriangle">
              <a:avLst/>
            </a:prstGeom>
            <a:noFill/>
            <a:ln w="0">
              <a:noFill/>
            </a:ln>
            <a:effectLst>
              <a:outerShdw dist="40186" dir="109635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996640" y="4114800"/>
              <a:ext cx="1717920" cy="1012320"/>
            </a:xfrm>
            <a:custGeom>
              <a:avLst/>
              <a:gdLst/>
              <a:ahLst/>
              <a:rect l="l" t="t" r="r" b="b"/>
              <a:pathLst>
                <a:path w="962" h="638">
                  <a:moveTo>
                    <a:pt x="0" y="638"/>
                  </a:moveTo>
                  <a:lnTo>
                    <a:pt x="962" y="0"/>
                  </a:lnTo>
                </a:path>
              </a:pathLst>
            </a:custGeom>
            <a:noFill/>
            <a:ln w="28440">
              <a:solidFill>
                <a:srgbClr val="863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025160" y="3619440"/>
              <a:ext cx="387360" cy="282240"/>
            </a:xfrm>
            <a:custGeom>
              <a:avLst/>
              <a:gdLst/>
              <a:ahLst/>
              <a:rect l="l" t="t" r="r" b="b"/>
              <a:pathLst>
                <a:path w="217" h="178">
                  <a:moveTo>
                    <a:pt x="0" y="178"/>
                  </a:moveTo>
                  <a:lnTo>
                    <a:pt x="139" y="0"/>
                  </a:lnTo>
                  <a:lnTo>
                    <a:pt x="217" y="83"/>
                  </a:lnTo>
                  <a:lnTo>
                    <a:pt x="0" y="178"/>
                  </a:lnTo>
                  <a:close/>
                </a:path>
              </a:pathLst>
            </a:custGeom>
            <a:solidFill>
              <a:srgbClr val="cc3300">
                <a:alpha val="50000"/>
              </a:srgbClr>
            </a:solidFill>
            <a:ln w="28440">
              <a:solidFill>
                <a:srgbClr val="863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16080" y="294840"/>
            <a:ext cx="83642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lling: </a:t>
            </a:r>
            <a:br>
              <a:rPr sz="3700"/>
            </a:b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View Frustum Usefulnes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s geometry rate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lled vertices are not transformed, lit, and clipp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s host download rat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ss data moved from memory into graphic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Does not change fill rat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iangles outside the View Frustum would not have been rasterized anywa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16080" y="294840"/>
            <a:ext cx="83642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lling: </a:t>
            </a:r>
            <a:br>
              <a:rPr sz="3700"/>
            </a:b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View Frustum Implementa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ransform bounding volume  to clip coordinates (in OpenGL multiply by Model-View and Projection matrix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heck each volume against View Frustum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Geometry is either </a:t>
            </a:r>
            <a:r>
              <a:rPr b="0" lang="en-US" sz="2600" spc="-1" strike="noStrike">
                <a:solidFill>
                  <a:srgbClr val="fec524"/>
                </a:solidFill>
                <a:latin typeface="Arial"/>
              </a:rPr>
              <a:t>In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2600" spc="-1" strike="noStrike">
                <a:solidFill>
                  <a:srgbClr val="fec524"/>
                </a:solidFill>
                <a:latin typeface="Arial"/>
              </a:rPr>
              <a:t>Ou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or </a:t>
            </a:r>
            <a:r>
              <a:rPr b="0" lang="en-US" sz="2600" spc="-1" strike="noStrike">
                <a:solidFill>
                  <a:srgbClr val="fec524"/>
                </a:solidFill>
                <a:latin typeface="Arial"/>
              </a:rPr>
              <a:t>Partia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nder </a:t>
            </a:r>
            <a:r>
              <a:rPr b="0" lang="en-US" sz="2600" spc="-1" strike="noStrike">
                <a:solidFill>
                  <a:srgbClr val="fec524"/>
                </a:solidFill>
                <a:latin typeface="Arial"/>
              </a:rPr>
              <a:t>In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US" sz="2600" spc="-1" strike="noStrike">
                <a:solidFill>
                  <a:srgbClr val="fec524"/>
                </a:solidFill>
                <a:latin typeface="Arial"/>
              </a:rPr>
              <a:t>Partia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16080" y="294840"/>
            <a:ext cx="83642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lling: </a:t>
            </a:r>
            <a:br>
              <a:rPr sz="3700"/>
            </a:b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kip the Clip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In software transform systems (GTX-RD)  skip the clip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ec524"/>
                </a:solidFill>
                <a:latin typeface="Arial"/>
              </a:rPr>
              <a:t>Partia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US" sz="2600" spc="-1" strike="noStrike">
                <a:solidFill>
                  <a:srgbClr val="fec524"/>
                </a:solidFill>
                <a:latin typeface="Arial"/>
              </a:rPr>
              <a:t>In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geometry classifie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Pipe renders </a:t>
            </a:r>
            <a:r>
              <a:rPr b="0" i="1" lang="en-US" sz="2400" spc="-1" strike="noStrike">
                <a:solidFill>
                  <a:srgbClr val="fec524"/>
                </a:solidFill>
                <a:latin typeface="Arial"/>
              </a:rPr>
              <a:t>Partial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as usu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Pipe can render </a:t>
            </a:r>
            <a:r>
              <a:rPr b="0" i="1" lang="en-US" sz="2400" spc="-1" strike="noStrike">
                <a:solidFill>
                  <a:srgbClr val="fec524"/>
                </a:solidFill>
                <a:latin typeface="Arial"/>
              </a:rPr>
              <a:t>In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without a View Frustum cli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an be a hint to render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an improve geometry rates if not already fill-limite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16080" y="294840"/>
            <a:ext cx="83642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To write an efficient graphics application, one must: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nderstand the platform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se graphics efficientl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rite good cod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ec524"/>
                </a:solidFill>
                <a:latin typeface="Arial"/>
              </a:rPr>
              <a:t>Use efficient application structures and algorithm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Only half of any closed polyhedron is visible at any one time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Don’t render what you can’t see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title"/>
          </p:nvPr>
        </p:nvSpPr>
        <p:spPr>
          <a:xfrm>
            <a:off x="316080" y="294840"/>
            <a:ext cx="83642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lling: </a:t>
            </a:r>
            <a:br>
              <a:rPr sz="3700"/>
            </a:b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Backfac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bunny" descr=""/>
          <p:cNvPicPr/>
          <p:nvPr/>
        </p:nvPicPr>
        <p:blipFill>
          <a:blip r:embed="rId1"/>
          <a:stretch/>
        </p:blipFill>
        <p:spPr>
          <a:xfrm>
            <a:off x="3733920" y="2286000"/>
            <a:ext cx="3848040" cy="354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16080" y="294840"/>
            <a:ext cx="83642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lling: </a:t>
            </a:r>
            <a:br>
              <a:rPr sz="3700"/>
            </a:b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Backface Usefulnes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s fill rate when using a native implementa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imitives are transformed and lit before cul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elps both geometry and fill with an application specific algorithm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re computationally expensi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lance graphics and CPU 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annot be used when you enter closed geometry or need two-sided lighting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241280" y="2649600"/>
            <a:ext cx="7742520" cy="2674800"/>
          </a:xfrm>
          <a:prstGeom prst="rect">
            <a:avLst/>
          </a:prstGeom>
          <a:solidFill>
            <a:srgbClr val="863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If you can’t see it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don’t draw it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oc1" descr=""/>
          <p:cNvPicPr/>
          <p:nvPr/>
        </p:nvPicPr>
        <p:blipFill>
          <a:blip r:embed="rId1"/>
          <a:stretch/>
        </p:blipFill>
        <p:spPr>
          <a:xfrm>
            <a:off x="1312920" y="3033720"/>
            <a:ext cx="3316320" cy="15541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2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lling: </a:t>
            </a:r>
            <a:br>
              <a:rPr sz="3700"/>
            </a:b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cclu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occ2" descr=""/>
          <p:cNvPicPr/>
          <p:nvPr/>
        </p:nvPicPr>
        <p:blipFill>
          <a:blip r:embed="rId2"/>
          <a:stretch/>
        </p:blipFill>
        <p:spPr>
          <a:xfrm>
            <a:off x="5138640" y="3033720"/>
            <a:ext cx="3745080" cy="155412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1311120" y="2340000"/>
            <a:ext cx="1028880" cy="914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358720" y="4614840"/>
            <a:ext cx="893160" cy="4910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ro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70400" y="4614840"/>
            <a:ext cx="789480" cy="4910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16080" y="294840"/>
            <a:ext cx="83642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lling: </a:t>
            </a:r>
            <a:br>
              <a:rPr sz="3700"/>
            </a:b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cclusion Goal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Find the optimal set of occluders that will enable drawing the minimal number of occludees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ccluders: The geometry that is visib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ccludees: The geometry that is not visible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se general purpose occlusion culling algorithm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se application specific spatial knowledge if possib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16080" y="294840"/>
            <a:ext cx="83642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lling: </a:t>
            </a:r>
            <a:br>
              <a:rPr sz="3700"/>
            </a:b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cclusion Culling Usefulnes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an improve transform-limited, fill-limited, and bandwidth-limited  application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ationally expensiv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ware of time trade-off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ossible hardware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16080" y="294840"/>
            <a:ext cx="83642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lling: </a:t>
            </a:r>
            <a:br>
              <a:rPr sz="3700"/>
            </a:b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General Occlusion Cull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sed for arbitrary sce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an improve both transform limited and fill limited application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ationally expensive for arbitrary sce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16080" y="294840"/>
            <a:ext cx="83642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lling: </a:t>
            </a:r>
            <a:br>
              <a:rPr sz="3700"/>
            </a:b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cclusion Spatial Partition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Cell and Portal” Culling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patial organization leads to </a:t>
            </a:r>
            <a:r>
              <a:rPr b="0" i="1" lang="en-US" sz="2600" spc="-1" strike="noStrike">
                <a:solidFill>
                  <a:srgbClr val="ffffff"/>
                </a:solidFill>
                <a:latin typeface="Arial"/>
              </a:rPr>
              <a:t>Cells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i="1" lang="en-US" sz="2600" spc="-1" strike="noStrike">
                <a:solidFill>
                  <a:srgbClr val="ffffff"/>
                </a:solidFill>
                <a:latin typeface="Arial"/>
              </a:rPr>
              <a:t>Portal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Games that move from room to room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rchitectural walkthrough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walk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2819520" y="4267080"/>
            <a:ext cx="4387680" cy="181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219320" y="2895480"/>
            <a:ext cx="7727760" cy="243864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16080" y="294840"/>
            <a:ext cx="83642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lling: </a:t>
            </a:r>
            <a:br>
              <a:rPr sz="3700"/>
            </a:b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tribu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If it’s too small to make a difference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don’t render it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1676520" y="3733920"/>
            <a:ext cx="3390480" cy="785520"/>
            <a:chOff x="1676520" y="3733920"/>
            <a:chExt cx="3390480" cy="785520"/>
          </a:xfrm>
        </p:grpSpPr>
        <p:grpSp>
          <p:nvGrpSpPr>
            <p:cNvPr id="145" name=""/>
            <p:cNvGrpSpPr/>
            <p:nvPr/>
          </p:nvGrpSpPr>
          <p:grpSpPr>
            <a:xfrm>
              <a:off x="1676520" y="3733920"/>
              <a:ext cx="3390480" cy="707760"/>
              <a:chOff x="1676520" y="3733920"/>
              <a:chExt cx="3390480" cy="707760"/>
            </a:xfrm>
          </p:grpSpPr>
          <p:grpSp>
            <p:nvGrpSpPr>
              <p:cNvPr id="146" name=""/>
              <p:cNvGrpSpPr/>
              <p:nvPr/>
            </p:nvGrpSpPr>
            <p:grpSpPr>
              <a:xfrm>
                <a:off x="1854000" y="3733920"/>
                <a:ext cx="2325600" cy="276840"/>
                <a:chOff x="1854000" y="3733920"/>
                <a:chExt cx="2325600" cy="276840"/>
              </a:xfrm>
            </p:grpSpPr>
            <p:grpSp>
              <p:nvGrpSpPr>
                <p:cNvPr id="147" name=""/>
                <p:cNvGrpSpPr/>
                <p:nvPr/>
              </p:nvGrpSpPr>
              <p:grpSpPr>
                <a:xfrm>
                  <a:off x="2670480" y="3763440"/>
                  <a:ext cx="1242000" cy="243720"/>
                  <a:chOff x="2670480" y="3763440"/>
                  <a:chExt cx="1242000" cy="243720"/>
                </a:xfrm>
              </p:grpSpPr>
              <p:grpSp>
                <p:nvGrpSpPr>
                  <p:cNvPr id="148" name=""/>
                  <p:cNvGrpSpPr/>
                  <p:nvPr/>
                </p:nvGrpSpPr>
                <p:grpSpPr>
                  <a:xfrm>
                    <a:off x="2945520" y="3771720"/>
                    <a:ext cx="790920" cy="210240"/>
                    <a:chOff x="2945520" y="3771720"/>
                    <a:chExt cx="790920" cy="210240"/>
                  </a:xfrm>
                </p:grpSpPr>
                <p:sp>
                  <p:nvSpPr>
                    <p:cNvPr id="149" name=""/>
                    <p:cNvSpPr/>
                    <p:nvPr/>
                  </p:nvSpPr>
                  <p:spPr>
                    <a:xfrm>
                      <a:off x="2945520" y="3771720"/>
                      <a:ext cx="135360" cy="172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36" h="334">
                          <a:moveTo>
                            <a:pt x="5" y="4"/>
                          </a:moveTo>
                          <a:lnTo>
                            <a:pt x="0" y="0"/>
                          </a:lnTo>
                          <a:lnTo>
                            <a:pt x="155" y="334"/>
                          </a:lnTo>
                          <a:lnTo>
                            <a:pt x="236" y="334"/>
                          </a:lnTo>
                          <a:lnTo>
                            <a:pt x="65" y="0"/>
                          </a:lnTo>
                          <a:lnTo>
                            <a:pt x="5" y="4"/>
                          </a:lnTo>
                          <a:close/>
                        </a:path>
                      </a:pathLst>
                    </a:custGeom>
                    <a:solidFill>
                      <a:srgbClr val="80000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0" name=""/>
                    <p:cNvSpPr/>
                    <p:nvPr/>
                  </p:nvSpPr>
                  <p:spPr>
                    <a:xfrm>
                      <a:off x="3611520" y="3867120"/>
                      <a:ext cx="124920" cy="11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8" h="223">
                          <a:moveTo>
                            <a:pt x="58" y="25"/>
                          </a:moveTo>
                          <a:lnTo>
                            <a:pt x="64" y="21"/>
                          </a:lnTo>
                          <a:lnTo>
                            <a:pt x="218" y="223"/>
                          </a:lnTo>
                          <a:lnTo>
                            <a:pt x="143" y="211"/>
                          </a:lnTo>
                          <a:lnTo>
                            <a:pt x="0" y="0"/>
                          </a:lnTo>
                          <a:lnTo>
                            <a:pt x="58" y="25"/>
                          </a:lnTo>
                          <a:close/>
                        </a:path>
                      </a:pathLst>
                    </a:custGeom>
                    <a:solidFill>
                      <a:srgbClr val="80000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51" name=""/>
                  <p:cNvSpPr/>
                  <p:nvPr/>
                </p:nvSpPr>
                <p:spPr>
                  <a:xfrm>
                    <a:off x="2670480" y="3763440"/>
                    <a:ext cx="1242000" cy="24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7" h="475">
                        <a:moveTo>
                          <a:pt x="16" y="64"/>
                        </a:moveTo>
                        <a:lnTo>
                          <a:pt x="220" y="55"/>
                        </a:lnTo>
                        <a:lnTo>
                          <a:pt x="375" y="55"/>
                        </a:lnTo>
                        <a:lnTo>
                          <a:pt x="585" y="43"/>
                        </a:lnTo>
                        <a:lnTo>
                          <a:pt x="778" y="43"/>
                        </a:lnTo>
                        <a:lnTo>
                          <a:pt x="996" y="43"/>
                        </a:lnTo>
                        <a:lnTo>
                          <a:pt x="1190" y="49"/>
                        </a:lnTo>
                        <a:lnTo>
                          <a:pt x="1283" y="62"/>
                        </a:lnTo>
                        <a:lnTo>
                          <a:pt x="1362" y="80"/>
                        </a:lnTo>
                        <a:lnTo>
                          <a:pt x="1450" y="111"/>
                        </a:lnTo>
                        <a:lnTo>
                          <a:pt x="1534" y="146"/>
                        </a:lnTo>
                        <a:lnTo>
                          <a:pt x="1840" y="304"/>
                        </a:lnTo>
                        <a:lnTo>
                          <a:pt x="2003" y="378"/>
                        </a:lnTo>
                        <a:lnTo>
                          <a:pt x="2096" y="439"/>
                        </a:lnTo>
                        <a:lnTo>
                          <a:pt x="2011" y="437"/>
                        </a:lnTo>
                        <a:lnTo>
                          <a:pt x="0" y="283"/>
                        </a:lnTo>
                        <a:lnTo>
                          <a:pt x="3" y="330"/>
                        </a:lnTo>
                        <a:lnTo>
                          <a:pt x="2102" y="475"/>
                        </a:lnTo>
                        <a:lnTo>
                          <a:pt x="2167" y="463"/>
                        </a:lnTo>
                        <a:lnTo>
                          <a:pt x="2134" y="421"/>
                        </a:lnTo>
                        <a:lnTo>
                          <a:pt x="2076" y="378"/>
                        </a:lnTo>
                        <a:lnTo>
                          <a:pt x="1935" y="304"/>
                        </a:lnTo>
                        <a:lnTo>
                          <a:pt x="1825" y="245"/>
                        </a:lnTo>
                        <a:lnTo>
                          <a:pt x="1547" y="108"/>
                        </a:lnTo>
                        <a:lnTo>
                          <a:pt x="1421" y="59"/>
                        </a:lnTo>
                        <a:lnTo>
                          <a:pt x="1297" y="28"/>
                        </a:lnTo>
                        <a:lnTo>
                          <a:pt x="1019" y="0"/>
                        </a:lnTo>
                        <a:lnTo>
                          <a:pt x="638" y="0"/>
                        </a:lnTo>
                        <a:lnTo>
                          <a:pt x="16" y="33"/>
                        </a:lnTo>
                        <a:lnTo>
                          <a:pt x="16" y="64"/>
                        </a:lnTo>
                        <a:close/>
                      </a:path>
                    </a:pathLst>
                  </a:custGeom>
                  <a:solidFill>
                    <a:srgbClr val="800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52" name=""/>
                <p:cNvSpPr/>
                <p:nvPr/>
              </p:nvSpPr>
              <p:spPr>
                <a:xfrm>
                  <a:off x="1854000" y="3733920"/>
                  <a:ext cx="2325600" cy="276840"/>
                </a:xfrm>
                <a:custGeom>
                  <a:avLst/>
                  <a:gdLst/>
                  <a:ahLst/>
                  <a:rect l="l" t="t" r="r" b="b"/>
                  <a:pathLst>
                    <a:path w="4057" h="537">
                      <a:moveTo>
                        <a:pt x="0" y="359"/>
                      </a:moveTo>
                      <a:lnTo>
                        <a:pt x="156" y="337"/>
                      </a:lnTo>
                      <a:lnTo>
                        <a:pt x="276" y="310"/>
                      </a:lnTo>
                      <a:lnTo>
                        <a:pt x="357" y="286"/>
                      </a:lnTo>
                      <a:lnTo>
                        <a:pt x="423" y="268"/>
                      </a:lnTo>
                      <a:lnTo>
                        <a:pt x="510" y="246"/>
                      </a:lnTo>
                      <a:lnTo>
                        <a:pt x="583" y="224"/>
                      </a:lnTo>
                      <a:lnTo>
                        <a:pt x="667" y="203"/>
                      </a:lnTo>
                      <a:lnTo>
                        <a:pt x="742" y="187"/>
                      </a:lnTo>
                      <a:lnTo>
                        <a:pt x="827" y="174"/>
                      </a:lnTo>
                      <a:lnTo>
                        <a:pt x="896" y="162"/>
                      </a:lnTo>
                      <a:lnTo>
                        <a:pt x="955" y="152"/>
                      </a:lnTo>
                      <a:lnTo>
                        <a:pt x="1043" y="138"/>
                      </a:lnTo>
                      <a:lnTo>
                        <a:pt x="1118" y="126"/>
                      </a:lnTo>
                      <a:lnTo>
                        <a:pt x="1189" y="115"/>
                      </a:lnTo>
                      <a:lnTo>
                        <a:pt x="1263" y="95"/>
                      </a:lnTo>
                      <a:lnTo>
                        <a:pt x="1323" y="64"/>
                      </a:lnTo>
                      <a:lnTo>
                        <a:pt x="1367" y="30"/>
                      </a:lnTo>
                      <a:lnTo>
                        <a:pt x="1455" y="25"/>
                      </a:lnTo>
                      <a:lnTo>
                        <a:pt x="1582" y="23"/>
                      </a:lnTo>
                      <a:lnTo>
                        <a:pt x="1726" y="11"/>
                      </a:lnTo>
                      <a:lnTo>
                        <a:pt x="1838" y="5"/>
                      </a:lnTo>
                      <a:lnTo>
                        <a:pt x="2004" y="2"/>
                      </a:lnTo>
                      <a:lnTo>
                        <a:pt x="2164" y="1"/>
                      </a:lnTo>
                      <a:lnTo>
                        <a:pt x="2317" y="0"/>
                      </a:lnTo>
                      <a:lnTo>
                        <a:pt x="2434" y="0"/>
                      </a:lnTo>
                      <a:lnTo>
                        <a:pt x="2561" y="10"/>
                      </a:lnTo>
                      <a:lnTo>
                        <a:pt x="2691" y="30"/>
                      </a:lnTo>
                      <a:lnTo>
                        <a:pt x="2788" y="54"/>
                      </a:lnTo>
                      <a:lnTo>
                        <a:pt x="2874" y="77"/>
                      </a:lnTo>
                      <a:lnTo>
                        <a:pt x="2968" y="106"/>
                      </a:lnTo>
                      <a:lnTo>
                        <a:pt x="3070" y="138"/>
                      </a:lnTo>
                      <a:lnTo>
                        <a:pt x="3174" y="174"/>
                      </a:lnTo>
                      <a:lnTo>
                        <a:pt x="3285" y="211"/>
                      </a:lnTo>
                      <a:lnTo>
                        <a:pt x="3393" y="249"/>
                      </a:lnTo>
                      <a:lnTo>
                        <a:pt x="3507" y="285"/>
                      </a:lnTo>
                      <a:lnTo>
                        <a:pt x="3593" y="314"/>
                      </a:lnTo>
                      <a:lnTo>
                        <a:pt x="3672" y="335"/>
                      </a:lnTo>
                      <a:lnTo>
                        <a:pt x="3758" y="367"/>
                      </a:lnTo>
                      <a:lnTo>
                        <a:pt x="3848" y="395"/>
                      </a:lnTo>
                      <a:lnTo>
                        <a:pt x="3958" y="431"/>
                      </a:lnTo>
                      <a:lnTo>
                        <a:pt x="4057" y="468"/>
                      </a:lnTo>
                      <a:lnTo>
                        <a:pt x="4017" y="494"/>
                      </a:lnTo>
                      <a:lnTo>
                        <a:pt x="3958" y="510"/>
                      </a:lnTo>
                      <a:lnTo>
                        <a:pt x="3893" y="527"/>
                      </a:lnTo>
                      <a:lnTo>
                        <a:pt x="3812" y="536"/>
                      </a:lnTo>
                      <a:lnTo>
                        <a:pt x="3705" y="537"/>
                      </a:lnTo>
                      <a:lnTo>
                        <a:pt x="3598" y="534"/>
                      </a:lnTo>
                      <a:lnTo>
                        <a:pt x="3571" y="494"/>
                      </a:lnTo>
                      <a:lnTo>
                        <a:pt x="3545" y="468"/>
                      </a:lnTo>
                      <a:lnTo>
                        <a:pt x="3494" y="432"/>
                      </a:lnTo>
                      <a:lnTo>
                        <a:pt x="3385" y="373"/>
                      </a:lnTo>
                      <a:lnTo>
                        <a:pt x="3249" y="302"/>
                      </a:lnTo>
                      <a:lnTo>
                        <a:pt x="3128" y="242"/>
                      </a:lnTo>
                      <a:lnTo>
                        <a:pt x="2981" y="168"/>
                      </a:lnTo>
                      <a:lnTo>
                        <a:pt x="2858" y="121"/>
                      </a:lnTo>
                      <a:lnTo>
                        <a:pt x="2741" y="87"/>
                      </a:lnTo>
                      <a:lnTo>
                        <a:pt x="2646" y="75"/>
                      </a:lnTo>
                      <a:lnTo>
                        <a:pt x="2470" y="57"/>
                      </a:lnTo>
                      <a:lnTo>
                        <a:pt x="2241" y="56"/>
                      </a:lnTo>
                      <a:lnTo>
                        <a:pt x="1972" y="63"/>
                      </a:lnTo>
                      <a:lnTo>
                        <a:pt x="1768" y="70"/>
                      </a:lnTo>
                      <a:lnTo>
                        <a:pt x="1440" y="87"/>
                      </a:lnTo>
                      <a:lnTo>
                        <a:pt x="1421" y="408"/>
                      </a:lnTo>
                      <a:lnTo>
                        <a:pt x="0" y="359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3" name=""/>
              <p:cNvSpPr/>
              <p:nvPr/>
            </p:nvSpPr>
            <p:spPr>
              <a:xfrm>
                <a:off x="1919520" y="4005720"/>
                <a:ext cx="3145320" cy="435960"/>
              </a:xfrm>
              <a:custGeom>
                <a:avLst/>
                <a:gdLst/>
                <a:ahLst/>
                <a:rect l="l" t="t" r="r" b="b"/>
                <a:pathLst>
                  <a:path w="5487" h="850">
                    <a:moveTo>
                      <a:pt x="4630" y="403"/>
                    </a:moveTo>
                    <a:lnTo>
                      <a:pt x="4672" y="531"/>
                    </a:lnTo>
                    <a:lnTo>
                      <a:pt x="4672" y="629"/>
                    </a:lnTo>
                    <a:lnTo>
                      <a:pt x="5487" y="629"/>
                    </a:lnTo>
                    <a:lnTo>
                      <a:pt x="5430" y="695"/>
                    </a:lnTo>
                    <a:lnTo>
                      <a:pt x="5468" y="770"/>
                    </a:lnTo>
                    <a:lnTo>
                      <a:pt x="5468" y="805"/>
                    </a:lnTo>
                    <a:lnTo>
                      <a:pt x="5443" y="829"/>
                    </a:lnTo>
                    <a:lnTo>
                      <a:pt x="4975" y="829"/>
                    </a:lnTo>
                    <a:lnTo>
                      <a:pt x="4937" y="850"/>
                    </a:lnTo>
                    <a:lnTo>
                      <a:pt x="4698" y="850"/>
                    </a:lnTo>
                    <a:lnTo>
                      <a:pt x="4666" y="826"/>
                    </a:lnTo>
                    <a:lnTo>
                      <a:pt x="325" y="826"/>
                    </a:lnTo>
                    <a:lnTo>
                      <a:pt x="153" y="671"/>
                    </a:lnTo>
                    <a:lnTo>
                      <a:pt x="18" y="723"/>
                    </a:lnTo>
                    <a:lnTo>
                      <a:pt x="0" y="310"/>
                    </a:lnTo>
                    <a:lnTo>
                      <a:pt x="331" y="0"/>
                    </a:lnTo>
                    <a:lnTo>
                      <a:pt x="847" y="12"/>
                    </a:lnTo>
                    <a:lnTo>
                      <a:pt x="3538" y="695"/>
                    </a:lnTo>
                    <a:lnTo>
                      <a:pt x="3614" y="613"/>
                    </a:lnTo>
                    <a:lnTo>
                      <a:pt x="3681" y="401"/>
                    </a:lnTo>
                    <a:lnTo>
                      <a:pt x="3776" y="227"/>
                    </a:lnTo>
                    <a:lnTo>
                      <a:pt x="4058" y="87"/>
                    </a:lnTo>
                    <a:lnTo>
                      <a:pt x="4321" y="94"/>
                    </a:lnTo>
                    <a:lnTo>
                      <a:pt x="4517" y="196"/>
                    </a:lnTo>
                    <a:lnTo>
                      <a:pt x="4630" y="40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54" name=""/>
              <p:cNvGrpSpPr/>
              <p:nvPr/>
            </p:nvGrpSpPr>
            <p:grpSpPr>
              <a:xfrm>
                <a:off x="1676520" y="3823200"/>
                <a:ext cx="3390480" cy="554760"/>
                <a:chOff x="1676520" y="3823200"/>
                <a:chExt cx="3390480" cy="554760"/>
              </a:xfrm>
            </p:grpSpPr>
            <p:grpSp>
              <p:nvGrpSpPr>
                <p:cNvPr id="155" name=""/>
                <p:cNvGrpSpPr/>
                <p:nvPr/>
              </p:nvGrpSpPr>
              <p:grpSpPr>
                <a:xfrm>
                  <a:off x="1676520" y="4003200"/>
                  <a:ext cx="203760" cy="317880"/>
                  <a:chOff x="1676520" y="4003200"/>
                  <a:chExt cx="203760" cy="317880"/>
                </a:xfrm>
              </p:grpSpPr>
              <p:sp>
                <p:nvSpPr>
                  <p:cNvPr id="156" name=""/>
                  <p:cNvSpPr/>
                  <p:nvPr/>
                </p:nvSpPr>
                <p:spPr>
                  <a:xfrm>
                    <a:off x="1693440" y="4068720"/>
                    <a:ext cx="77760" cy="12240"/>
                  </a:xfrm>
                  <a:prstGeom prst="rect">
                    <a:avLst/>
                  </a:prstGeom>
                  <a:solidFill>
                    <a:srgbClr val="808080"/>
                  </a:solidFill>
                  <a:ln w="936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7" name=""/>
                  <p:cNvSpPr/>
                  <p:nvPr/>
                </p:nvSpPr>
                <p:spPr>
                  <a:xfrm>
                    <a:off x="1693440" y="4003200"/>
                    <a:ext cx="77760" cy="27720"/>
                  </a:xfrm>
                  <a:prstGeom prst="rect">
                    <a:avLst/>
                  </a:prstGeom>
                  <a:solidFill>
                    <a:srgbClr val="808080"/>
                  </a:solidFill>
                  <a:ln w="936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080" bIns="-190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8" name=""/>
                  <p:cNvSpPr/>
                  <p:nvPr/>
                </p:nvSpPr>
                <p:spPr>
                  <a:xfrm>
                    <a:off x="1693440" y="4044240"/>
                    <a:ext cx="77760" cy="11160"/>
                  </a:xfrm>
                  <a:prstGeom prst="rect">
                    <a:avLst/>
                  </a:prstGeom>
                  <a:solidFill>
                    <a:srgbClr val="808080"/>
                  </a:solidFill>
                  <a:ln w="936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9" name=""/>
                  <p:cNvSpPr/>
                  <p:nvPr/>
                </p:nvSpPr>
                <p:spPr>
                  <a:xfrm>
                    <a:off x="1693440" y="4028400"/>
                    <a:ext cx="150840" cy="1407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640" y="21599"/>
                        </a:moveTo>
                        <a:arcTo wR="10800" hR="10800" stAng="5450983" swAng="539632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640" y="21599"/>
                        </a:moveTo>
                        <a:arcTo wR="10800" hR="10800" stAng="5450983" swAng="5396328"/>
                      </a:path>
                    </a:pathLst>
                  </a:custGeom>
                  <a:solidFill>
                    <a:srgbClr val="808080"/>
                  </a:solidFill>
                  <a:ln w="936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60" name=""/>
                  <p:cNvGrpSpPr/>
                  <p:nvPr/>
                </p:nvGrpSpPr>
                <p:grpSpPr>
                  <a:xfrm>
                    <a:off x="1676520" y="4285080"/>
                    <a:ext cx="203760" cy="11160"/>
                    <a:chOff x="1676520" y="4285080"/>
                    <a:chExt cx="203760" cy="11160"/>
                  </a:xfrm>
                </p:grpSpPr>
                <p:sp>
                  <p:nvSpPr>
                    <p:cNvPr id="161" name=""/>
                    <p:cNvSpPr/>
                    <p:nvPr/>
                  </p:nvSpPr>
                  <p:spPr>
                    <a:xfrm>
                      <a:off x="1685520" y="4285080"/>
                      <a:ext cx="194760" cy="1116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936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2" name=""/>
                    <p:cNvSpPr/>
                    <p:nvPr/>
                  </p:nvSpPr>
                  <p:spPr>
                    <a:xfrm>
                      <a:off x="1676520" y="4285080"/>
                      <a:ext cx="22680" cy="1116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936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520" bIns="-38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63" name=""/>
                  <p:cNvGrpSpPr/>
                  <p:nvPr/>
                </p:nvGrpSpPr>
                <p:grpSpPr>
                  <a:xfrm>
                    <a:off x="1676520" y="4309920"/>
                    <a:ext cx="203760" cy="11160"/>
                    <a:chOff x="1676520" y="4309920"/>
                    <a:chExt cx="203760" cy="11160"/>
                  </a:xfrm>
                </p:grpSpPr>
                <p:sp>
                  <p:nvSpPr>
                    <p:cNvPr id="164" name=""/>
                    <p:cNvSpPr/>
                    <p:nvPr/>
                  </p:nvSpPr>
                  <p:spPr>
                    <a:xfrm>
                      <a:off x="1685520" y="4309920"/>
                      <a:ext cx="194760" cy="1116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936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5" name=""/>
                    <p:cNvSpPr/>
                    <p:nvPr/>
                  </p:nvSpPr>
                  <p:spPr>
                    <a:xfrm>
                      <a:off x="1676520" y="4309920"/>
                      <a:ext cx="22680" cy="1116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936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520" bIns="-38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66" name=""/>
                  <p:cNvGrpSpPr/>
                  <p:nvPr/>
                </p:nvGrpSpPr>
                <p:grpSpPr>
                  <a:xfrm>
                    <a:off x="1676520" y="4259520"/>
                    <a:ext cx="203760" cy="11160"/>
                    <a:chOff x="1676520" y="4259520"/>
                    <a:chExt cx="203760" cy="11160"/>
                  </a:xfrm>
                </p:grpSpPr>
                <p:sp>
                  <p:nvSpPr>
                    <p:cNvPr id="167" name=""/>
                    <p:cNvSpPr/>
                    <p:nvPr/>
                  </p:nvSpPr>
                  <p:spPr>
                    <a:xfrm>
                      <a:off x="1685520" y="4259520"/>
                      <a:ext cx="194760" cy="1116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936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8" name=""/>
                    <p:cNvSpPr/>
                    <p:nvPr/>
                  </p:nvSpPr>
                  <p:spPr>
                    <a:xfrm>
                      <a:off x="1676520" y="4259520"/>
                      <a:ext cx="22680" cy="1116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936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520" bIns="-38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169" name=""/>
                <p:cNvSpPr/>
                <p:nvPr/>
              </p:nvSpPr>
              <p:spPr>
                <a:xfrm>
                  <a:off x="1693440" y="3917880"/>
                  <a:ext cx="3373560" cy="460080"/>
                </a:xfrm>
                <a:custGeom>
                  <a:avLst/>
                  <a:gdLst/>
                  <a:ahLst/>
                  <a:rect l="l" t="t" r="r" b="b"/>
                  <a:pathLst>
                    <a:path w="5884" h="896">
                      <a:moveTo>
                        <a:pt x="294" y="0"/>
                      </a:moveTo>
                      <a:lnTo>
                        <a:pt x="34" y="0"/>
                      </a:lnTo>
                      <a:lnTo>
                        <a:pt x="0" y="139"/>
                      </a:lnTo>
                      <a:lnTo>
                        <a:pt x="115" y="139"/>
                      </a:lnTo>
                      <a:lnTo>
                        <a:pt x="115" y="639"/>
                      </a:lnTo>
                      <a:lnTo>
                        <a:pt x="341" y="865"/>
                      </a:lnTo>
                      <a:lnTo>
                        <a:pt x="392" y="888"/>
                      </a:lnTo>
                      <a:lnTo>
                        <a:pt x="435" y="896"/>
                      </a:lnTo>
                      <a:lnTo>
                        <a:pt x="428" y="782"/>
                      </a:lnTo>
                      <a:lnTo>
                        <a:pt x="422" y="646"/>
                      </a:lnTo>
                      <a:lnTo>
                        <a:pt x="452" y="531"/>
                      </a:lnTo>
                      <a:lnTo>
                        <a:pt x="494" y="446"/>
                      </a:lnTo>
                      <a:lnTo>
                        <a:pt x="549" y="371"/>
                      </a:lnTo>
                      <a:lnTo>
                        <a:pt x="628" y="297"/>
                      </a:lnTo>
                      <a:lnTo>
                        <a:pt x="721" y="242"/>
                      </a:lnTo>
                      <a:lnTo>
                        <a:pt x="851" y="208"/>
                      </a:lnTo>
                      <a:lnTo>
                        <a:pt x="1021" y="195"/>
                      </a:lnTo>
                      <a:lnTo>
                        <a:pt x="1139" y="225"/>
                      </a:lnTo>
                      <a:lnTo>
                        <a:pt x="1226" y="273"/>
                      </a:lnTo>
                      <a:lnTo>
                        <a:pt x="1298" y="327"/>
                      </a:lnTo>
                      <a:lnTo>
                        <a:pt x="1384" y="412"/>
                      </a:lnTo>
                      <a:lnTo>
                        <a:pt x="1439" y="506"/>
                      </a:lnTo>
                      <a:lnTo>
                        <a:pt x="1475" y="590"/>
                      </a:lnTo>
                      <a:lnTo>
                        <a:pt x="1487" y="671"/>
                      </a:lnTo>
                      <a:lnTo>
                        <a:pt x="1487" y="846"/>
                      </a:lnTo>
                      <a:lnTo>
                        <a:pt x="4058" y="896"/>
                      </a:lnTo>
                      <a:lnTo>
                        <a:pt x="4058" y="725"/>
                      </a:lnTo>
                      <a:lnTo>
                        <a:pt x="4094" y="609"/>
                      </a:lnTo>
                      <a:lnTo>
                        <a:pt x="4136" y="518"/>
                      </a:lnTo>
                      <a:lnTo>
                        <a:pt x="4199" y="433"/>
                      </a:lnTo>
                      <a:lnTo>
                        <a:pt x="4290" y="358"/>
                      </a:lnTo>
                      <a:lnTo>
                        <a:pt x="4382" y="309"/>
                      </a:lnTo>
                      <a:lnTo>
                        <a:pt x="4473" y="280"/>
                      </a:lnTo>
                      <a:lnTo>
                        <a:pt x="4633" y="280"/>
                      </a:lnTo>
                      <a:lnTo>
                        <a:pt x="4718" y="297"/>
                      </a:lnTo>
                      <a:lnTo>
                        <a:pt x="4805" y="335"/>
                      </a:lnTo>
                      <a:lnTo>
                        <a:pt x="4883" y="401"/>
                      </a:lnTo>
                      <a:lnTo>
                        <a:pt x="4958" y="487"/>
                      </a:lnTo>
                      <a:lnTo>
                        <a:pt x="5007" y="590"/>
                      </a:lnTo>
                      <a:lnTo>
                        <a:pt x="5037" y="701"/>
                      </a:lnTo>
                      <a:lnTo>
                        <a:pt x="5037" y="816"/>
                      </a:lnTo>
                      <a:lnTo>
                        <a:pt x="5884" y="813"/>
                      </a:lnTo>
                      <a:lnTo>
                        <a:pt x="5884" y="776"/>
                      </a:lnTo>
                      <a:lnTo>
                        <a:pt x="5857" y="776"/>
                      </a:lnTo>
                      <a:lnTo>
                        <a:pt x="5857" y="721"/>
                      </a:lnTo>
                      <a:lnTo>
                        <a:pt x="5883" y="718"/>
                      </a:lnTo>
                      <a:lnTo>
                        <a:pt x="5883" y="552"/>
                      </a:lnTo>
                      <a:lnTo>
                        <a:pt x="5860" y="518"/>
                      </a:lnTo>
                      <a:lnTo>
                        <a:pt x="5663" y="420"/>
                      </a:lnTo>
                      <a:lnTo>
                        <a:pt x="5447" y="335"/>
                      </a:lnTo>
                      <a:lnTo>
                        <a:pt x="5186" y="255"/>
                      </a:lnTo>
                      <a:lnTo>
                        <a:pt x="4903" y="188"/>
                      </a:lnTo>
                      <a:lnTo>
                        <a:pt x="4643" y="133"/>
                      </a:lnTo>
                      <a:lnTo>
                        <a:pt x="4395" y="90"/>
                      </a:lnTo>
                      <a:lnTo>
                        <a:pt x="4310" y="90"/>
                      </a:lnTo>
                      <a:lnTo>
                        <a:pt x="4254" y="114"/>
                      </a:lnTo>
                      <a:lnTo>
                        <a:pt x="3990" y="152"/>
                      </a:lnTo>
                      <a:lnTo>
                        <a:pt x="3781" y="170"/>
                      </a:lnTo>
                      <a:lnTo>
                        <a:pt x="2683" y="101"/>
                      </a:lnTo>
                      <a:lnTo>
                        <a:pt x="2156" y="59"/>
                      </a:lnTo>
                      <a:lnTo>
                        <a:pt x="1660" y="22"/>
                      </a:lnTo>
                      <a:lnTo>
                        <a:pt x="1409" y="4"/>
                      </a:lnTo>
                      <a:lnTo>
                        <a:pt x="294" y="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3049920" y="3954960"/>
                  <a:ext cx="680040" cy="414720"/>
                </a:xfrm>
                <a:custGeom>
                  <a:avLst/>
                  <a:gdLst/>
                  <a:ahLst/>
                  <a:rect l="l" t="t" r="r" b="b"/>
                  <a:pathLst>
                    <a:path w="1188" h="806">
                      <a:moveTo>
                        <a:pt x="0" y="0"/>
                      </a:moveTo>
                      <a:lnTo>
                        <a:pt x="0" y="787"/>
                      </a:lnTo>
                      <a:lnTo>
                        <a:pt x="1188" y="806"/>
                      </a:lnTo>
                      <a:lnTo>
                        <a:pt x="1188" y="85"/>
                      </a:lnTo>
                      <a:lnTo>
                        <a:pt x="1030" y="69"/>
                      </a:lnTo>
                      <a:lnTo>
                        <a:pt x="814" y="54"/>
                      </a:lnTo>
                      <a:lnTo>
                        <a:pt x="596" y="44"/>
                      </a:lnTo>
                      <a:lnTo>
                        <a:pt x="455" y="31"/>
                      </a:lnTo>
                      <a:lnTo>
                        <a:pt x="316" y="23"/>
                      </a:lnTo>
                      <a:lnTo>
                        <a:pt x="129" y="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71" name=""/>
                <p:cNvGrpSpPr/>
                <p:nvPr/>
              </p:nvGrpSpPr>
              <p:grpSpPr>
                <a:xfrm>
                  <a:off x="2500560" y="3823200"/>
                  <a:ext cx="1143000" cy="470880"/>
                  <a:chOff x="2500560" y="3823200"/>
                  <a:chExt cx="1143000" cy="470880"/>
                </a:xfrm>
              </p:grpSpPr>
              <p:sp>
                <p:nvSpPr>
                  <p:cNvPr id="172" name=""/>
                  <p:cNvSpPr/>
                  <p:nvPr/>
                </p:nvSpPr>
                <p:spPr>
                  <a:xfrm>
                    <a:off x="2500560" y="3823200"/>
                    <a:ext cx="130680" cy="64800"/>
                  </a:xfrm>
                  <a:prstGeom prst="ellipse">
                    <a:avLst/>
                  </a:prstGeom>
                  <a:solidFill>
                    <a:srgbClr val="800000"/>
                  </a:solidFill>
                  <a:ln w="936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" bIns="-7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3" name=""/>
                  <p:cNvSpPr/>
                  <p:nvPr/>
                </p:nvSpPr>
                <p:spPr>
                  <a:xfrm>
                    <a:off x="2524680" y="3845520"/>
                    <a:ext cx="18000" cy="165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74" name=""/>
                  <p:cNvGrpSpPr/>
                  <p:nvPr/>
                </p:nvGrpSpPr>
                <p:grpSpPr>
                  <a:xfrm>
                    <a:off x="2922480" y="4011480"/>
                    <a:ext cx="721080" cy="282600"/>
                    <a:chOff x="2922480" y="4011480"/>
                    <a:chExt cx="721080" cy="282600"/>
                  </a:xfrm>
                </p:grpSpPr>
                <p:sp>
                  <p:nvSpPr>
                    <p:cNvPr id="175" name=""/>
                    <p:cNvSpPr/>
                    <p:nvPr/>
                  </p:nvSpPr>
                  <p:spPr>
                    <a:xfrm>
                      <a:off x="2922480" y="4203720"/>
                      <a:ext cx="721080" cy="90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56" h="176">
                          <a:moveTo>
                            <a:pt x="0" y="98"/>
                          </a:moveTo>
                          <a:lnTo>
                            <a:pt x="0" y="176"/>
                          </a:lnTo>
                          <a:lnTo>
                            <a:pt x="1256" y="0"/>
                          </a:lnTo>
                          <a:lnTo>
                            <a:pt x="0" y="98"/>
                          </a:lnTo>
                          <a:close/>
                        </a:path>
                      </a:pathLst>
                    </a:custGeom>
                    <a:solidFill>
                      <a:srgbClr val="800000"/>
                    </a:solidFill>
                    <a:ln w="936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3560" bIns="43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6" name=""/>
                    <p:cNvSpPr/>
                    <p:nvPr/>
                  </p:nvSpPr>
                  <p:spPr>
                    <a:xfrm>
                      <a:off x="2922480" y="4011480"/>
                      <a:ext cx="712800" cy="106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43" h="208">
                          <a:moveTo>
                            <a:pt x="0" y="0"/>
                          </a:moveTo>
                          <a:lnTo>
                            <a:pt x="0" y="81"/>
                          </a:lnTo>
                          <a:lnTo>
                            <a:pt x="1243" y="208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800000"/>
                    </a:solidFill>
                    <a:ln w="936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7" name=""/>
                    <p:cNvSpPr/>
                    <p:nvPr/>
                  </p:nvSpPr>
                  <p:spPr>
                    <a:xfrm>
                      <a:off x="2922480" y="4074120"/>
                      <a:ext cx="712800" cy="66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43" h="128">
                          <a:moveTo>
                            <a:pt x="0" y="0"/>
                          </a:moveTo>
                          <a:lnTo>
                            <a:pt x="0" y="79"/>
                          </a:lnTo>
                          <a:lnTo>
                            <a:pt x="1243" y="128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800000"/>
                    </a:solidFill>
                    <a:ln w="936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0160" bIns="20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8" name=""/>
                    <p:cNvSpPr/>
                    <p:nvPr/>
                  </p:nvSpPr>
                  <p:spPr>
                    <a:xfrm>
                      <a:off x="2922480" y="4134600"/>
                      <a:ext cx="721080" cy="39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56" h="79">
                          <a:moveTo>
                            <a:pt x="0" y="0"/>
                          </a:moveTo>
                          <a:lnTo>
                            <a:pt x="0" y="79"/>
                          </a:lnTo>
                          <a:lnTo>
                            <a:pt x="1256" y="47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800000"/>
                    </a:solidFill>
                    <a:ln w="936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6840" bIns="-6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9" name=""/>
                    <p:cNvSpPr/>
                    <p:nvPr/>
                  </p:nvSpPr>
                  <p:spPr>
                    <a:xfrm>
                      <a:off x="2922480" y="4181040"/>
                      <a:ext cx="721080" cy="53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56" h="104">
                          <a:moveTo>
                            <a:pt x="0" y="25"/>
                          </a:moveTo>
                          <a:lnTo>
                            <a:pt x="0" y="104"/>
                          </a:lnTo>
                          <a:lnTo>
                            <a:pt x="1256" y="0"/>
                          </a:lnTo>
                          <a:lnTo>
                            <a:pt x="0" y="25"/>
                          </a:lnTo>
                          <a:close/>
                        </a:path>
                      </a:pathLst>
                    </a:custGeom>
                    <a:solidFill>
                      <a:srgbClr val="800000"/>
                    </a:solidFill>
                    <a:ln w="936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6480" bIns="6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grpSp>
          <p:nvGrpSpPr>
            <p:cNvPr id="180" name=""/>
            <p:cNvGrpSpPr/>
            <p:nvPr/>
          </p:nvGrpSpPr>
          <p:grpSpPr>
            <a:xfrm>
              <a:off x="1969920" y="4036680"/>
              <a:ext cx="2599560" cy="482760"/>
              <a:chOff x="1969920" y="4036680"/>
              <a:chExt cx="2599560" cy="48276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4037400" y="4036680"/>
                <a:ext cx="532080" cy="482760"/>
                <a:chOff x="4037400" y="4036680"/>
                <a:chExt cx="532080" cy="482760"/>
              </a:xfrm>
            </p:grpSpPr>
            <p:sp>
              <p:nvSpPr>
                <p:cNvPr id="182" name=""/>
                <p:cNvSpPr/>
                <p:nvPr/>
              </p:nvSpPr>
              <p:spPr>
                <a:xfrm>
                  <a:off x="4037400" y="4036680"/>
                  <a:ext cx="532080" cy="4827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4260960" y="4350600"/>
                  <a:ext cx="92520" cy="102960"/>
                </a:xfrm>
                <a:custGeom>
                  <a:avLst/>
                  <a:gdLst/>
                  <a:ahLst/>
                  <a:rect l="l" t="t" r="r" b="b"/>
                  <a:pathLst>
                    <a:path w="163" h="200">
                      <a:moveTo>
                        <a:pt x="0" y="186"/>
                      </a:moveTo>
                      <a:lnTo>
                        <a:pt x="64" y="0"/>
                      </a:lnTo>
                      <a:lnTo>
                        <a:pt x="103" y="0"/>
                      </a:lnTo>
                      <a:lnTo>
                        <a:pt x="163" y="193"/>
                      </a:lnTo>
                      <a:lnTo>
                        <a:pt x="84" y="200"/>
                      </a:lnTo>
                      <a:lnTo>
                        <a:pt x="0" y="186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4255200" y="4101480"/>
                  <a:ext cx="95040" cy="102960"/>
                </a:xfrm>
                <a:custGeom>
                  <a:avLst/>
                  <a:gdLst/>
                  <a:ahLst/>
                  <a:rect l="l" t="t" r="r" b="b"/>
                  <a:pathLst>
                    <a:path w="166" h="201">
                      <a:moveTo>
                        <a:pt x="0" y="15"/>
                      </a:moveTo>
                      <a:lnTo>
                        <a:pt x="66" y="201"/>
                      </a:lnTo>
                      <a:lnTo>
                        <a:pt x="104" y="201"/>
                      </a:lnTo>
                      <a:lnTo>
                        <a:pt x="166" y="9"/>
                      </a:lnTo>
                      <a:lnTo>
                        <a:pt x="85" y="0"/>
                      </a:lnTo>
                      <a:lnTo>
                        <a:pt x="0" y="15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4382640" y="4233240"/>
                  <a:ext cx="114480" cy="83160"/>
                </a:xfrm>
                <a:custGeom>
                  <a:avLst/>
                  <a:gdLst/>
                  <a:ahLst/>
                  <a:rect l="l" t="t" r="r" b="b"/>
                  <a:pathLst>
                    <a:path w="199" h="163">
                      <a:moveTo>
                        <a:pt x="185" y="0"/>
                      </a:moveTo>
                      <a:lnTo>
                        <a:pt x="0" y="65"/>
                      </a:lnTo>
                      <a:lnTo>
                        <a:pt x="0" y="104"/>
                      </a:lnTo>
                      <a:lnTo>
                        <a:pt x="190" y="163"/>
                      </a:lnTo>
                      <a:lnTo>
                        <a:pt x="199" y="85"/>
                      </a:lnTo>
                      <a:lnTo>
                        <a:pt x="185" y="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4109400" y="4233240"/>
                  <a:ext cx="114480" cy="83160"/>
                </a:xfrm>
                <a:custGeom>
                  <a:avLst/>
                  <a:gdLst/>
                  <a:ahLst/>
                  <a:rect l="l" t="t" r="r" b="b"/>
                  <a:pathLst>
                    <a:path w="199" h="163">
                      <a:moveTo>
                        <a:pt x="14" y="0"/>
                      </a:moveTo>
                      <a:lnTo>
                        <a:pt x="199" y="65"/>
                      </a:lnTo>
                      <a:lnTo>
                        <a:pt x="199" y="104"/>
                      </a:lnTo>
                      <a:lnTo>
                        <a:pt x="7" y="163"/>
                      </a:lnTo>
                      <a:lnTo>
                        <a:pt x="0" y="85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4109400" y="4099320"/>
                  <a:ext cx="384120" cy="349920"/>
                </a:xfrm>
                <a:prstGeom prst="ellipse">
                  <a:avLst/>
                </a:prstGeom>
                <a:noFill/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88" name=""/>
                <p:cNvGrpSpPr/>
                <p:nvPr/>
              </p:nvGrpSpPr>
              <p:grpSpPr>
                <a:xfrm>
                  <a:off x="4230000" y="4208400"/>
                  <a:ext cx="144360" cy="132840"/>
                  <a:chOff x="4230000" y="4208400"/>
                  <a:chExt cx="144360" cy="132840"/>
                </a:xfrm>
              </p:grpSpPr>
              <p:sp>
                <p:nvSpPr>
                  <p:cNvPr id="189" name=""/>
                  <p:cNvSpPr/>
                  <p:nvPr/>
                </p:nvSpPr>
                <p:spPr>
                  <a:xfrm>
                    <a:off x="4230000" y="4208400"/>
                    <a:ext cx="144360" cy="1328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0" name=""/>
                  <p:cNvSpPr/>
                  <p:nvPr/>
                </p:nvSpPr>
                <p:spPr>
                  <a:xfrm>
                    <a:off x="4259520" y="4236120"/>
                    <a:ext cx="82080" cy="770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920" bIns="79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91" name=""/>
              <p:cNvGrpSpPr/>
              <p:nvPr/>
            </p:nvGrpSpPr>
            <p:grpSpPr>
              <a:xfrm>
                <a:off x="1969920" y="4036680"/>
                <a:ext cx="532800" cy="482760"/>
                <a:chOff x="1969920" y="4036680"/>
                <a:chExt cx="532800" cy="482760"/>
              </a:xfrm>
            </p:grpSpPr>
            <p:sp>
              <p:nvSpPr>
                <p:cNvPr id="192" name=""/>
                <p:cNvSpPr/>
                <p:nvPr/>
              </p:nvSpPr>
              <p:spPr>
                <a:xfrm>
                  <a:off x="1969920" y="4036680"/>
                  <a:ext cx="532800" cy="4827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2194200" y="4350600"/>
                  <a:ext cx="92520" cy="102960"/>
                </a:xfrm>
                <a:custGeom>
                  <a:avLst/>
                  <a:gdLst/>
                  <a:ahLst/>
                  <a:rect l="l" t="t" r="r" b="b"/>
                  <a:pathLst>
                    <a:path w="161" h="200">
                      <a:moveTo>
                        <a:pt x="0" y="186"/>
                      </a:moveTo>
                      <a:lnTo>
                        <a:pt x="62" y="0"/>
                      </a:lnTo>
                      <a:lnTo>
                        <a:pt x="101" y="0"/>
                      </a:lnTo>
                      <a:lnTo>
                        <a:pt x="161" y="193"/>
                      </a:lnTo>
                      <a:lnTo>
                        <a:pt x="83" y="200"/>
                      </a:lnTo>
                      <a:lnTo>
                        <a:pt x="0" y="186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2188440" y="4101480"/>
                  <a:ext cx="95040" cy="102960"/>
                </a:xfrm>
                <a:custGeom>
                  <a:avLst/>
                  <a:gdLst/>
                  <a:ahLst/>
                  <a:rect l="l" t="t" r="r" b="b"/>
                  <a:pathLst>
                    <a:path w="167" h="201">
                      <a:moveTo>
                        <a:pt x="0" y="15"/>
                      </a:moveTo>
                      <a:lnTo>
                        <a:pt x="66" y="201"/>
                      </a:lnTo>
                      <a:lnTo>
                        <a:pt x="106" y="201"/>
                      </a:lnTo>
                      <a:lnTo>
                        <a:pt x="167" y="9"/>
                      </a:lnTo>
                      <a:lnTo>
                        <a:pt x="86" y="0"/>
                      </a:lnTo>
                      <a:lnTo>
                        <a:pt x="0" y="15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2315880" y="4233240"/>
                  <a:ext cx="114480" cy="83160"/>
                </a:xfrm>
                <a:custGeom>
                  <a:avLst/>
                  <a:gdLst/>
                  <a:ahLst/>
                  <a:rect l="l" t="t" r="r" b="b"/>
                  <a:pathLst>
                    <a:path w="200" h="163">
                      <a:moveTo>
                        <a:pt x="186" y="0"/>
                      </a:moveTo>
                      <a:lnTo>
                        <a:pt x="0" y="65"/>
                      </a:lnTo>
                      <a:lnTo>
                        <a:pt x="0" y="104"/>
                      </a:lnTo>
                      <a:lnTo>
                        <a:pt x="192" y="163"/>
                      </a:lnTo>
                      <a:lnTo>
                        <a:pt x="200" y="85"/>
                      </a:lnTo>
                      <a:lnTo>
                        <a:pt x="186" y="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2041920" y="4233240"/>
                  <a:ext cx="114480" cy="83160"/>
                </a:xfrm>
                <a:custGeom>
                  <a:avLst/>
                  <a:gdLst/>
                  <a:ahLst/>
                  <a:rect l="l" t="t" r="r" b="b"/>
                  <a:pathLst>
                    <a:path w="201" h="163">
                      <a:moveTo>
                        <a:pt x="15" y="0"/>
                      </a:moveTo>
                      <a:lnTo>
                        <a:pt x="201" y="65"/>
                      </a:lnTo>
                      <a:lnTo>
                        <a:pt x="201" y="104"/>
                      </a:lnTo>
                      <a:lnTo>
                        <a:pt x="9" y="163"/>
                      </a:lnTo>
                      <a:lnTo>
                        <a:pt x="0" y="85"/>
                      </a:lnTo>
                      <a:lnTo>
                        <a:pt x="15" y="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2041920" y="4099320"/>
                  <a:ext cx="384120" cy="349920"/>
                </a:xfrm>
                <a:prstGeom prst="ellipse">
                  <a:avLst/>
                </a:prstGeom>
                <a:noFill/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98" name=""/>
                <p:cNvGrpSpPr/>
                <p:nvPr/>
              </p:nvGrpSpPr>
              <p:grpSpPr>
                <a:xfrm>
                  <a:off x="2162160" y="4208400"/>
                  <a:ext cx="145440" cy="132840"/>
                  <a:chOff x="2162160" y="4208400"/>
                  <a:chExt cx="145440" cy="132840"/>
                </a:xfrm>
              </p:grpSpPr>
              <p:sp>
                <p:nvSpPr>
                  <p:cNvPr id="199" name=""/>
                  <p:cNvSpPr/>
                  <p:nvPr/>
                </p:nvSpPr>
                <p:spPr>
                  <a:xfrm>
                    <a:off x="2162160" y="4208400"/>
                    <a:ext cx="145440" cy="1328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0" name=""/>
                  <p:cNvSpPr/>
                  <p:nvPr/>
                </p:nvSpPr>
                <p:spPr>
                  <a:xfrm>
                    <a:off x="2192760" y="4236120"/>
                    <a:ext cx="81360" cy="770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920" bIns="79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grpSp>
        <p:nvGrpSpPr>
          <p:cNvPr id="201" name=""/>
          <p:cNvGrpSpPr/>
          <p:nvPr/>
        </p:nvGrpSpPr>
        <p:grpSpPr>
          <a:xfrm>
            <a:off x="6934320" y="3429000"/>
            <a:ext cx="1798920" cy="1618200"/>
            <a:chOff x="6934320" y="3429000"/>
            <a:chExt cx="1798920" cy="1618200"/>
          </a:xfrm>
        </p:grpSpPr>
        <p:grpSp>
          <p:nvGrpSpPr>
            <p:cNvPr id="202" name=""/>
            <p:cNvGrpSpPr/>
            <p:nvPr/>
          </p:nvGrpSpPr>
          <p:grpSpPr>
            <a:xfrm>
              <a:off x="6934320" y="3429000"/>
              <a:ext cx="1798920" cy="1618200"/>
              <a:chOff x="6934320" y="3429000"/>
              <a:chExt cx="1798920" cy="1618200"/>
            </a:xfrm>
          </p:grpSpPr>
          <p:sp>
            <p:nvSpPr>
              <p:cNvPr id="203" name=""/>
              <p:cNvSpPr/>
              <p:nvPr/>
            </p:nvSpPr>
            <p:spPr>
              <a:xfrm>
                <a:off x="6934320" y="3429000"/>
                <a:ext cx="1798920" cy="16182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7692480" y="4481640"/>
                <a:ext cx="313200" cy="344880"/>
              </a:xfrm>
              <a:custGeom>
                <a:avLst/>
                <a:gdLst/>
                <a:ahLst/>
                <a:rect l="l" t="t" r="r" b="b"/>
                <a:pathLst>
                  <a:path w="161" h="200">
                    <a:moveTo>
                      <a:pt x="0" y="186"/>
                    </a:moveTo>
                    <a:lnTo>
                      <a:pt x="62" y="0"/>
                    </a:lnTo>
                    <a:lnTo>
                      <a:pt x="101" y="0"/>
                    </a:lnTo>
                    <a:lnTo>
                      <a:pt x="161" y="193"/>
                    </a:lnTo>
                    <a:lnTo>
                      <a:pt x="83" y="200"/>
                    </a:lnTo>
                    <a:lnTo>
                      <a:pt x="0" y="186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673040" y="3646440"/>
                <a:ext cx="321120" cy="344880"/>
              </a:xfrm>
              <a:custGeom>
                <a:avLst/>
                <a:gdLst/>
                <a:ahLst/>
                <a:rect l="l" t="t" r="r" b="b"/>
                <a:pathLst>
                  <a:path w="167" h="201">
                    <a:moveTo>
                      <a:pt x="0" y="15"/>
                    </a:moveTo>
                    <a:lnTo>
                      <a:pt x="66" y="201"/>
                    </a:lnTo>
                    <a:lnTo>
                      <a:pt x="106" y="201"/>
                    </a:lnTo>
                    <a:lnTo>
                      <a:pt x="167" y="9"/>
                    </a:lnTo>
                    <a:lnTo>
                      <a:pt x="86" y="0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8102160" y="4087800"/>
                <a:ext cx="387000" cy="279360"/>
              </a:xfrm>
              <a:custGeom>
                <a:avLst/>
                <a:gdLst/>
                <a:ahLst/>
                <a:rect l="l" t="t" r="r" b="b"/>
                <a:pathLst>
                  <a:path w="200" h="163">
                    <a:moveTo>
                      <a:pt x="186" y="0"/>
                    </a:moveTo>
                    <a:lnTo>
                      <a:pt x="0" y="65"/>
                    </a:lnTo>
                    <a:lnTo>
                      <a:pt x="0" y="104"/>
                    </a:lnTo>
                    <a:lnTo>
                      <a:pt x="192" y="163"/>
                    </a:lnTo>
                    <a:lnTo>
                      <a:pt x="200" y="85"/>
                    </a:lnTo>
                    <a:lnTo>
                      <a:pt x="186" y="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7177320" y="4087800"/>
                <a:ext cx="387000" cy="279360"/>
              </a:xfrm>
              <a:custGeom>
                <a:avLst/>
                <a:gdLst/>
                <a:ahLst/>
                <a:rect l="l" t="t" r="r" b="b"/>
                <a:pathLst>
                  <a:path w="201" h="163">
                    <a:moveTo>
                      <a:pt x="15" y="0"/>
                    </a:moveTo>
                    <a:lnTo>
                      <a:pt x="201" y="65"/>
                    </a:lnTo>
                    <a:lnTo>
                      <a:pt x="201" y="104"/>
                    </a:lnTo>
                    <a:lnTo>
                      <a:pt x="9" y="163"/>
                    </a:lnTo>
                    <a:lnTo>
                      <a:pt x="0" y="85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7177320" y="3639240"/>
                <a:ext cx="1297080" cy="1172880"/>
              </a:xfrm>
              <a:prstGeom prst="ellips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09" name=""/>
              <p:cNvGrpSpPr/>
              <p:nvPr/>
            </p:nvGrpSpPr>
            <p:grpSpPr>
              <a:xfrm>
                <a:off x="7583400" y="4005000"/>
                <a:ext cx="490680" cy="444600"/>
                <a:chOff x="7583400" y="4005000"/>
                <a:chExt cx="490680" cy="444600"/>
              </a:xfrm>
            </p:grpSpPr>
            <p:sp>
              <p:nvSpPr>
                <p:cNvPr id="210" name=""/>
                <p:cNvSpPr/>
                <p:nvPr/>
              </p:nvSpPr>
              <p:spPr>
                <a:xfrm>
                  <a:off x="7583400" y="4005000"/>
                  <a:ext cx="490680" cy="444600"/>
                </a:xfrm>
                <a:prstGeom prst="ellipse">
                  <a:avLst/>
                </a:prstGeom>
                <a:solidFill>
                  <a:srgbClr val="000000"/>
                </a:solidFill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7687440" y="4097880"/>
                  <a:ext cx="275040" cy="258480"/>
                </a:xfrm>
                <a:prstGeom prst="ellipse">
                  <a:avLst/>
                </a:prstGeom>
                <a:solidFill>
                  <a:srgbClr val="000000"/>
                </a:solidFill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12" name=""/>
            <p:cNvSpPr/>
            <p:nvPr/>
          </p:nvSpPr>
          <p:spPr>
            <a:xfrm>
              <a:off x="7785720" y="3996360"/>
              <a:ext cx="113040" cy="100800"/>
            </a:xfrm>
            <a:prstGeom prst="hexagon">
              <a:avLst>
                <a:gd name="adj" fmla="val 28036"/>
                <a:gd name="vf" fmla="val 115470"/>
              </a:avLst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19080" bIns="19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783200" y="4358520"/>
              <a:ext cx="113400" cy="101160"/>
            </a:xfrm>
            <a:prstGeom prst="hexagon">
              <a:avLst>
                <a:gd name="adj" fmla="val 28025"/>
                <a:gd name="vf" fmla="val 115470"/>
              </a:avLst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19440" bIns="19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605720" y="4171320"/>
              <a:ext cx="113400" cy="100800"/>
            </a:xfrm>
            <a:prstGeom prst="hexagon">
              <a:avLst>
                <a:gd name="adj" fmla="val 28125"/>
                <a:gd name="vf" fmla="val 115470"/>
              </a:avLst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19080" bIns="19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967520" y="4171320"/>
              <a:ext cx="113400" cy="100800"/>
            </a:xfrm>
            <a:prstGeom prst="hexagon">
              <a:avLst>
                <a:gd name="adj" fmla="val 28125"/>
                <a:gd name="vf" fmla="val 115470"/>
              </a:avLst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19080" bIns="19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6" name=""/>
          <p:cNvSpPr/>
          <p:nvPr/>
        </p:nvSpPr>
        <p:spPr>
          <a:xfrm>
            <a:off x="4267080" y="4495680"/>
            <a:ext cx="3505320" cy="5335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4267080" y="3428640"/>
            <a:ext cx="3505320" cy="6094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16080" y="294840"/>
            <a:ext cx="83642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lling: </a:t>
            </a:r>
            <a:br>
              <a:rPr sz="3700"/>
            </a:b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tribution Implementa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Don’t render items that fall below a size threshold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creen space size of bounding volum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 less computational approach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tance to object combined with some notion of global object siz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-28296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s geometry rate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lled vertices are not transformed, lit, and clipp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s host download rat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ss data moved from memory into graphic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ssists occluder sele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Does not change fill rat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creen space projection already minim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moves few pixels from rasterization sta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title"/>
          </p:nvPr>
        </p:nvSpPr>
        <p:spPr>
          <a:xfrm>
            <a:off x="316080" y="294840"/>
            <a:ext cx="83642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lling: </a:t>
            </a:r>
            <a:br>
              <a:rPr sz="3700"/>
            </a:b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tribution Usefulnes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16080" y="294840"/>
            <a:ext cx="83642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utlin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ver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aching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ulling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evel of Detail (LOD) managemen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pplication architectur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16080" y="294840"/>
            <a:ext cx="83642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OD: </a:t>
            </a:r>
            <a:br>
              <a:rPr sz="3700"/>
            </a:b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verview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After culling, need to draw what is left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ill too much geometry: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 multiple Levels of Detail, I.e. multi-resolution obje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atch geometric complexity to visible on-screen space coverag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duce geometric complexity to maintain target frame rat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095560" y="1905120"/>
            <a:ext cx="609588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16080" y="294840"/>
            <a:ext cx="83642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OD: </a:t>
            </a:r>
            <a:br>
              <a:rPr sz="3700"/>
            </a:b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Issu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Generating LODs: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ight Fields vs 3D obje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iew-Dependent: nice, but compute intensi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iew-Independent: fast, memory intensi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eed to decide which LOD level to us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 trivial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eed smooth transitions between level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omorph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16080" y="294840"/>
            <a:ext cx="83642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OD: </a:t>
            </a:r>
            <a:br>
              <a:rPr sz="3700"/>
            </a:b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eight Field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Generally thought of as infinite terrai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pecialized algorithms can be use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terrain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1523880" y="3200400"/>
            <a:ext cx="6912000" cy="2666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16080" y="294840"/>
            <a:ext cx="83642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OD: </a:t>
            </a:r>
            <a:br>
              <a:rPr sz="3700"/>
            </a:b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3D Model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General purpose simplification algorithm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an use on height fields als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ere are real-time view-dependent algorithm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lso used for compress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2" name="lod" descr=""/>
          <p:cNvPicPr/>
          <p:nvPr/>
        </p:nvPicPr>
        <p:blipFill>
          <a:blip r:embed="rId1"/>
          <a:stretch/>
        </p:blipFill>
        <p:spPr>
          <a:xfrm>
            <a:off x="690480" y="3692520"/>
            <a:ext cx="9183600" cy="2071800"/>
          </a:xfrm>
          <a:prstGeom prst="rect">
            <a:avLst/>
          </a:prstGeom>
          <a:ln w="0">
            <a:noFill/>
          </a:ln>
        </p:spPr>
      </p:pic>
      <p:grpSp>
        <p:nvGrpSpPr>
          <p:cNvPr id="233" name=""/>
          <p:cNvGrpSpPr/>
          <p:nvPr/>
        </p:nvGrpSpPr>
        <p:grpSpPr>
          <a:xfrm>
            <a:off x="912240" y="5667480"/>
            <a:ext cx="8859240" cy="424080"/>
            <a:chOff x="912240" y="5667480"/>
            <a:chExt cx="8859240" cy="424080"/>
          </a:xfrm>
        </p:grpSpPr>
        <p:sp>
          <p:nvSpPr>
            <p:cNvPr id="234" name=""/>
            <p:cNvSpPr/>
            <p:nvPr/>
          </p:nvSpPr>
          <p:spPr>
            <a:xfrm>
              <a:off x="912240" y="5667480"/>
              <a:ext cx="1866960" cy="424080"/>
            </a:xfrm>
            <a:prstGeom prst="rect">
              <a:avLst/>
            </a:prstGeom>
            <a:noFill/>
            <a:ln w="0">
              <a:noFill/>
            </a:ln>
            <a:effectLst>
              <a:outerShdw dist="40186" dir="109635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10000"/>
                </a:lnSpc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1024 Triangl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413520" y="5667480"/>
              <a:ext cx="1725120" cy="424080"/>
            </a:xfrm>
            <a:prstGeom prst="rect">
              <a:avLst/>
            </a:prstGeom>
            <a:noFill/>
            <a:ln w="0">
              <a:noFill/>
            </a:ln>
            <a:effectLst>
              <a:outerShdw dist="40186" dir="109635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10000"/>
                </a:lnSpc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256 Triangl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895360" y="5667480"/>
              <a:ext cx="1583640" cy="424080"/>
            </a:xfrm>
            <a:prstGeom prst="rect">
              <a:avLst/>
            </a:prstGeom>
            <a:noFill/>
            <a:ln w="0">
              <a:noFill/>
            </a:ln>
            <a:effectLst>
              <a:outerShdw dist="40186" dir="109635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10000"/>
                </a:lnSpc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64 Triangl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8187840" y="5667480"/>
              <a:ext cx="1583640" cy="424080"/>
            </a:xfrm>
            <a:prstGeom prst="rect">
              <a:avLst/>
            </a:prstGeom>
            <a:noFill/>
            <a:ln w="0">
              <a:noFill/>
            </a:ln>
            <a:effectLst>
              <a:outerShdw dist="40186" dir="109635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10000"/>
                </a:lnSpc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16 Triangl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16080" y="294840"/>
            <a:ext cx="83642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OD: </a:t>
            </a:r>
            <a:br>
              <a:rPr sz="3700"/>
            </a:b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When to switch LOD level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Ability to only generate LOD models is not sufficient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eed to know when to use which LOD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ngle constant hard metric: distance from ey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ultiple heuristics: cost, benefit, rankin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an bias LODs to ensure frame rate targets are reache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16080" y="294840"/>
            <a:ext cx="83642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OD:</a:t>
            </a:r>
            <a:br>
              <a:rPr sz="3700"/>
            </a:b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evel determina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Determine system rendering characteristic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Determine cost of rendering each obj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nder objects with highest benefit while remaining under the target frame rat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Level determination can be time consuming!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2" name="snap" descr=""/>
          <p:cNvPicPr/>
          <p:nvPr/>
        </p:nvPicPr>
        <p:blipFill>
          <a:blip r:embed="rId1">
            <a:biLevel thresh="50000"/>
            <a:lum bright="-48000"/>
          </a:blip>
          <a:stretch/>
        </p:blipFill>
        <p:spPr>
          <a:xfrm>
            <a:off x="7543800" y="304920"/>
            <a:ext cx="1066680" cy="1066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16080" y="294840"/>
            <a:ext cx="83642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OD: </a:t>
            </a:r>
            <a:br>
              <a:rPr sz="3700"/>
            </a:b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Determining cost of render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Cost is affected by many factors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Graphics hardware: published benchmarks, startup tes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umber of vertices: primarily a function of LOD algorithm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ndering Quality: lighting, shading, wire frame, anti-aliasing, etc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714680" y="1905120"/>
            <a:ext cx="685800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16080" y="294840"/>
            <a:ext cx="83642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OD: </a:t>
            </a:r>
            <a:br>
              <a:rPr sz="3700"/>
            </a:b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Benefit Fun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Cost alone is not good enough, need benefit also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ndered size of obj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rror tolerance between LOD level and reference mod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ortance in scen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rame-to-frame coherenc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16080" y="294840"/>
            <a:ext cx="83642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OD: </a:t>
            </a:r>
            <a:br>
              <a:rPr sz="3700"/>
            </a:b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Trade-off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Don’t have enough time to run full LOD optimization problem and render the scene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implify cost and benefit function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implify optimization problem into a ranking of Benefit/Cos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se frame-to-frame coherenc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e sure to consider time taken to calculate LOD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0" name="snap" descr=""/>
          <p:cNvPicPr/>
          <p:nvPr/>
        </p:nvPicPr>
        <p:blipFill>
          <a:blip r:embed="rId1">
            <a:biLevel thresh="50000"/>
            <a:lum bright="-48000"/>
          </a:blip>
          <a:stretch/>
        </p:blipFill>
        <p:spPr>
          <a:xfrm>
            <a:off x="7543800" y="304920"/>
            <a:ext cx="1066680" cy="1066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16080" y="294840"/>
            <a:ext cx="83642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Target Frame Rat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A target frame rate attempts to bound the maximum render time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ntrol Culling and LOD aggressivenes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aintain a constant frame rat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chieve an acceptable interactive frame rat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3" name="snap" descr=""/>
          <p:cNvPicPr/>
          <p:nvPr/>
        </p:nvPicPr>
        <p:blipFill>
          <a:blip r:embed="rId1">
            <a:biLevel thresh="50000"/>
            <a:lum bright="-48000"/>
          </a:blip>
          <a:stretch/>
        </p:blipFill>
        <p:spPr>
          <a:xfrm>
            <a:off x="7543800" y="304920"/>
            <a:ext cx="1066680" cy="1066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16080" y="294840"/>
            <a:ext cx="83642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Rendering Path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pplication work, culling, LOD, drawing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e rendering path forms a pipelin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43560" y="5638680"/>
            <a:ext cx="111420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32040" bIns="320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1371600" y="3276720"/>
            <a:ext cx="5314320" cy="533520"/>
            <a:chOff x="1371600" y="3276720"/>
            <a:chExt cx="5314320" cy="533520"/>
          </a:xfrm>
        </p:grpSpPr>
        <p:grpSp>
          <p:nvGrpSpPr>
            <p:cNvPr id="55" name=""/>
            <p:cNvGrpSpPr/>
            <p:nvPr/>
          </p:nvGrpSpPr>
          <p:grpSpPr>
            <a:xfrm>
              <a:off x="1371600" y="3276720"/>
              <a:ext cx="1028160" cy="533520"/>
              <a:chOff x="1371600" y="3276720"/>
              <a:chExt cx="1028160" cy="533520"/>
            </a:xfrm>
          </p:grpSpPr>
          <p:sp>
            <p:nvSpPr>
              <p:cNvPr id="56" name=""/>
              <p:cNvSpPr/>
              <p:nvPr/>
            </p:nvSpPr>
            <p:spPr>
              <a:xfrm>
                <a:off x="1371600" y="3276720"/>
                <a:ext cx="1028160" cy="533520"/>
              </a:xfrm>
              <a:prstGeom prst="roundRect">
                <a:avLst>
                  <a:gd name="adj" fmla="val 16667"/>
                </a:avLst>
              </a:prstGeom>
              <a:noFill/>
              <a:ln w="12600">
                <a:solidFill>
                  <a:srgbClr val="ffffff"/>
                </a:solidFill>
                <a:miter/>
              </a:ln>
              <a:effectLst>
                <a:outerShdw dist="40186" dir="1096358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457280" y="3276720"/>
                <a:ext cx="722520" cy="49104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40186" dir="1096358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10000"/>
                  </a:lnSpc>
                  <a:spcBef>
                    <a:spcPts val="601"/>
                  </a:spcBef>
                  <a:spcAft>
                    <a:spcPts val="6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"/>
                  </a:rPr>
                  <a:t>App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2800080" y="3276720"/>
              <a:ext cx="1028160" cy="533520"/>
              <a:chOff x="2800080" y="3276720"/>
              <a:chExt cx="1028160" cy="533520"/>
            </a:xfrm>
          </p:grpSpPr>
          <p:sp>
            <p:nvSpPr>
              <p:cNvPr id="59" name=""/>
              <p:cNvSpPr/>
              <p:nvPr/>
            </p:nvSpPr>
            <p:spPr>
              <a:xfrm>
                <a:off x="2800080" y="3276720"/>
                <a:ext cx="1028160" cy="533520"/>
              </a:xfrm>
              <a:prstGeom prst="roundRect">
                <a:avLst>
                  <a:gd name="adj" fmla="val 16667"/>
                </a:avLst>
              </a:prstGeom>
              <a:noFill/>
              <a:ln w="12600">
                <a:solidFill>
                  <a:srgbClr val="ffffff"/>
                </a:solidFill>
                <a:miter/>
              </a:ln>
              <a:effectLst>
                <a:outerShdw dist="40186" dir="1096358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2886840" y="3276720"/>
                <a:ext cx="704160" cy="49104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40186" dir="1096358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10000"/>
                  </a:lnSpc>
                  <a:spcBef>
                    <a:spcPts val="601"/>
                  </a:spcBef>
                  <a:spcAft>
                    <a:spcPts val="6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"/>
                  </a:rPr>
                  <a:t>Cull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1" name=""/>
            <p:cNvGrpSpPr/>
            <p:nvPr/>
          </p:nvGrpSpPr>
          <p:grpSpPr>
            <a:xfrm>
              <a:off x="4228920" y="3276720"/>
              <a:ext cx="1028160" cy="533520"/>
              <a:chOff x="4228920" y="3276720"/>
              <a:chExt cx="1028160" cy="533520"/>
            </a:xfrm>
          </p:grpSpPr>
          <p:sp>
            <p:nvSpPr>
              <p:cNvPr id="62" name=""/>
              <p:cNvSpPr/>
              <p:nvPr/>
            </p:nvSpPr>
            <p:spPr>
              <a:xfrm>
                <a:off x="4228920" y="3276720"/>
                <a:ext cx="1028160" cy="533520"/>
              </a:xfrm>
              <a:prstGeom prst="roundRect">
                <a:avLst>
                  <a:gd name="adj" fmla="val 16667"/>
                </a:avLst>
              </a:prstGeom>
              <a:noFill/>
              <a:ln w="12600">
                <a:solidFill>
                  <a:srgbClr val="ffffff"/>
                </a:solidFill>
                <a:miter/>
              </a:ln>
              <a:effectLst>
                <a:outerShdw dist="40186" dir="1096358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4314240" y="3276720"/>
                <a:ext cx="807840" cy="49104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40186" dir="1096358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10000"/>
                  </a:lnSpc>
                  <a:spcBef>
                    <a:spcPts val="601"/>
                  </a:spcBef>
                  <a:spcAft>
                    <a:spcPts val="6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"/>
                  </a:rPr>
                  <a:t>LOD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4" name=""/>
            <p:cNvGrpSpPr/>
            <p:nvPr/>
          </p:nvGrpSpPr>
          <p:grpSpPr>
            <a:xfrm>
              <a:off x="5657760" y="3276720"/>
              <a:ext cx="1028160" cy="533160"/>
              <a:chOff x="5657760" y="3276720"/>
              <a:chExt cx="1028160" cy="533160"/>
            </a:xfrm>
          </p:grpSpPr>
          <p:sp>
            <p:nvSpPr>
              <p:cNvPr id="65" name=""/>
              <p:cNvSpPr/>
              <p:nvPr/>
            </p:nvSpPr>
            <p:spPr>
              <a:xfrm>
                <a:off x="5657760" y="3276720"/>
                <a:ext cx="1028160" cy="533160"/>
              </a:xfrm>
              <a:prstGeom prst="roundRect">
                <a:avLst>
                  <a:gd name="adj" fmla="val 16667"/>
                </a:avLst>
              </a:prstGeom>
              <a:noFill/>
              <a:ln w="12600">
                <a:solidFill>
                  <a:srgbClr val="ffffff"/>
                </a:solidFill>
                <a:miter/>
              </a:ln>
              <a:effectLst>
                <a:outerShdw dist="40186" dir="1096358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5658120" y="3276720"/>
                <a:ext cx="891720" cy="49104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40186" dir="1096358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10000"/>
                  </a:lnSpc>
                  <a:spcBef>
                    <a:spcPts val="601"/>
                  </a:spcBef>
                  <a:spcAft>
                    <a:spcPts val="6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"/>
                  </a:rPr>
                  <a:t>Draw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7" name=""/>
            <p:cNvSpPr/>
            <p:nvPr/>
          </p:nvSpPr>
          <p:spPr>
            <a:xfrm>
              <a:off x="2400120" y="3505320"/>
              <a:ext cx="428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-44280" bIns="-44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857400" y="3505320"/>
              <a:ext cx="428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-44280" bIns="-44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229000" y="3505320"/>
              <a:ext cx="428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-44280" bIns="-44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16080" y="294840"/>
            <a:ext cx="83642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Application Architectures: </a:t>
            </a:r>
            <a:br>
              <a:rPr sz="3700"/>
            </a:b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ulti-Thread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ore stages give more time to cull or generate LOD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ach stage adds latenc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92760" y="3079800"/>
            <a:ext cx="9480960" cy="3013200"/>
            <a:chOff x="392760" y="3079800"/>
            <a:chExt cx="9480960" cy="3013200"/>
          </a:xfrm>
        </p:grpSpPr>
        <p:grpSp>
          <p:nvGrpSpPr>
            <p:cNvPr id="257" name=""/>
            <p:cNvGrpSpPr/>
            <p:nvPr/>
          </p:nvGrpSpPr>
          <p:grpSpPr>
            <a:xfrm>
              <a:off x="1646640" y="3079800"/>
              <a:ext cx="8227080" cy="3013200"/>
              <a:chOff x="1646640" y="3079800"/>
              <a:chExt cx="8227080" cy="3013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817520" y="5853240"/>
                <a:ext cx="1114200" cy="7236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28080" bIns="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1646640" y="3315240"/>
                <a:ext cx="8227080" cy="1925280"/>
                <a:chOff x="1646640" y="3315240"/>
                <a:chExt cx="8227080" cy="192528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1646640" y="3315240"/>
                  <a:ext cx="5312880" cy="506880"/>
                  <a:chOff x="1646640" y="3315240"/>
                  <a:chExt cx="5312880" cy="506880"/>
                </a:xfrm>
              </p:grpSpPr>
              <p:grpSp>
                <p:nvGrpSpPr>
                  <p:cNvPr id="261" name=""/>
                  <p:cNvGrpSpPr/>
                  <p:nvPr/>
                </p:nvGrpSpPr>
                <p:grpSpPr>
                  <a:xfrm>
                    <a:off x="1646640" y="3315240"/>
                    <a:ext cx="1027800" cy="506880"/>
                    <a:chOff x="1646640" y="3315240"/>
                    <a:chExt cx="1027800" cy="506880"/>
                  </a:xfrm>
                </p:grpSpPr>
                <p:sp>
                  <p:nvSpPr>
                    <p:cNvPr id="262" name=""/>
                    <p:cNvSpPr/>
                    <p:nvPr/>
                  </p:nvSpPr>
                  <p:spPr>
                    <a:xfrm>
                      <a:off x="1646640" y="3315240"/>
                      <a:ext cx="1027800" cy="506880"/>
                    </a:xfrm>
                    <a:prstGeom prst="roundRect">
                      <a:avLst>
                        <a:gd name="adj" fmla="val 16667"/>
                      </a:avLst>
                    </a:prstGeom>
                    <a:noFill/>
                    <a:ln w="12600">
                      <a:solidFill>
                        <a:srgbClr val="ffffff"/>
                      </a:solidFill>
                      <a:miter/>
                    </a:ln>
                    <a:effectLst>
                      <a:outerShdw dist="40186" dir="1096358" blurRad="0" rotWithShape="0">
                        <a:srgbClr val="00000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360" rIns="90360" tIns="44280" bIns="442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3" name=""/>
                    <p:cNvSpPr/>
                    <p:nvPr/>
                  </p:nvSpPr>
                  <p:spPr>
                    <a:xfrm>
                      <a:off x="1732320" y="3315240"/>
                      <a:ext cx="722520" cy="4910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  <a:effectLst>
                      <a:outerShdw dist="40186" dir="1096358" blurRad="0" rotWithShape="0">
                        <a:srgbClr val="00000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360" rIns="90360" tIns="44280" bIns="44280" anchor="t">
                      <a:sp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p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64" name=""/>
                  <p:cNvGrpSpPr/>
                  <p:nvPr/>
                </p:nvGrpSpPr>
                <p:grpSpPr>
                  <a:xfrm>
                    <a:off x="3074400" y="3315240"/>
                    <a:ext cx="1027800" cy="506880"/>
                    <a:chOff x="3074400" y="3315240"/>
                    <a:chExt cx="1027800" cy="506880"/>
                  </a:xfrm>
                </p:grpSpPr>
                <p:sp>
                  <p:nvSpPr>
                    <p:cNvPr id="265" name=""/>
                    <p:cNvSpPr/>
                    <p:nvPr/>
                  </p:nvSpPr>
                  <p:spPr>
                    <a:xfrm>
                      <a:off x="3074400" y="3315240"/>
                      <a:ext cx="1027800" cy="506880"/>
                    </a:xfrm>
                    <a:prstGeom prst="roundRect">
                      <a:avLst>
                        <a:gd name="adj" fmla="val 16667"/>
                      </a:avLst>
                    </a:prstGeom>
                    <a:noFill/>
                    <a:ln w="12600">
                      <a:solidFill>
                        <a:srgbClr val="ffffff"/>
                      </a:solidFill>
                      <a:miter/>
                    </a:ln>
                    <a:effectLst>
                      <a:outerShdw dist="40186" dir="1096358" blurRad="0" rotWithShape="0">
                        <a:srgbClr val="00000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360" rIns="90360" tIns="44280" bIns="442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6" name=""/>
                    <p:cNvSpPr/>
                    <p:nvPr/>
                  </p:nvSpPr>
                  <p:spPr>
                    <a:xfrm>
                      <a:off x="3161160" y="3315240"/>
                      <a:ext cx="704160" cy="4910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  <a:effectLst>
                      <a:outerShdw dist="40186" dir="1096358" blurRad="0" rotWithShape="0">
                        <a:srgbClr val="00000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360" rIns="90360" tIns="44280" bIns="44280" anchor="t">
                      <a:sp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ul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67" name=""/>
                  <p:cNvGrpSpPr/>
                  <p:nvPr/>
                </p:nvGrpSpPr>
                <p:grpSpPr>
                  <a:xfrm>
                    <a:off x="4502880" y="3315240"/>
                    <a:ext cx="1027800" cy="506880"/>
                    <a:chOff x="4502880" y="3315240"/>
                    <a:chExt cx="1027800" cy="506880"/>
                  </a:xfrm>
                </p:grpSpPr>
                <p:sp>
                  <p:nvSpPr>
                    <p:cNvPr id="268" name=""/>
                    <p:cNvSpPr/>
                    <p:nvPr/>
                  </p:nvSpPr>
                  <p:spPr>
                    <a:xfrm>
                      <a:off x="4502880" y="3315240"/>
                      <a:ext cx="1027800" cy="506880"/>
                    </a:xfrm>
                    <a:prstGeom prst="roundRect">
                      <a:avLst>
                        <a:gd name="adj" fmla="val 16667"/>
                      </a:avLst>
                    </a:prstGeom>
                    <a:noFill/>
                    <a:ln w="12600">
                      <a:solidFill>
                        <a:srgbClr val="ffffff"/>
                      </a:solidFill>
                      <a:miter/>
                    </a:ln>
                    <a:effectLst>
                      <a:outerShdw dist="40186" dir="1096358" blurRad="0" rotWithShape="0">
                        <a:srgbClr val="00000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360" rIns="90360" tIns="44280" bIns="442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9" name=""/>
                    <p:cNvSpPr/>
                    <p:nvPr/>
                  </p:nvSpPr>
                  <p:spPr>
                    <a:xfrm>
                      <a:off x="4587840" y="3315240"/>
                      <a:ext cx="807840" cy="4910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  <a:effectLst>
                      <a:outerShdw dist="40186" dir="1096358" blurRad="0" rotWithShape="0">
                        <a:srgbClr val="00000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360" rIns="90360" tIns="44280" bIns="44280" anchor="t">
                      <a:sp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70" name=""/>
                  <p:cNvGrpSpPr/>
                  <p:nvPr/>
                </p:nvGrpSpPr>
                <p:grpSpPr>
                  <a:xfrm>
                    <a:off x="5931720" y="3315240"/>
                    <a:ext cx="1027800" cy="506880"/>
                    <a:chOff x="5931720" y="3315240"/>
                    <a:chExt cx="1027800" cy="506880"/>
                  </a:xfrm>
                </p:grpSpPr>
                <p:sp>
                  <p:nvSpPr>
                    <p:cNvPr id="271" name=""/>
                    <p:cNvSpPr/>
                    <p:nvPr/>
                  </p:nvSpPr>
                  <p:spPr>
                    <a:xfrm>
                      <a:off x="5931720" y="3315240"/>
                      <a:ext cx="1027800" cy="506880"/>
                    </a:xfrm>
                    <a:prstGeom prst="roundRect">
                      <a:avLst>
                        <a:gd name="adj" fmla="val 16667"/>
                      </a:avLst>
                    </a:prstGeom>
                    <a:noFill/>
                    <a:ln w="12600">
                      <a:solidFill>
                        <a:srgbClr val="ffffff"/>
                      </a:solidFill>
                      <a:miter/>
                    </a:ln>
                    <a:effectLst>
                      <a:outerShdw dist="40186" dir="1096358" blurRad="0" rotWithShape="0">
                        <a:srgbClr val="00000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360" rIns="90360" tIns="44280" bIns="442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2" name=""/>
                    <p:cNvSpPr/>
                    <p:nvPr/>
                  </p:nvSpPr>
                  <p:spPr>
                    <a:xfrm>
                      <a:off x="5932080" y="3315240"/>
                      <a:ext cx="891720" cy="4910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  <a:effectLst>
                      <a:outerShdw dist="40186" dir="1096358" blurRad="0" rotWithShape="0">
                        <a:srgbClr val="00000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360" rIns="90360" tIns="44280" bIns="44280" anchor="t">
                      <a:sp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raw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73" name=""/>
                  <p:cNvSpPr/>
                  <p:nvPr/>
                </p:nvSpPr>
                <p:spPr>
                  <a:xfrm>
                    <a:off x="2674800" y="3532320"/>
                    <a:ext cx="42804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360" rIns="90360" tIns="-44280" bIns="-442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>
                    <a:off x="4131720" y="3532320"/>
                    <a:ext cx="42804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360" rIns="90360" tIns="-44280" bIns="-442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>
                    <a:off x="5503320" y="3532320"/>
                    <a:ext cx="42804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360" rIns="90360" tIns="-44280" bIns="-442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76" name=""/>
                <p:cNvGrpSpPr/>
                <p:nvPr/>
              </p:nvGrpSpPr>
              <p:grpSpPr>
                <a:xfrm>
                  <a:off x="3103560" y="4023360"/>
                  <a:ext cx="5312880" cy="506880"/>
                  <a:chOff x="3103560" y="4023360"/>
                  <a:chExt cx="5312880" cy="506880"/>
                </a:xfrm>
              </p:grpSpPr>
              <p:grpSp>
                <p:nvGrpSpPr>
                  <p:cNvPr id="277" name=""/>
                  <p:cNvGrpSpPr/>
                  <p:nvPr/>
                </p:nvGrpSpPr>
                <p:grpSpPr>
                  <a:xfrm>
                    <a:off x="3103560" y="4023360"/>
                    <a:ext cx="1027800" cy="506880"/>
                    <a:chOff x="3103560" y="4023360"/>
                    <a:chExt cx="1027800" cy="506880"/>
                  </a:xfrm>
                </p:grpSpPr>
                <p:sp>
                  <p:nvSpPr>
                    <p:cNvPr id="278" name=""/>
                    <p:cNvSpPr/>
                    <p:nvPr/>
                  </p:nvSpPr>
                  <p:spPr>
                    <a:xfrm>
                      <a:off x="3103560" y="4023360"/>
                      <a:ext cx="1027800" cy="506880"/>
                    </a:xfrm>
                    <a:prstGeom prst="roundRect">
                      <a:avLst>
                        <a:gd name="adj" fmla="val 16667"/>
                      </a:avLst>
                    </a:prstGeom>
                    <a:noFill/>
                    <a:ln w="12600">
                      <a:solidFill>
                        <a:srgbClr val="ffffff"/>
                      </a:solidFill>
                      <a:miter/>
                    </a:ln>
                    <a:effectLst>
                      <a:outerShdw dist="40186" dir="1096358" blurRad="0" rotWithShape="0">
                        <a:srgbClr val="00000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360" rIns="90360" tIns="44280" bIns="442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9" name=""/>
                    <p:cNvSpPr/>
                    <p:nvPr/>
                  </p:nvSpPr>
                  <p:spPr>
                    <a:xfrm>
                      <a:off x="3189240" y="4023360"/>
                      <a:ext cx="722520" cy="4910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  <a:effectLst>
                      <a:outerShdw dist="40186" dir="1096358" blurRad="0" rotWithShape="0">
                        <a:srgbClr val="00000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360" rIns="90360" tIns="44280" bIns="44280" anchor="t">
                      <a:sp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p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80" name=""/>
                  <p:cNvGrpSpPr/>
                  <p:nvPr/>
                </p:nvGrpSpPr>
                <p:grpSpPr>
                  <a:xfrm>
                    <a:off x="4531320" y="4023360"/>
                    <a:ext cx="1027800" cy="506880"/>
                    <a:chOff x="4531320" y="4023360"/>
                    <a:chExt cx="1027800" cy="506880"/>
                  </a:xfrm>
                </p:grpSpPr>
                <p:sp>
                  <p:nvSpPr>
                    <p:cNvPr id="281" name=""/>
                    <p:cNvSpPr/>
                    <p:nvPr/>
                  </p:nvSpPr>
                  <p:spPr>
                    <a:xfrm>
                      <a:off x="4531320" y="4023360"/>
                      <a:ext cx="1027800" cy="506880"/>
                    </a:xfrm>
                    <a:prstGeom prst="roundRect">
                      <a:avLst>
                        <a:gd name="adj" fmla="val 16667"/>
                      </a:avLst>
                    </a:prstGeom>
                    <a:noFill/>
                    <a:ln w="12600">
                      <a:solidFill>
                        <a:srgbClr val="ffffff"/>
                      </a:solidFill>
                      <a:miter/>
                    </a:ln>
                    <a:effectLst>
                      <a:outerShdw dist="40186" dir="1096358" blurRad="0" rotWithShape="0">
                        <a:srgbClr val="00000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360" rIns="90360" tIns="44280" bIns="442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2" name=""/>
                    <p:cNvSpPr/>
                    <p:nvPr/>
                  </p:nvSpPr>
                  <p:spPr>
                    <a:xfrm>
                      <a:off x="4618080" y="4023360"/>
                      <a:ext cx="704160" cy="4910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  <a:effectLst>
                      <a:outerShdw dist="40186" dir="1096358" blurRad="0" rotWithShape="0">
                        <a:srgbClr val="00000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360" rIns="90360" tIns="44280" bIns="44280" anchor="t">
                      <a:sp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ul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83" name=""/>
                  <p:cNvGrpSpPr/>
                  <p:nvPr/>
                </p:nvGrpSpPr>
                <p:grpSpPr>
                  <a:xfrm>
                    <a:off x="5959800" y="4023360"/>
                    <a:ext cx="1027800" cy="506880"/>
                    <a:chOff x="5959800" y="4023360"/>
                    <a:chExt cx="1027800" cy="506880"/>
                  </a:xfrm>
                </p:grpSpPr>
                <p:sp>
                  <p:nvSpPr>
                    <p:cNvPr id="284" name=""/>
                    <p:cNvSpPr/>
                    <p:nvPr/>
                  </p:nvSpPr>
                  <p:spPr>
                    <a:xfrm>
                      <a:off x="5959800" y="4023360"/>
                      <a:ext cx="1027800" cy="506880"/>
                    </a:xfrm>
                    <a:prstGeom prst="roundRect">
                      <a:avLst>
                        <a:gd name="adj" fmla="val 16667"/>
                      </a:avLst>
                    </a:prstGeom>
                    <a:noFill/>
                    <a:ln w="12600">
                      <a:solidFill>
                        <a:srgbClr val="ffffff"/>
                      </a:solidFill>
                      <a:miter/>
                    </a:ln>
                    <a:effectLst>
                      <a:outerShdw dist="40186" dir="1096358" blurRad="0" rotWithShape="0">
                        <a:srgbClr val="00000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360" rIns="90360" tIns="44280" bIns="442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5" name=""/>
                    <p:cNvSpPr/>
                    <p:nvPr/>
                  </p:nvSpPr>
                  <p:spPr>
                    <a:xfrm>
                      <a:off x="6044760" y="4023360"/>
                      <a:ext cx="807840" cy="4910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  <a:effectLst>
                      <a:outerShdw dist="40186" dir="1096358" blurRad="0" rotWithShape="0">
                        <a:srgbClr val="00000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360" rIns="90360" tIns="44280" bIns="44280" anchor="t">
                      <a:sp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86" name=""/>
                  <p:cNvGrpSpPr/>
                  <p:nvPr/>
                </p:nvGrpSpPr>
                <p:grpSpPr>
                  <a:xfrm>
                    <a:off x="7388640" y="4023360"/>
                    <a:ext cx="1027800" cy="506880"/>
                    <a:chOff x="7388640" y="4023360"/>
                    <a:chExt cx="1027800" cy="506880"/>
                  </a:xfrm>
                </p:grpSpPr>
                <p:sp>
                  <p:nvSpPr>
                    <p:cNvPr id="287" name=""/>
                    <p:cNvSpPr/>
                    <p:nvPr/>
                  </p:nvSpPr>
                  <p:spPr>
                    <a:xfrm>
                      <a:off x="7388640" y="4023360"/>
                      <a:ext cx="1027800" cy="506880"/>
                    </a:xfrm>
                    <a:prstGeom prst="roundRect">
                      <a:avLst>
                        <a:gd name="adj" fmla="val 16667"/>
                      </a:avLst>
                    </a:prstGeom>
                    <a:noFill/>
                    <a:ln w="12600">
                      <a:solidFill>
                        <a:srgbClr val="ffffff"/>
                      </a:solidFill>
                      <a:miter/>
                    </a:ln>
                    <a:effectLst>
                      <a:outerShdw dist="40186" dir="1096358" blurRad="0" rotWithShape="0">
                        <a:srgbClr val="00000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360" rIns="90360" tIns="44280" bIns="442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8" name=""/>
                    <p:cNvSpPr/>
                    <p:nvPr/>
                  </p:nvSpPr>
                  <p:spPr>
                    <a:xfrm>
                      <a:off x="7389000" y="4023360"/>
                      <a:ext cx="891720" cy="4910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  <a:effectLst>
                      <a:outerShdw dist="40186" dir="1096358" blurRad="0" rotWithShape="0">
                        <a:srgbClr val="00000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360" rIns="90360" tIns="44280" bIns="44280" anchor="t">
                      <a:sp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raw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89" name=""/>
                  <p:cNvSpPr/>
                  <p:nvPr/>
                </p:nvSpPr>
                <p:spPr>
                  <a:xfrm>
                    <a:off x="4131720" y="4240440"/>
                    <a:ext cx="42804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360" rIns="90360" tIns="-44280" bIns="-442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5588640" y="4240440"/>
                    <a:ext cx="42804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360" rIns="90360" tIns="-44280" bIns="-442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6960240" y="4240440"/>
                    <a:ext cx="42804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360" rIns="90360" tIns="-44280" bIns="-442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92" name=""/>
                <p:cNvGrpSpPr/>
                <p:nvPr/>
              </p:nvGrpSpPr>
              <p:grpSpPr>
                <a:xfrm>
                  <a:off x="4560480" y="4733280"/>
                  <a:ext cx="5313240" cy="507240"/>
                  <a:chOff x="4560480" y="4733280"/>
                  <a:chExt cx="5313240" cy="507240"/>
                </a:xfrm>
              </p:grpSpPr>
              <p:grpSp>
                <p:nvGrpSpPr>
                  <p:cNvPr id="293" name=""/>
                  <p:cNvGrpSpPr/>
                  <p:nvPr/>
                </p:nvGrpSpPr>
                <p:grpSpPr>
                  <a:xfrm>
                    <a:off x="4560480" y="4733280"/>
                    <a:ext cx="1028160" cy="507240"/>
                    <a:chOff x="4560480" y="4733280"/>
                    <a:chExt cx="1028160" cy="507240"/>
                  </a:xfrm>
                </p:grpSpPr>
                <p:sp>
                  <p:nvSpPr>
                    <p:cNvPr id="294" name=""/>
                    <p:cNvSpPr/>
                    <p:nvPr/>
                  </p:nvSpPr>
                  <p:spPr>
                    <a:xfrm>
                      <a:off x="4560480" y="4733280"/>
                      <a:ext cx="1028160" cy="507240"/>
                    </a:xfrm>
                    <a:prstGeom prst="roundRect">
                      <a:avLst>
                        <a:gd name="adj" fmla="val 16667"/>
                      </a:avLst>
                    </a:prstGeom>
                    <a:noFill/>
                    <a:ln w="12600">
                      <a:solidFill>
                        <a:srgbClr val="ffffff"/>
                      </a:solidFill>
                      <a:miter/>
                    </a:ln>
                    <a:effectLst>
                      <a:outerShdw dist="40186" dir="1096358" blurRad="0" rotWithShape="0">
                        <a:srgbClr val="00000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360" rIns="90360" tIns="44280" bIns="442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5" name=""/>
                    <p:cNvSpPr/>
                    <p:nvPr/>
                  </p:nvSpPr>
                  <p:spPr>
                    <a:xfrm>
                      <a:off x="4646160" y="4733280"/>
                      <a:ext cx="722520" cy="4910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  <a:effectLst>
                      <a:outerShdw dist="40186" dir="1096358" blurRad="0" rotWithShape="0">
                        <a:srgbClr val="00000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360" rIns="90360" tIns="44280" bIns="44280" anchor="t">
                      <a:sp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p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96" name=""/>
                  <p:cNvGrpSpPr/>
                  <p:nvPr/>
                </p:nvGrpSpPr>
                <p:grpSpPr>
                  <a:xfrm>
                    <a:off x="5988600" y="4733280"/>
                    <a:ext cx="1028160" cy="507240"/>
                    <a:chOff x="5988600" y="4733280"/>
                    <a:chExt cx="1028160" cy="507240"/>
                  </a:xfrm>
                </p:grpSpPr>
                <p:sp>
                  <p:nvSpPr>
                    <p:cNvPr id="297" name=""/>
                    <p:cNvSpPr/>
                    <p:nvPr/>
                  </p:nvSpPr>
                  <p:spPr>
                    <a:xfrm>
                      <a:off x="5988600" y="4733280"/>
                      <a:ext cx="1028160" cy="507240"/>
                    </a:xfrm>
                    <a:prstGeom prst="roundRect">
                      <a:avLst>
                        <a:gd name="adj" fmla="val 16667"/>
                      </a:avLst>
                    </a:prstGeom>
                    <a:noFill/>
                    <a:ln w="12600">
                      <a:solidFill>
                        <a:srgbClr val="ffffff"/>
                      </a:solidFill>
                      <a:miter/>
                    </a:ln>
                    <a:effectLst>
                      <a:outerShdw dist="40186" dir="1096358" blurRad="0" rotWithShape="0">
                        <a:srgbClr val="00000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360" rIns="90360" tIns="44280" bIns="442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8" name=""/>
                    <p:cNvSpPr/>
                    <p:nvPr/>
                  </p:nvSpPr>
                  <p:spPr>
                    <a:xfrm>
                      <a:off x="6075360" y="4733280"/>
                      <a:ext cx="704160" cy="4910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  <a:effectLst>
                      <a:outerShdw dist="40186" dir="1096358" blurRad="0" rotWithShape="0">
                        <a:srgbClr val="00000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360" rIns="90360" tIns="44280" bIns="44280" anchor="t">
                      <a:sp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ul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99" name=""/>
                  <p:cNvGrpSpPr/>
                  <p:nvPr/>
                </p:nvGrpSpPr>
                <p:grpSpPr>
                  <a:xfrm>
                    <a:off x="7417080" y="4733280"/>
                    <a:ext cx="1028160" cy="507240"/>
                    <a:chOff x="7417080" y="4733280"/>
                    <a:chExt cx="1028160" cy="507240"/>
                  </a:xfrm>
                </p:grpSpPr>
                <p:sp>
                  <p:nvSpPr>
                    <p:cNvPr id="300" name=""/>
                    <p:cNvSpPr/>
                    <p:nvPr/>
                  </p:nvSpPr>
                  <p:spPr>
                    <a:xfrm>
                      <a:off x="7417080" y="4733280"/>
                      <a:ext cx="1028160" cy="507240"/>
                    </a:xfrm>
                    <a:prstGeom prst="roundRect">
                      <a:avLst>
                        <a:gd name="adj" fmla="val 16667"/>
                      </a:avLst>
                    </a:prstGeom>
                    <a:noFill/>
                    <a:ln w="12600">
                      <a:solidFill>
                        <a:srgbClr val="ffffff"/>
                      </a:solidFill>
                      <a:miter/>
                    </a:ln>
                    <a:effectLst>
                      <a:outerShdw dist="40186" dir="1096358" blurRad="0" rotWithShape="0">
                        <a:srgbClr val="00000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360" rIns="90360" tIns="44280" bIns="442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1" name=""/>
                    <p:cNvSpPr/>
                    <p:nvPr/>
                  </p:nvSpPr>
                  <p:spPr>
                    <a:xfrm>
                      <a:off x="7502400" y="4733280"/>
                      <a:ext cx="807840" cy="4910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  <a:effectLst>
                      <a:outerShdw dist="40186" dir="1096358" blurRad="0" rotWithShape="0">
                        <a:srgbClr val="00000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360" rIns="90360" tIns="44280" bIns="44280" anchor="t">
                      <a:sp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02" name=""/>
                  <p:cNvGrpSpPr/>
                  <p:nvPr/>
                </p:nvGrpSpPr>
                <p:grpSpPr>
                  <a:xfrm>
                    <a:off x="8845560" y="4733280"/>
                    <a:ext cx="1028160" cy="507240"/>
                    <a:chOff x="8845560" y="4733280"/>
                    <a:chExt cx="1028160" cy="507240"/>
                  </a:xfrm>
                </p:grpSpPr>
                <p:sp>
                  <p:nvSpPr>
                    <p:cNvPr id="303" name=""/>
                    <p:cNvSpPr/>
                    <p:nvPr/>
                  </p:nvSpPr>
                  <p:spPr>
                    <a:xfrm>
                      <a:off x="8845560" y="4733280"/>
                      <a:ext cx="1028160" cy="507240"/>
                    </a:xfrm>
                    <a:prstGeom prst="roundRect">
                      <a:avLst>
                        <a:gd name="adj" fmla="val 16667"/>
                      </a:avLst>
                    </a:prstGeom>
                    <a:noFill/>
                    <a:ln w="12600">
                      <a:solidFill>
                        <a:srgbClr val="ffffff"/>
                      </a:solidFill>
                      <a:miter/>
                    </a:ln>
                    <a:effectLst>
                      <a:outerShdw dist="40186" dir="1096358" blurRad="0" rotWithShape="0">
                        <a:srgbClr val="00000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360" rIns="90360" tIns="44280" bIns="442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4" name=""/>
                    <p:cNvSpPr/>
                    <p:nvPr/>
                  </p:nvSpPr>
                  <p:spPr>
                    <a:xfrm>
                      <a:off x="8845920" y="4733280"/>
                      <a:ext cx="891720" cy="4910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  <a:effectLst>
                      <a:outerShdw dist="40186" dir="1096358" blurRad="0" rotWithShape="0">
                        <a:srgbClr val="00000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360" rIns="90360" tIns="44280" bIns="44280" anchor="t">
                      <a:sp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raw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305" name=""/>
                  <p:cNvSpPr/>
                  <p:nvPr/>
                </p:nvSpPr>
                <p:spPr>
                  <a:xfrm>
                    <a:off x="5589000" y="4950360"/>
                    <a:ext cx="42840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360" rIns="90360" tIns="-44280" bIns="-442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6" name=""/>
                  <p:cNvSpPr/>
                  <p:nvPr/>
                </p:nvSpPr>
                <p:spPr>
                  <a:xfrm>
                    <a:off x="7045920" y="4950360"/>
                    <a:ext cx="42840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360" rIns="90360" tIns="-44280" bIns="-442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7" name=""/>
                  <p:cNvSpPr/>
                  <p:nvPr/>
                </p:nvSpPr>
                <p:spPr>
                  <a:xfrm>
                    <a:off x="8417160" y="4950360"/>
                    <a:ext cx="42840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360" rIns="90360" tIns="-44280" bIns="-442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08" name=""/>
              <p:cNvSpPr/>
              <p:nvPr/>
            </p:nvSpPr>
            <p:spPr>
              <a:xfrm>
                <a:off x="2867760" y="3079800"/>
                <a:ext cx="0" cy="2945880"/>
              </a:xfrm>
              <a:prstGeom prst="line">
                <a:avLst/>
              </a:prstGeom>
              <a:ln w="28440">
                <a:solidFill>
                  <a:srgbClr val="979393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5760720" y="3079800"/>
                <a:ext cx="0" cy="2945880"/>
              </a:xfrm>
              <a:prstGeom prst="line">
                <a:avLst/>
              </a:prstGeom>
              <a:ln w="28440">
                <a:solidFill>
                  <a:srgbClr val="979393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7196400" y="3079800"/>
                <a:ext cx="0" cy="2945880"/>
              </a:xfrm>
              <a:prstGeom prst="line">
                <a:avLst/>
              </a:prstGeom>
              <a:ln w="28440">
                <a:solidFill>
                  <a:srgbClr val="979393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8739000" y="3079800"/>
                <a:ext cx="0" cy="2945880"/>
              </a:xfrm>
              <a:prstGeom prst="line">
                <a:avLst/>
              </a:prstGeom>
              <a:ln w="28440">
                <a:solidFill>
                  <a:srgbClr val="979393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4335840" y="3079800"/>
                <a:ext cx="0" cy="2945880"/>
              </a:xfrm>
              <a:prstGeom prst="line">
                <a:avLst/>
              </a:prstGeom>
              <a:ln w="28440">
                <a:solidFill>
                  <a:srgbClr val="979393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1827360" y="5546520"/>
                <a:ext cx="466200" cy="5464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40186" dir="1096358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10000"/>
                  </a:lnSpc>
                  <a:spcBef>
                    <a:spcPts val="601"/>
                  </a:spcBef>
                  <a:spcAft>
                    <a:spcPts val="6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r>
                  <a:rPr b="0" lang="en-US" sz="2400" spc="-1" strike="noStrike" baseline="-25000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3372120" y="5546520"/>
                <a:ext cx="466200" cy="5464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40186" dir="1096358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10000"/>
                  </a:lnSpc>
                  <a:spcBef>
                    <a:spcPts val="601"/>
                  </a:spcBef>
                  <a:spcAft>
                    <a:spcPts val="6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r>
                  <a:rPr b="0" lang="en-US" sz="2400" spc="-1" strike="noStrike" baseline="-25000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4809600" y="5546520"/>
                <a:ext cx="466200" cy="5464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40186" dir="1096358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10000"/>
                  </a:lnSpc>
                  <a:spcBef>
                    <a:spcPts val="601"/>
                  </a:spcBef>
                  <a:spcAft>
                    <a:spcPts val="6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r>
                  <a:rPr b="0" lang="en-US" sz="2400" spc="-1" strike="noStrike" baseline="-25000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190560" y="5546520"/>
                <a:ext cx="466200" cy="5464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40186" dir="1096358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10000"/>
                  </a:lnSpc>
                  <a:spcBef>
                    <a:spcPts val="601"/>
                  </a:spcBef>
                  <a:spcAft>
                    <a:spcPts val="6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r>
                  <a:rPr b="0" lang="en-US" sz="2400" spc="-1" strike="noStrike" baseline="-25000">
                    <a:solidFill>
                      <a:srgbClr val="ffffff"/>
                    </a:solidFill>
                    <a:latin typeface="Arial"/>
                  </a:rPr>
                  <a:t>3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7809480" y="5546520"/>
                <a:ext cx="466200" cy="5464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40186" dir="1096358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10000"/>
                  </a:lnSpc>
                  <a:spcBef>
                    <a:spcPts val="601"/>
                  </a:spcBef>
                  <a:spcAft>
                    <a:spcPts val="6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r>
                  <a:rPr b="0" lang="en-US" sz="2400" spc="-1" strike="noStrike" baseline="-25000">
                    <a:solidFill>
                      <a:srgbClr val="ffffff"/>
                    </a:solidFill>
                    <a:latin typeface="Arial"/>
                  </a:rPr>
                  <a:t>4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9190440" y="5546520"/>
                <a:ext cx="466200" cy="5464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40186" dir="1096358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10000"/>
                  </a:lnSpc>
                  <a:spcBef>
                    <a:spcPts val="601"/>
                  </a:spcBef>
                  <a:spcAft>
                    <a:spcPts val="6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r>
                  <a:rPr b="0" lang="en-US" sz="2400" spc="-1" strike="noStrike" baseline="-25000">
                    <a:solidFill>
                      <a:srgbClr val="ffffff"/>
                    </a:solidFill>
                    <a:latin typeface="Arial"/>
                  </a:rPr>
                  <a:t>5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392760" y="3289680"/>
              <a:ext cx="1161360" cy="546480"/>
            </a:xfrm>
            <a:prstGeom prst="rect">
              <a:avLst/>
            </a:prstGeom>
            <a:noFill/>
            <a:ln w="0">
              <a:noFill/>
            </a:ln>
            <a:effectLst>
              <a:outerShdw dist="40186" dir="109635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10000"/>
                </a:lnSpc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Frame</a:t>
              </a:r>
              <a:r>
                <a:rPr b="0" lang="en-US" sz="24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92760" y="4023720"/>
              <a:ext cx="1161360" cy="546480"/>
            </a:xfrm>
            <a:prstGeom prst="rect">
              <a:avLst/>
            </a:prstGeom>
            <a:noFill/>
            <a:ln w="0">
              <a:noFill/>
            </a:ln>
            <a:effectLst>
              <a:outerShdw dist="40186" dir="109635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10000"/>
                </a:lnSpc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Frame</a:t>
              </a:r>
              <a:r>
                <a:rPr b="0" lang="en-US" sz="2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392760" y="4739760"/>
              <a:ext cx="1161360" cy="546480"/>
            </a:xfrm>
            <a:prstGeom prst="rect">
              <a:avLst/>
            </a:prstGeom>
            <a:noFill/>
            <a:ln w="0">
              <a:noFill/>
            </a:ln>
            <a:effectLst>
              <a:outerShdw dist="40186" dir="109635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10000"/>
                </a:lnSpc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Frame</a:t>
              </a:r>
              <a:r>
                <a:rPr b="0" lang="en-US" sz="24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16080" y="294840"/>
            <a:ext cx="83642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Application Architectures: </a:t>
            </a:r>
            <a:br>
              <a:rPr sz="3700"/>
            </a:b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ulti-Thread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ard part is data synchroniza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ipelining simplifies synchroniz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atch out for memory blo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16080" y="294840"/>
            <a:ext cx="83642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Application Architectures: </a:t>
            </a:r>
            <a:br>
              <a:rPr sz="3700"/>
            </a:b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cene Graph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A scene graph is the basic data structures holding the description of your scene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ull-able, sort-able, and can contain multi-resolution objec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ierarchical Bounding Volum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atistics gathering and timing infrastructur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or large scenes can do memory management and database paging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16080" y="294840"/>
            <a:ext cx="83642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Application Architectures: </a:t>
            </a:r>
            <a:br>
              <a:rPr sz="3700"/>
            </a:b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Trade-off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Qualit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pee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mor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pplication Complexit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8" name="yinyang" descr=""/>
          <p:cNvPicPr/>
          <p:nvPr/>
        </p:nvPicPr>
        <p:blipFill>
          <a:blip r:embed="rId1"/>
          <a:stretch/>
        </p:blipFill>
        <p:spPr>
          <a:xfrm>
            <a:off x="7308720" y="257040"/>
            <a:ext cx="1381320" cy="122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16080" y="294840"/>
            <a:ext cx="83642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: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Most importantly - Think about balance!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1" name="snap" descr=""/>
          <p:cNvPicPr/>
          <p:nvPr/>
        </p:nvPicPr>
        <p:blipFill>
          <a:blip r:embed="rId1">
            <a:biLevel thresh="50000"/>
            <a:lum bright="-48000"/>
          </a:blip>
          <a:stretch/>
        </p:blipFill>
        <p:spPr>
          <a:xfrm>
            <a:off x="3124080" y="2590920"/>
            <a:ext cx="3181320" cy="3181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16080" y="294840"/>
            <a:ext cx="83642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Graphics Techniqu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aching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serving data to avoid rerender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ulling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moving geometry that isn't vi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evel of Detail Management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ducing geometric complex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534520" y="3048120"/>
            <a:ext cx="1143000" cy="14144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7010280" y="4343400"/>
            <a:ext cx="1216080" cy="130824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8381880" y="5410080"/>
            <a:ext cx="951120" cy="247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ach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Don’t recompute what can be stored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Don’t redraw what has already been drawn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ach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Geometry caching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Display lis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Image caching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cking stor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Application data caching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Geometry Cach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Caches geometry in a format that can be quickly traversed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Display lists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vided by graphics API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reated by application developer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Make as flat as possible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Geometry Caching:</a:t>
            </a:r>
            <a:br>
              <a:rPr sz="3700"/>
            </a:b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Benefi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Accelerates traversal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s memory locality and data alignmen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implifies traversal logic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implifies state managemen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13T15:38:34Z</dcterms:created>
  <dc:creator>Keith Cok</dc:creator>
  <dc:description/>
  <dc:language>en-US</dc:language>
  <cp:lastModifiedBy>Keith Cok</cp:lastModifiedBy>
  <cp:lastPrinted>2000-06-06T19:18:09Z</cp:lastPrinted>
  <dcterms:modified xsi:type="dcterms:W3CDTF">2000-08-07T19:58:07Z</dcterms:modified>
  <cp:revision>32</cp:revision>
  <dc:subject/>
  <dc:title>Developing Efficient Graphics Software</dc:title>
</cp:coreProperties>
</file>