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10288588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844560" y="688680"/>
            <a:ext cx="517032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3"/>
          </p:nvPr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4"/>
          </p:nvPr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8635F-C071-4AE3-8C28-55813B3ED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844560" y="689040"/>
            <a:ext cx="5170320" cy="344628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come to the siggraph course on Developing Efficient Graphics softwa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oughout this course, we’ll be covering a variety of topics  related to writing fast graphics softwa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f adsf asdf ds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41942-022C-42E9-B1A0-D3672BAAB6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9480" y="4130640"/>
            <a:ext cx="963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C059F-55EC-4F35-A8CD-FCDE4CA619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3948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7472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DBA32-376A-4346-A495-1A0CC02B25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96040" y="198108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2600" y="198108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39480" y="413064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96040" y="413064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852600" y="413064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628BB-D58A-481A-9B25-60E8219223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D8351-C980-4E1A-A3FD-61B3E994D1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5E0A5-A1DB-46B9-B25C-3F253B3C93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22FA3-8316-4D18-8984-9E88B2F77B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4BA62-3B0F-43D1-A61F-3724778D79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3920" y="294840"/>
            <a:ext cx="8366040" cy="64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D5526-5289-4819-95AA-3141BDFF0A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3948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30303-1DA7-4AA3-827F-0D82B793EA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7472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4860B-963D-4A52-B9AE-C6BD49AFD2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39480" y="4130640"/>
            <a:ext cx="963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DBA17-9678-4A59-91AA-489734869E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7320" y="160200"/>
            <a:ext cx="9990000" cy="6594480"/>
          </a:xfrm>
          <a:prstGeom prst="rect">
            <a:avLst/>
          </a:prstGeom>
          <a:solidFill>
            <a:srgbClr val="000000"/>
          </a:solidFill>
          <a:ln w="1584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74600" y="1833480"/>
            <a:ext cx="9958320" cy="4905360"/>
          </a:xfrm>
          <a:prstGeom prst="rect">
            <a:avLst/>
          </a:prstGeom>
          <a:gradFill rotWithShape="0">
            <a:gsLst>
              <a:gs pos="0">
                <a:srgbClr val="31313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57040" y="6248520"/>
            <a:ext cx="2143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D2E5B-A794-47FB-897B-0B86A526FA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2K" descr=""/>
          <p:cNvPicPr/>
          <p:nvPr/>
        </p:nvPicPr>
        <p:blipFill>
          <a:blip r:embed="rId2"/>
          <a:stretch/>
        </p:blipFill>
        <p:spPr>
          <a:xfrm>
            <a:off x="7155000" y="5908680"/>
            <a:ext cx="2836800" cy="714240"/>
          </a:xfrm>
          <a:prstGeom prst="rect">
            <a:avLst/>
          </a:prstGeom>
          <a:ln w="0">
            <a:noFill/>
          </a:ln>
        </p:spPr>
      </p:pic>
      <p:pic>
        <p:nvPicPr>
          <p:cNvPr id="6" name="crescent" descr=""/>
          <p:cNvPicPr/>
          <p:nvPr/>
        </p:nvPicPr>
        <p:blipFill>
          <a:blip r:embed="rId3"/>
          <a:stretch/>
        </p:blipFill>
        <p:spPr>
          <a:xfrm>
            <a:off x="8777160" y="403200"/>
            <a:ext cx="1246320" cy="11066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57320" y="1824120"/>
            <a:ext cx="9986760" cy="0"/>
          </a:xfrm>
          <a:prstGeom prst="line">
            <a:avLst/>
          </a:prstGeom>
          <a:ln w="1260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1801.WAV" TargetMode="External"/><Relationship Id="rId2" Type="http://schemas.microsoft.com/office/2007/relationships/media" Target="file:///tmp/home/.config/libreoffice/4/user/gallery/~PP1801.WAV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105.WAV" TargetMode="External"/><Relationship Id="rId2" Type="http://schemas.microsoft.com/office/2007/relationships/media" Target="file:///tmp/home/.config/libreoffice/4/user/gallery/~PP105.WAV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1017.WAV" TargetMode="External"/><Relationship Id="rId2" Type="http://schemas.microsoft.com/office/2007/relationships/media" Target="file:///tmp/home/.config/libreoffice/4/user/gallery/~PP1017.WAV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1236.WAV" TargetMode="External"/><Relationship Id="rId2" Type="http://schemas.microsoft.com/office/2007/relationships/media" Target="file:///tmp/home/.config/libreoffice/4/user/gallery/~PP1236.WAV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7627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Developing Efficient Graphics Softwar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23520" y="388620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9928080" y="6499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Developing Efficient Graphics Softwar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ntent of Cours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dentify application and hardware inte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Quantify and optimize inte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dentify efficient software struct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lance software and hardware component u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9928080" y="6499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Developing Efficient Graphics Software: Agenda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1:35  General Performance Overview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2:15 Software and System Performanc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3:00 Break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3:15 Software profiling / Performance analysi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3:40 Compiler and  language issue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4:00 Graphics techniques and algorithm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4:45 Wrap-up and question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9928080" y="6499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Developing Efficient Graphics Softwar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peakers 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ngineers for SGI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timizing, differentiating graphics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Keith Cok, Bob Kuehne, Thomas True, Roger Corr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AL conten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ality.sgi.com/cok_newport/s2000/index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229600" y="4419720"/>
            <a:ext cx="1219320" cy="1218960"/>
          </a:xfrm>
          <a:prstGeom prst="ellipse">
            <a:avLst/>
          </a:prstGeom>
          <a:solidFill>
            <a:srgbClr val="9e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AL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9928080" y="6499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3T15:38:34Z</dcterms:created>
  <dc:creator>Keith Cok</dc:creator>
  <dc:description/>
  <dc:language>en-US</dc:language>
  <cp:lastModifiedBy>Keith Cok</cp:lastModifiedBy>
  <cp:lastPrinted>2000-06-06T21:04:26Z</cp:lastPrinted>
  <dcterms:modified xsi:type="dcterms:W3CDTF">2000-08-07T14:49:16Z</dcterms:modified>
  <cp:revision>18</cp:revision>
  <dc:subject/>
  <dc:title>Developing Efficient Graphics Software</dc:title>
</cp:coreProperties>
</file>