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485F-2649-4DCC-AAA4-9F35CDC02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844560" y="68904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 to the siggraph course on Developing Efficien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out this course, we’ll be covering a variety of topics  related to writing fas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 adsf asdf ds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0BF3-17A5-4F37-83FF-C5BE31381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5B46-2FEB-47E0-AAD3-F23D55D03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D1A0-7A7D-4842-85CD-D16F816B5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61D7-215B-4B0B-B221-285278C17D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C4CB-AEF6-4B4A-B7C7-0FB347BA82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C534-E34C-4CFD-B18C-6FF96FD69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2738-0D5E-4572-9A38-E0E64B202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C3D7-BF46-442C-B239-2E80CAC89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C6A6-3859-43D3-B6A5-7B663B39C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EADD-28C8-4333-AC04-224198494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6BD5-C36C-4E76-8ECA-5D5D9661A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243A-5DE8-4B28-A379-E687B7EAA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8230-BD83-42D2-9CD1-DB85D44B80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nt of Cours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component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: Agenda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:35  General Performance Overvie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2:15 Software and System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00 Break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15 Software profiling / Performance analysi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40 Compiler and  language issu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00 Graphics techniques and algorithm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45 Wrap-up and ques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peakers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gineers for SGI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ing, differentiating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ith Cok, Bob Kuehne, Thomas True, Roger Corr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L cont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ity.sgi.com/cok_newport/s2000/index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29600" y="4419720"/>
            <a:ext cx="1219320" cy="12189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21:04:26Z</cp:lastPrinted>
  <dcterms:modified xsi:type="dcterms:W3CDTF">2000-07-20T17:32:38Z</dcterms:modified>
  <cp:revision>17</cp:revision>
  <dc:subject/>
  <dc:title>Developing Efficient Graphics Software</dc:title>
</cp:coreProperties>
</file>