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7B25C-3626-4FBD-9912-30FC42FDAB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C545-2E1F-4213-9976-4713DA63E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56E58-03F1-47D7-9663-E5B802375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08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84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132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08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84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E16A4-B779-4891-A2D8-0CE994B53A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1871-994E-4995-A6C6-01FA90062E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01C8-36A9-4835-8A39-10EA6905C9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1DB65-336C-4757-848C-AE373201A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5D95-8F09-46F9-863B-D62D12DF36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9000" y="294840"/>
            <a:ext cx="743580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22B8C-C85D-4683-9BEC-BC56499EA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7AC56-C7B6-4B6F-B069-ACBD919BB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868B7-CF1E-437F-AA06-2B62D1C5B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BAE74-7045-4147-BBC7-098131D5C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9680" y="160200"/>
            <a:ext cx="888048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5520" y="1833480"/>
            <a:ext cx="885204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62C9-2F30-4F88-B8BC-CC221C6D15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6359400" y="5908680"/>
            <a:ext cx="252252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7802640" y="403200"/>
            <a:ext cx="110628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39680" y="1824120"/>
            <a:ext cx="887724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131.WAV" TargetMode="External"/><Relationship Id="rId2" Type="http://schemas.microsoft.com/office/2007/relationships/media" Target="file:///tmp/home/.config/libreoffice/4/user/gallery/~PP3131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671.WAV" TargetMode="External"/><Relationship Id="rId2" Type="http://schemas.microsoft.com/office/2007/relationships/media" Target="file:///tmp/home/.config/libreoffice/4/user/gallery/~PP2671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102.WAV" TargetMode="External"/><Relationship Id="rId2" Type="http://schemas.microsoft.com/office/2007/relationships/media" Target="file:///tmp/home/.config/libreoffice/4/user/gallery/~PP3102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Keith Cok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99480" y="6513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at we’ve learned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application and hardwar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fy and optimiz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efficient software 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software and hardware system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99480" y="6513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lance between 3 foundations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mal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 structured graphics API function cal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 tuned/written soft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99480" y="6513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yinyang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1866960" cy="1866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72200" y="2819520"/>
            <a:ext cx="1523880" cy="144756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1T01:09:48Z</dcterms:created>
  <dc:creator>Thomas J. True</dc:creator>
  <dc:description/>
  <dc:language>en-US</dc:language>
  <cp:lastModifiedBy>Keith Cok</cp:lastModifiedBy>
  <dcterms:modified xsi:type="dcterms:W3CDTF">2000-08-07T20:46:09Z</dcterms:modified>
  <cp:revision>5</cp:revision>
  <dc:subject/>
  <dc:title>Conclusion</dc:title>
</cp:coreProperties>
</file>