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C376-9190-4B82-AA5E-F41794345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AD420-65FD-45CC-88AB-59DB930D2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F047-0935-437E-830E-68D68F903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08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840" y="198108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132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08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840" y="4130640"/>
            <a:ext cx="2756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8CA14-F34F-4889-A26F-4B1149FDEB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F067-16AB-49CF-B9B3-952208A14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2739-C544-4ECA-A1E3-5523275AF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0DFAE-31A1-4DCA-8069-A5611B724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3447-AA76-41D6-936A-3E5D1195A3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9000" y="294840"/>
            <a:ext cx="743580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576E-7A2A-40F2-9127-4BAFB31F23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5C93-9193-46E9-B4CC-0079D672A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8280" y="413064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8AF4-4076-42A7-9210-4444A3031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8280" y="1981080"/>
            <a:ext cx="4177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1320" y="4130640"/>
            <a:ext cx="85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8478-41B9-447B-BA8B-75F0E4324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39680" y="160200"/>
            <a:ext cx="888048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5520" y="1833480"/>
            <a:ext cx="885204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E437-4ADD-4CA8-A133-D22FFF4DC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6359400" y="5908680"/>
            <a:ext cx="252252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7802640" y="403200"/>
            <a:ext cx="110628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39680" y="1824120"/>
            <a:ext cx="887724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Keith Cok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at we’ve learned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application and hardwar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fy and optimize inte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ntify efficient software stru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software and hardware system u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320" y="1981080"/>
            <a:ext cx="85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 between 3 foundations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ptimal algorith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structured graphics API function cal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ll tuned/written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9000" y="294840"/>
            <a:ext cx="743580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yinyang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1866960" cy="1866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172200" y="2819520"/>
            <a:ext cx="1523880" cy="144756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1T01:09:48Z</dcterms:created>
  <dc:creator>Thomas J. True</dc:creator>
  <dc:description/>
  <dc:language>en-US</dc:language>
  <cp:lastModifiedBy>Keith Cok</cp:lastModifiedBy>
  <dcterms:modified xsi:type="dcterms:W3CDTF">2000-08-07T20:42:17Z</dcterms:modified>
  <cp:revision>4</cp:revision>
  <dc:subject/>
  <dc:title>Conclusion</dc:title>
</cp:coreProperties>
</file>