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254F-D5CC-40C8-8397-9CC946EDD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CD0E-5A5E-49F2-AC21-AD3C44BA0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D4F4-76E9-487A-8565-BA9100146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593B-B939-4729-9EB6-FD1159EE92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5EAB-2FFD-4283-B470-0CE0DCA0CB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34EC-4E5B-4474-84D4-697F0DACF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D4AF-9093-4842-8DCC-F1E18E05A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C8E5-3527-4241-A524-594541507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F421-2249-494A-834B-9B43F5A0A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E62F-BC2A-403E-9706-1FDB57A8D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2834-C9F9-4AF5-8907-F90FFCBD2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B627-B185-423E-96D4-CBF196D87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7847-E009-4B3F-9FFD-397BC087A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 and Algorithms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3840" y="399744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Roger Corron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28080" y="6499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rely part of the graphics system, since the general case is expensive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eneral case is rarely needed, so you can develop an implementation tuned to your nee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ccelerated offscreen frame buffer if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mage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traversal and geometry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thing is traversed, transformed, or li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offscreen frame buffer is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ptimizes fill rat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graphics system does not have to calculate individu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xels, but simply copy them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atabase roam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fetch nearest neighb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arge textur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08400" y="3505320"/>
            <a:ext cx="14781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 Typ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se one. Use all. Pipeline them together.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ew Frustum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face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sion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ibution 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unding Volum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st against a bounding volume not individual primitiv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bounding sphere, box, screen oriented box, or any enclos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 to reduce cull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heres are fast, boxes are more accu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 combination of bo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ipeline clips data that falls outside the View Frustum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data will be completely clipped, don’t  draw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743200" y="3048120"/>
            <a:ext cx="3857400" cy="2209680"/>
            <a:chOff x="2743200" y="3048120"/>
            <a:chExt cx="3857400" cy="2209680"/>
          </a:xfrm>
        </p:grpSpPr>
        <p:sp>
          <p:nvSpPr>
            <p:cNvPr id="99" name=""/>
            <p:cNvSpPr/>
            <p:nvPr/>
          </p:nvSpPr>
          <p:spPr>
            <a:xfrm>
              <a:off x="2743200" y="3048120"/>
              <a:ext cx="3857400" cy="2209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14560" y="3124080"/>
              <a:ext cx="1492920" cy="1363320"/>
            </a:xfrm>
            <a:custGeom>
              <a:avLst/>
              <a:gdLst/>
              <a:ahLst/>
              <a:rect l="l" t="t" r="r" b="b"/>
              <a:pathLst>
                <a:path w="836" h="859">
                  <a:moveTo>
                    <a:pt x="0" y="0"/>
                  </a:moveTo>
                  <a:lnTo>
                    <a:pt x="836" y="238"/>
                  </a:lnTo>
                  <a:lnTo>
                    <a:pt x="835" y="859"/>
                  </a:lnTo>
                  <a:lnTo>
                    <a:pt x="4" y="6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71720" y="3657600"/>
              <a:ext cx="1028520" cy="9140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93040" y="3120840"/>
              <a:ext cx="1708920" cy="2009520"/>
            </a:xfrm>
            <a:custGeom>
              <a:avLst/>
              <a:gdLst/>
              <a:ahLst/>
              <a:rect l="l" t="t" r="r" b="b"/>
              <a:pathLst>
                <a:path w="957" h="1266">
                  <a:moveTo>
                    <a:pt x="0" y="1266"/>
                  </a:moveTo>
                  <a:lnTo>
                    <a:pt x="957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93040" y="3504960"/>
              <a:ext cx="3221640" cy="1625400"/>
            </a:xfrm>
            <a:custGeom>
              <a:avLst/>
              <a:gdLst/>
              <a:ahLst/>
              <a:rect l="l" t="t" r="r" b="b"/>
              <a:pathLst>
                <a:path w="1804" h="1024">
                  <a:moveTo>
                    <a:pt x="0" y="1024"/>
                  </a:moveTo>
                  <a:lnTo>
                    <a:pt x="1804" y="0"/>
                  </a:lnTo>
                </a:path>
              </a:pathLst>
            </a:custGeom>
            <a:noFill/>
            <a:ln w="9360">
              <a:solidFill>
                <a:srgbClr val="863d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3040" y="4498920"/>
              <a:ext cx="3230640" cy="631440"/>
            </a:xfrm>
            <a:custGeom>
              <a:avLst/>
              <a:gdLst/>
              <a:ahLst/>
              <a:rect l="l" t="t" r="r" b="b"/>
              <a:pathLst>
                <a:path w="1809" h="398">
                  <a:moveTo>
                    <a:pt x="0" y="398"/>
                  </a:moveTo>
                  <a:lnTo>
                    <a:pt x="1809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7040" y="4114800"/>
              <a:ext cx="771480" cy="685440"/>
            </a:xfrm>
            <a:custGeom>
              <a:avLst/>
              <a:gdLst/>
              <a:ahLst/>
              <a:rect l="l" t="t" r="r" b="b"/>
              <a:pathLst>
                <a:path w="651" h="732">
                  <a:moveTo>
                    <a:pt x="0" y="0"/>
                  </a:moveTo>
                  <a:lnTo>
                    <a:pt x="642" y="201"/>
                  </a:lnTo>
                  <a:lnTo>
                    <a:pt x="651" y="732"/>
                  </a:lnTo>
                  <a:lnTo>
                    <a:pt x="3" y="52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00480" y="3048120"/>
              <a:ext cx="509040" cy="304560"/>
            </a:xfrm>
            <a:custGeom>
              <a:avLst/>
              <a:gdLst/>
              <a:ahLst/>
              <a:rect l="l" t="t" r="r" b="b"/>
              <a:pathLst>
                <a:path w="657" h="654">
                  <a:moveTo>
                    <a:pt x="0" y="651"/>
                  </a:moveTo>
                  <a:lnTo>
                    <a:pt x="411" y="0"/>
                  </a:lnTo>
                  <a:lnTo>
                    <a:pt x="657" y="654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3962160"/>
              <a:ext cx="599760" cy="609480"/>
            </a:xfrm>
            <a:custGeom>
              <a:avLst/>
              <a:gdLst/>
              <a:ahLst/>
              <a:rect l="l" t="t" r="r" b="b"/>
              <a:pathLst>
                <a:path w="240" h="375">
                  <a:moveTo>
                    <a:pt x="0" y="306"/>
                  </a:moveTo>
                  <a:lnTo>
                    <a:pt x="189" y="0"/>
                  </a:lnTo>
                  <a:lnTo>
                    <a:pt x="240" y="375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43080" y="3504960"/>
              <a:ext cx="469800" cy="425160"/>
            </a:xfrm>
            <a:custGeom>
              <a:avLst/>
              <a:gdLst/>
              <a:ahLst/>
              <a:rect l="l" t="t" r="r" b="b"/>
              <a:pathLst>
                <a:path w="234" h="228">
                  <a:moveTo>
                    <a:pt x="0" y="228"/>
                  </a:moveTo>
                  <a:lnTo>
                    <a:pt x="103" y="0"/>
                  </a:lnTo>
                  <a:lnTo>
                    <a:pt x="234" y="13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60520" y="4241520"/>
              <a:ext cx="430200" cy="46008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192"/>
                  </a:moveTo>
                  <a:lnTo>
                    <a:pt x="54" y="0"/>
                  </a:lnTo>
                  <a:lnTo>
                    <a:pt x="214" y="24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79393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32280" y="3749400"/>
              <a:ext cx="1157400" cy="1074600"/>
            </a:xfrm>
            <a:prstGeom prst="rtTriangle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96640" y="4114800"/>
              <a:ext cx="1717920" cy="1012320"/>
            </a:xfrm>
            <a:custGeom>
              <a:avLst/>
              <a:gdLst/>
              <a:ahLst/>
              <a:rect l="l" t="t" r="r" b="b"/>
              <a:pathLst>
                <a:path w="962" h="638">
                  <a:moveTo>
                    <a:pt x="0" y="638"/>
                  </a:moveTo>
                  <a:lnTo>
                    <a:pt x="962" y="0"/>
                  </a:lnTo>
                </a:path>
              </a:pathLst>
            </a:custGeom>
            <a:noFill/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25160" y="3619440"/>
              <a:ext cx="387360" cy="282240"/>
            </a:xfrm>
            <a:custGeom>
              <a:avLst/>
              <a:gdLst/>
              <a:ahLst/>
              <a:rect l="l" t="t" r="r" b="b"/>
              <a:pathLst>
                <a:path w="217" h="178">
                  <a:moveTo>
                    <a:pt x="0" y="178"/>
                  </a:moveTo>
                  <a:lnTo>
                    <a:pt x="139" y="0"/>
                  </a:lnTo>
                  <a:lnTo>
                    <a:pt x="217" y="83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28440">
              <a:solidFill>
                <a:srgbClr val="863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geometry r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led vertices are not transformed, lit, and cli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data moved from memory into graph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not change fill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ngles outside the View Frustum would not have been rasterized any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View Frustum 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form bounding volume  to clip coordinates (in OpenGL multiply by Model-View and Projection matri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ck each volume against View Frust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ometry is eithe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Ou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kip the Clip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n software transform systems (GTX-RD)  skip the clip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Parti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geometry classifi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ipe renders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Parti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s u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ipe can render </a:t>
            </a:r>
            <a:r>
              <a:rPr b="0" i="1" lang="en-US" sz="2400" spc="-1" strike="noStrike">
                <a:solidFill>
                  <a:srgbClr val="fec524"/>
                </a:solidFill>
                <a:latin typeface="Arial"/>
              </a:rPr>
              <a:t>I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without a View Frustum cl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e a hint to ren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geometry rates if not already fill-limi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o write an efficient graphics application, one must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the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raphics efficie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rite good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c524"/>
                </a:solidFill>
                <a:latin typeface="Arial"/>
              </a:rPr>
              <a:t>Use efficient application structures and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Only half of any closed polyhedron is visible at any one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what you can’t se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bunny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3848040" cy="35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ackface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fill rate when using a native imple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itives are transformed and lit before cu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lps both geometry and fill with an application specific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computationally exp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raphics and CPU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not be used when you enter closed geometry or need two-sided ligh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41280" y="2649600"/>
            <a:ext cx="7742520" cy="2674800"/>
          </a:xfrm>
          <a:prstGeom prst="rect">
            <a:avLst/>
          </a:prstGeom>
          <a:solidFill>
            <a:srgbClr val="86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you can’t see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draw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oc1" descr=""/>
          <p:cNvPicPr/>
          <p:nvPr/>
        </p:nvPicPr>
        <p:blipFill>
          <a:blip r:embed="rId1"/>
          <a:stretch/>
        </p:blipFill>
        <p:spPr>
          <a:xfrm>
            <a:off x="1312920" y="3033720"/>
            <a:ext cx="3316320" cy="1554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occ2" descr=""/>
          <p:cNvPicPr/>
          <p:nvPr/>
        </p:nvPicPr>
        <p:blipFill>
          <a:blip r:embed="rId2"/>
          <a:stretch/>
        </p:blipFill>
        <p:spPr>
          <a:xfrm>
            <a:off x="5138640" y="3033720"/>
            <a:ext cx="3745080" cy="1554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311120" y="2340000"/>
            <a:ext cx="102888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58720" y="4614840"/>
            <a:ext cx="89316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0400" y="4614840"/>
            <a:ext cx="789480" cy="491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Goa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nd the optimal set of occluders that will enable drawing the minimal number of occludee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ders: The geometry that is vi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ludees: The geometry that is not visib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general purpose occlusion culling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application specific spatial knowledge if possi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Culling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transform-limited, fill-limited, and bandwidth-limited 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ationally expens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ware of time trade-o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ssible hardware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neral Occlusion Cull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d for arbitrar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mprove both transform limited and fill limited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ationally expensive for arbitrary sce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cclusion Spatial Partition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ell and Portal” Cull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atial organization leads to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Cell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ort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mes that move from room to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chitectural walkthrough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walk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19520" y="4267080"/>
            <a:ext cx="438768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9320" y="2895480"/>
            <a:ext cx="7727760" cy="24386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f it’s too small to make a differe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676520" y="3733920"/>
            <a:ext cx="3390480" cy="785520"/>
            <a:chOff x="1676520" y="3733920"/>
            <a:chExt cx="3390480" cy="785520"/>
          </a:xfrm>
        </p:grpSpPr>
        <p:grpSp>
          <p:nvGrpSpPr>
            <p:cNvPr id="145" name=""/>
            <p:cNvGrpSpPr/>
            <p:nvPr/>
          </p:nvGrpSpPr>
          <p:grpSpPr>
            <a:xfrm>
              <a:off x="1676520" y="3733920"/>
              <a:ext cx="3390480" cy="707760"/>
              <a:chOff x="1676520" y="3733920"/>
              <a:chExt cx="3390480" cy="7077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854000" y="3733920"/>
                <a:ext cx="2325600" cy="276840"/>
                <a:chOff x="1854000" y="3733920"/>
                <a:chExt cx="2325600" cy="27684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2670480" y="3763440"/>
                  <a:ext cx="1242000" cy="243720"/>
                  <a:chOff x="2670480" y="3763440"/>
                  <a:chExt cx="1242000" cy="24372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2945520" y="3771720"/>
                    <a:ext cx="790920" cy="210240"/>
                    <a:chOff x="2945520" y="3771720"/>
                    <a:chExt cx="790920" cy="21024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2945520" y="3771720"/>
                      <a:ext cx="13536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334">
                          <a:moveTo>
                            <a:pt x="5" y="4"/>
                          </a:moveTo>
                          <a:lnTo>
                            <a:pt x="0" y="0"/>
                          </a:lnTo>
                          <a:lnTo>
                            <a:pt x="155" y="334"/>
                          </a:lnTo>
                          <a:lnTo>
                            <a:pt x="236" y="334"/>
                          </a:lnTo>
                          <a:lnTo>
                            <a:pt x="65" y="0"/>
                          </a:lnTo>
                          <a:lnTo>
                            <a:pt x="5" y="4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611520" y="3867120"/>
                      <a:ext cx="124920" cy="11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223">
                          <a:moveTo>
                            <a:pt x="58" y="25"/>
                          </a:moveTo>
                          <a:lnTo>
                            <a:pt x="64" y="21"/>
                          </a:lnTo>
                          <a:lnTo>
                            <a:pt x="218" y="223"/>
                          </a:lnTo>
                          <a:lnTo>
                            <a:pt x="143" y="211"/>
                          </a:lnTo>
                          <a:lnTo>
                            <a:pt x="0" y="0"/>
                          </a:lnTo>
                          <a:lnTo>
                            <a:pt x="58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" name=""/>
                  <p:cNvSpPr/>
                  <p:nvPr/>
                </p:nvSpPr>
                <p:spPr>
                  <a:xfrm>
                    <a:off x="2670480" y="3763440"/>
                    <a:ext cx="124200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475">
                        <a:moveTo>
                          <a:pt x="16" y="64"/>
                        </a:moveTo>
                        <a:lnTo>
                          <a:pt x="220" y="55"/>
                        </a:lnTo>
                        <a:lnTo>
                          <a:pt x="375" y="55"/>
                        </a:lnTo>
                        <a:lnTo>
                          <a:pt x="585" y="43"/>
                        </a:lnTo>
                        <a:lnTo>
                          <a:pt x="778" y="43"/>
                        </a:lnTo>
                        <a:lnTo>
                          <a:pt x="996" y="43"/>
                        </a:lnTo>
                        <a:lnTo>
                          <a:pt x="1190" y="49"/>
                        </a:lnTo>
                        <a:lnTo>
                          <a:pt x="1283" y="62"/>
                        </a:lnTo>
                        <a:lnTo>
                          <a:pt x="1362" y="80"/>
                        </a:lnTo>
                        <a:lnTo>
                          <a:pt x="1450" y="111"/>
                        </a:lnTo>
                        <a:lnTo>
                          <a:pt x="1534" y="146"/>
                        </a:lnTo>
                        <a:lnTo>
                          <a:pt x="1840" y="304"/>
                        </a:lnTo>
                        <a:lnTo>
                          <a:pt x="2003" y="378"/>
                        </a:lnTo>
                        <a:lnTo>
                          <a:pt x="2096" y="439"/>
                        </a:lnTo>
                        <a:lnTo>
                          <a:pt x="2011" y="437"/>
                        </a:lnTo>
                        <a:lnTo>
                          <a:pt x="0" y="283"/>
                        </a:lnTo>
                        <a:lnTo>
                          <a:pt x="3" y="330"/>
                        </a:lnTo>
                        <a:lnTo>
                          <a:pt x="2102" y="475"/>
                        </a:lnTo>
                        <a:lnTo>
                          <a:pt x="2167" y="463"/>
                        </a:lnTo>
                        <a:lnTo>
                          <a:pt x="2134" y="421"/>
                        </a:lnTo>
                        <a:lnTo>
                          <a:pt x="2076" y="378"/>
                        </a:lnTo>
                        <a:lnTo>
                          <a:pt x="1935" y="304"/>
                        </a:lnTo>
                        <a:lnTo>
                          <a:pt x="1825" y="245"/>
                        </a:lnTo>
                        <a:lnTo>
                          <a:pt x="1547" y="108"/>
                        </a:lnTo>
                        <a:lnTo>
                          <a:pt x="1421" y="59"/>
                        </a:lnTo>
                        <a:lnTo>
                          <a:pt x="1297" y="28"/>
                        </a:lnTo>
                        <a:lnTo>
                          <a:pt x="1019" y="0"/>
                        </a:lnTo>
                        <a:lnTo>
                          <a:pt x="638" y="0"/>
                        </a:lnTo>
                        <a:lnTo>
                          <a:pt x="16" y="33"/>
                        </a:lnTo>
                        <a:lnTo>
                          <a:pt x="16" y="64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" name=""/>
                <p:cNvSpPr/>
                <p:nvPr/>
              </p:nvSpPr>
              <p:spPr>
                <a:xfrm>
                  <a:off x="1854000" y="3733920"/>
                  <a:ext cx="2325600" cy="276840"/>
                </a:xfrm>
                <a:custGeom>
                  <a:avLst/>
                  <a:gdLst/>
                  <a:ahLst/>
                  <a:rect l="l" t="t" r="r" b="b"/>
                  <a:pathLst>
                    <a:path w="4057" h="537">
                      <a:moveTo>
                        <a:pt x="0" y="359"/>
                      </a:moveTo>
                      <a:lnTo>
                        <a:pt x="156" y="337"/>
                      </a:lnTo>
                      <a:lnTo>
                        <a:pt x="276" y="310"/>
                      </a:lnTo>
                      <a:lnTo>
                        <a:pt x="357" y="286"/>
                      </a:lnTo>
                      <a:lnTo>
                        <a:pt x="423" y="268"/>
                      </a:lnTo>
                      <a:lnTo>
                        <a:pt x="510" y="246"/>
                      </a:lnTo>
                      <a:lnTo>
                        <a:pt x="583" y="224"/>
                      </a:lnTo>
                      <a:lnTo>
                        <a:pt x="667" y="203"/>
                      </a:lnTo>
                      <a:lnTo>
                        <a:pt x="742" y="187"/>
                      </a:lnTo>
                      <a:lnTo>
                        <a:pt x="827" y="174"/>
                      </a:lnTo>
                      <a:lnTo>
                        <a:pt x="896" y="162"/>
                      </a:lnTo>
                      <a:lnTo>
                        <a:pt x="955" y="152"/>
                      </a:lnTo>
                      <a:lnTo>
                        <a:pt x="1043" y="138"/>
                      </a:lnTo>
                      <a:lnTo>
                        <a:pt x="1118" y="126"/>
                      </a:lnTo>
                      <a:lnTo>
                        <a:pt x="1189" y="115"/>
                      </a:lnTo>
                      <a:lnTo>
                        <a:pt x="1263" y="95"/>
                      </a:lnTo>
                      <a:lnTo>
                        <a:pt x="1323" y="64"/>
                      </a:lnTo>
                      <a:lnTo>
                        <a:pt x="1367" y="30"/>
                      </a:lnTo>
                      <a:lnTo>
                        <a:pt x="1455" y="25"/>
                      </a:lnTo>
                      <a:lnTo>
                        <a:pt x="1582" y="23"/>
                      </a:lnTo>
                      <a:lnTo>
                        <a:pt x="1726" y="11"/>
                      </a:lnTo>
                      <a:lnTo>
                        <a:pt x="1838" y="5"/>
                      </a:lnTo>
                      <a:lnTo>
                        <a:pt x="2004" y="2"/>
                      </a:lnTo>
                      <a:lnTo>
                        <a:pt x="2164" y="1"/>
                      </a:lnTo>
                      <a:lnTo>
                        <a:pt x="2317" y="0"/>
                      </a:lnTo>
                      <a:lnTo>
                        <a:pt x="2434" y="0"/>
                      </a:lnTo>
                      <a:lnTo>
                        <a:pt x="2561" y="10"/>
                      </a:lnTo>
                      <a:lnTo>
                        <a:pt x="2691" y="30"/>
                      </a:lnTo>
                      <a:lnTo>
                        <a:pt x="2788" y="54"/>
                      </a:lnTo>
                      <a:lnTo>
                        <a:pt x="2874" y="77"/>
                      </a:lnTo>
                      <a:lnTo>
                        <a:pt x="2968" y="106"/>
                      </a:lnTo>
                      <a:lnTo>
                        <a:pt x="3070" y="138"/>
                      </a:lnTo>
                      <a:lnTo>
                        <a:pt x="3174" y="174"/>
                      </a:lnTo>
                      <a:lnTo>
                        <a:pt x="3285" y="211"/>
                      </a:lnTo>
                      <a:lnTo>
                        <a:pt x="3393" y="249"/>
                      </a:lnTo>
                      <a:lnTo>
                        <a:pt x="3507" y="285"/>
                      </a:lnTo>
                      <a:lnTo>
                        <a:pt x="3593" y="314"/>
                      </a:lnTo>
                      <a:lnTo>
                        <a:pt x="3672" y="335"/>
                      </a:lnTo>
                      <a:lnTo>
                        <a:pt x="3758" y="367"/>
                      </a:lnTo>
                      <a:lnTo>
                        <a:pt x="3848" y="395"/>
                      </a:lnTo>
                      <a:lnTo>
                        <a:pt x="3958" y="431"/>
                      </a:lnTo>
                      <a:lnTo>
                        <a:pt x="4057" y="468"/>
                      </a:lnTo>
                      <a:lnTo>
                        <a:pt x="4017" y="494"/>
                      </a:lnTo>
                      <a:lnTo>
                        <a:pt x="3958" y="510"/>
                      </a:lnTo>
                      <a:lnTo>
                        <a:pt x="3893" y="527"/>
                      </a:lnTo>
                      <a:lnTo>
                        <a:pt x="3812" y="536"/>
                      </a:lnTo>
                      <a:lnTo>
                        <a:pt x="3705" y="537"/>
                      </a:lnTo>
                      <a:lnTo>
                        <a:pt x="3598" y="534"/>
                      </a:lnTo>
                      <a:lnTo>
                        <a:pt x="3571" y="494"/>
                      </a:lnTo>
                      <a:lnTo>
                        <a:pt x="3545" y="468"/>
                      </a:lnTo>
                      <a:lnTo>
                        <a:pt x="3494" y="432"/>
                      </a:lnTo>
                      <a:lnTo>
                        <a:pt x="3385" y="373"/>
                      </a:lnTo>
                      <a:lnTo>
                        <a:pt x="3249" y="302"/>
                      </a:lnTo>
                      <a:lnTo>
                        <a:pt x="3128" y="242"/>
                      </a:lnTo>
                      <a:lnTo>
                        <a:pt x="2981" y="168"/>
                      </a:lnTo>
                      <a:lnTo>
                        <a:pt x="2858" y="121"/>
                      </a:lnTo>
                      <a:lnTo>
                        <a:pt x="2741" y="87"/>
                      </a:lnTo>
                      <a:lnTo>
                        <a:pt x="2646" y="75"/>
                      </a:lnTo>
                      <a:lnTo>
                        <a:pt x="2470" y="57"/>
                      </a:lnTo>
                      <a:lnTo>
                        <a:pt x="2241" y="56"/>
                      </a:lnTo>
                      <a:lnTo>
                        <a:pt x="1972" y="63"/>
                      </a:lnTo>
                      <a:lnTo>
                        <a:pt x="1768" y="70"/>
                      </a:lnTo>
                      <a:lnTo>
                        <a:pt x="1440" y="87"/>
                      </a:lnTo>
                      <a:lnTo>
                        <a:pt x="1421" y="408"/>
                      </a:lnTo>
                      <a:lnTo>
                        <a:pt x="0" y="35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1919520" y="4005720"/>
                <a:ext cx="3145320" cy="435960"/>
              </a:xfrm>
              <a:custGeom>
                <a:avLst/>
                <a:gdLst/>
                <a:ahLst/>
                <a:rect l="l" t="t" r="r" b="b"/>
                <a:pathLst>
                  <a:path w="5487" h="850">
                    <a:moveTo>
                      <a:pt x="4630" y="403"/>
                    </a:moveTo>
                    <a:lnTo>
                      <a:pt x="4672" y="531"/>
                    </a:lnTo>
                    <a:lnTo>
                      <a:pt x="4672" y="629"/>
                    </a:lnTo>
                    <a:lnTo>
                      <a:pt x="5487" y="629"/>
                    </a:lnTo>
                    <a:lnTo>
                      <a:pt x="5430" y="695"/>
                    </a:lnTo>
                    <a:lnTo>
                      <a:pt x="5468" y="770"/>
                    </a:lnTo>
                    <a:lnTo>
                      <a:pt x="5468" y="805"/>
                    </a:lnTo>
                    <a:lnTo>
                      <a:pt x="5443" y="829"/>
                    </a:lnTo>
                    <a:lnTo>
                      <a:pt x="4975" y="829"/>
                    </a:lnTo>
                    <a:lnTo>
                      <a:pt x="4937" y="850"/>
                    </a:lnTo>
                    <a:lnTo>
                      <a:pt x="4698" y="850"/>
                    </a:lnTo>
                    <a:lnTo>
                      <a:pt x="4666" y="826"/>
                    </a:lnTo>
                    <a:lnTo>
                      <a:pt x="325" y="826"/>
                    </a:lnTo>
                    <a:lnTo>
                      <a:pt x="153" y="671"/>
                    </a:lnTo>
                    <a:lnTo>
                      <a:pt x="18" y="723"/>
                    </a:lnTo>
                    <a:lnTo>
                      <a:pt x="0" y="310"/>
                    </a:lnTo>
                    <a:lnTo>
                      <a:pt x="331" y="0"/>
                    </a:lnTo>
                    <a:lnTo>
                      <a:pt x="847" y="12"/>
                    </a:lnTo>
                    <a:lnTo>
                      <a:pt x="3538" y="695"/>
                    </a:lnTo>
                    <a:lnTo>
                      <a:pt x="3614" y="613"/>
                    </a:lnTo>
                    <a:lnTo>
                      <a:pt x="3681" y="401"/>
                    </a:lnTo>
                    <a:lnTo>
                      <a:pt x="3776" y="227"/>
                    </a:lnTo>
                    <a:lnTo>
                      <a:pt x="4058" y="87"/>
                    </a:lnTo>
                    <a:lnTo>
                      <a:pt x="4321" y="94"/>
                    </a:lnTo>
                    <a:lnTo>
                      <a:pt x="4517" y="196"/>
                    </a:lnTo>
                    <a:lnTo>
                      <a:pt x="4630" y="4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1676520" y="3823200"/>
                <a:ext cx="3390480" cy="554760"/>
                <a:chOff x="1676520" y="3823200"/>
                <a:chExt cx="3390480" cy="55476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1676520" y="4003200"/>
                  <a:ext cx="203760" cy="317880"/>
                  <a:chOff x="1676520" y="4003200"/>
                  <a:chExt cx="203760" cy="317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1693440" y="4068720"/>
                    <a:ext cx="7776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693440" y="4003200"/>
                    <a:ext cx="77760" cy="2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693440" y="4044240"/>
                    <a:ext cx="77760" cy="1116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693440" y="4028400"/>
                    <a:ext cx="15084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640" y="21599"/>
                        </a:moveTo>
                        <a:arcTo wR="10800" hR="10800" stAng="5450983" swAng="539632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640" y="21599"/>
                        </a:moveTo>
                        <a:arcTo wR="10800" hR="10800" stAng="5450983" swAng="5396328"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1676520" y="4285080"/>
                    <a:ext cx="203760" cy="11160"/>
                    <a:chOff x="1676520" y="4285080"/>
                    <a:chExt cx="203760" cy="111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685520" y="428508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1676520" y="428508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1676520" y="4309920"/>
                    <a:ext cx="203760" cy="11160"/>
                    <a:chOff x="1676520" y="4309920"/>
                    <a:chExt cx="203760" cy="1116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1685520" y="43099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1676520" y="43099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1676520" y="4259520"/>
                    <a:ext cx="203760" cy="11160"/>
                    <a:chOff x="1676520" y="4259520"/>
                    <a:chExt cx="203760" cy="1116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1685520" y="4259520"/>
                      <a:ext cx="1947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1676520" y="4259520"/>
                      <a:ext cx="22680" cy="111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9" name=""/>
                <p:cNvSpPr/>
                <p:nvPr/>
              </p:nvSpPr>
              <p:spPr>
                <a:xfrm>
                  <a:off x="1693440" y="3917880"/>
                  <a:ext cx="3373560" cy="460080"/>
                </a:xfrm>
                <a:custGeom>
                  <a:avLst/>
                  <a:gdLst/>
                  <a:ahLst/>
                  <a:rect l="l" t="t" r="r" b="b"/>
                  <a:pathLst>
                    <a:path w="5884" h="896">
                      <a:moveTo>
                        <a:pt x="294" y="0"/>
                      </a:moveTo>
                      <a:lnTo>
                        <a:pt x="34" y="0"/>
                      </a:lnTo>
                      <a:lnTo>
                        <a:pt x="0" y="139"/>
                      </a:lnTo>
                      <a:lnTo>
                        <a:pt x="115" y="139"/>
                      </a:lnTo>
                      <a:lnTo>
                        <a:pt x="115" y="639"/>
                      </a:lnTo>
                      <a:lnTo>
                        <a:pt x="341" y="865"/>
                      </a:lnTo>
                      <a:lnTo>
                        <a:pt x="392" y="888"/>
                      </a:lnTo>
                      <a:lnTo>
                        <a:pt x="435" y="896"/>
                      </a:lnTo>
                      <a:lnTo>
                        <a:pt x="428" y="782"/>
                      </a:lnTo>
                      <a:lnTo>
                        <a:pt x="422" y="646"/>
                      </a:lnTo>
                      <a:lnTo>
                        <a:pt x="452" y="531"/>
                      </a:lnTo>
                      <a:lnTo>
                        <a:pt x="494" y="446"/>
                      </a:lnTo>
                      <a:lnTo>
                        <a:pt x="549" y="371"/>
                      </a:lnTo>
                      <a:lnTo>
                        <a:pt x="628" y="297"/>
                      </a:lnTo>
                      <a:lnTo>
                        <a:pt x="721" y="242"/>
                      </a:lnTo>
                      <a:lnTo>
                        <a:pt x="851" y="208"/>
                      </a:lnTo>
                      <a:lnTo>
                        <a:pt x="1021" y="195"/>
                      </a:lnTo>
                      <a:lnTo>
                        <a:pt x="1139" y="225"/>
                      </a:lnTo>
                      <a:lnTo>
                        <a:pt x="1226" y="273"/>
                      </a:lnTo>
                      <a:lnTo>
                        <a:pt x="1298" y="327"/>
                      </a:lnTo>
                      <a:lnTo>
                        <a:pt x="1384" y="412"/>
                      </a:lnTo>
                      <a:lnTo>
                        <a:pt x="1439" y="506"/>
                      </a:lnTo>
                      <a:lnTo>
                        <a:pt x="1475" y="590"/>
                      </a:lnTo>
                      <a:lnTo>
                        <a:pt x="1487" y="671"/>
                      </a:lnTo>
                      <a:lnTo>
                        <a:pt x="1487" y="846"/>
                      </a:lnTo>
                      <a:lnTo>
                        <a:pt x="4058" y="896"/>
                      </a:lnTo>
                      <a:lnTo>
                        <a:pt x="4058" y="725"/>
                      </a:lnTo>
                      <a:lnTo>
                        <a:pt x="4094" y="609"/>
                      </a:lnTo>
                      <a:lnTo>
                        <a:pt x="4136" y="518"/>
                      </a:lnTo>
                      <a:lnTo>
                        <a:pt x="4199" y="433"/>
                      </a:lnTo>
                      <a:lnTo>
                        <a:pt x="4290" y="358"/>
                      </a:lnTo>
                      <a:lnTo>
                        <a:pt x="4382" y="309"/>
                      </a:lnTo>
                      <a:lnTo>
                        <a:pt x="4473" y="280"/>
                      </a:lnTo>
                      <a:lnTo>
                        <a:pt x="4633" y="280"/>
                      </a:lnTo>
                      <a:lnTo>
                        <a:pt x="4718" y="297"/>
                      </a:lnTo>
                      <a:lnTo>
                        <a:pt x="4805" y="335"/>
                      </a:lnTo>
                      <a:lnTo>
                        <a:pt x="4883" y="401"/>
                      </a:lnTo>
                      <a:lnTo>
                        <a:pt x="4958" y="487"/>
                      </a:lnTo>
                      <a:lnTo>
                        <a:pt x="5007" y="590"/>
                      </a:lnTo>
                      <a:lnTo>
                        <a:pt x="5037" y="701"/>
                      </a:lnTo>
                      <a:lnTo>
                        <a:pt x="5037" y="816"/>
                      </a:lnTo>
                      <a:lnTo>
                        <a:pt x="5884" y="813"/>
                      </a:lnTo>
                      <a:lnTo>
                        <a:pt x="5884" y="776"/>
                      </a:lnTo>
                      <a:lnTo>
                        <a:pt x="5857" y="776"/>
                      </a:lnTo>
                      <a:lnTo>
                        <a:pt x="5857" y="721"/>
                      </a:lnTo>
                      <a:lnTo>
                        <a:pt x="5883" y="718"/>
                      </a:lnTo>
                      <a:lnTo>
                        <a:pt x="5883" y="552"/>
                      </a:lnTo>
                      <a:lnTo>
                        <a:pt x="5860" y="518"/>
                      </a:lnTo>
                      <a:lnTo>
                        <a:pt x="5663" y="420"/>
                      </a:lnTo>
                      <a:lnTo>
                        <a:pt x="5447" y="335"/>
                      </a:lnTo>
                      <a:lnTo>
                        <a:pt x="5186" y="255"/>
                      </a:lnTo>
                      <a:lnTo>
                        <a:pt x="4903" y="188"/>
                      </a:lnTo>
                      <a:lnTo>
                        <a:pt x="4643" y="133"/>
                      </a:lnTo>
                      <a:lnTo>
                        <a:pt x="4395" y="90"/>
                      </a:lnTo>
                      <a:lnTo>
                        <a:pt x="4310" y="90"/>
                      </a:lnTo>
                      <a:lnTo>
                        <a:pt x="4254" y="114"/>
                      </a:lnTo>
                      <a:lnTo>
                        <a:pt x="3990" y="152"/>
                      </a:lnTo>
                      <a:lnTo>
                        <a:pt x="3781" y="170"/>
                      </a:lnTo>
                      <a:lnTo>
                        <a:pt x="2683" y="101"/>
                      </a:lnTo>
                      <a:lnTo>
                        <a:pt x="2156" y="59"/>
                      </a:lnTo>
                      <a:lnTo>
                        <a:pt x="1660" y="22"/>
                      </a:lnTo>
                      <a:lnTo>
                        <a:pt x="1409" y="4"/>
                      </a:lnTo>
                      <a:lnTo>
                        <a:pt x="29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049920" y="3954960"/>
                  <a:ext cx="680040" cy="414720"/>
                </a:xfrm>
                <a:custGeom>
                  <a:avLst/>
                  <a:gdLst/>
                  <a:ahLst/>
                  <a:rect l="l" t="t" r="r" b="b"/>
                  <a:pathLst>
                    <a:path w="1188" h="806">
                      <a:moveTo>
                        <a:pt x="0" y="0"/>
                      </a:moveTo>
                      <a:lnTo>
                        <a:pt x="0" y="787"/>
                      </a:lnTo>
                      <a:lnTo>
                        <a:pt x="1188" y="806"/>
                      </a:lnTo>
                      <a:lnTo>
                        <a:pt x="1188" y="85"/>
                      </a:lnTo>
                      <a:lnTo>
                        <a:pt x="1030" y="69"/>
                      </a:lnTo>
                      <a:lnTo>
                        <a:pt x="814" y="54"/>
                      </a:lnTo>
                      <a:lnTo>
                        <a:pt x="596" y="44"/>
                      </a:lnTo>
                      <a:lnTo>
                        <a:pt x="455" y="31"/>
                      </a:lnTo>
                      <a:lnTo>
                        <a:pt x="316" y="23"/>
                      </a:lnTo>
                      <a:lnTo>
                        <a:pt x="129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2500560" y="3823200"/>
                  <a:ext cx="1143000" cy="470880"/>
                  <a:chOff x="2500560" y="3823200"/>
                  <a:chExt cx="1143000" cy="4708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2500560" y="3823200"/>
                    <a:ext cx="130680" cy="648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2524680" y="3845520"/>
                    <a:ext cx="18000" cy="16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922480" y="4011480"/>
                    <a:ext cx="721080" cy="282600"/>
                    <a:chOff x="2922480" y="4011480"/>
                    <a:chExt cx="721080" cy="28260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922480" y="4203720"/>
                      <a:ext cx="72108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76">
                          <a:moveTo>
                            <a:pt x="0" y="98"/>
                          </a:moveTo>
                          <a:lnTo>
                            <a:pt x="0" y="176"/>
                          </a:lnTo>
                          <a:lnTo>
                            <a:pt x="1256" y="0"/>
                          </a:lnTo>
                          <a:lnTo>
                            <a:pt x="0" y="98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922480" y="4011480"/>
                      <a:ext cx="712800" cy="10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208">
                          <a:moveTo>
                            <a:pt x="0" y="0"/>
                          </a:moveTo>
                          <a:lnTo>
                            <a:pt x="0" y="81"/>
                          </a:lnTo>
                          <a:lnTo>
                            <a:pt x="1243" y="20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2922480" y="4074120"/>
                      <a:ext cx="71280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3" h="128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43" y="12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922480" y="4134600"/>
                      <a:ext cx="72108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79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1256" y="4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922480" y="4181040"/>
                      <a:ext cx="72108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6" h="104">
                          <a:moveTo>
                            <a:pt x="0" y="25"/>
                          </a:moveTo>
                          <a:lnTo>
                            <a:pt x="0" y="104"/>
                          </a:lnTo>
                          <a:lnTo>
                            <a:pt x="1256" y="0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93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80" name=""/>
            <p:cNvGrpSpPr/>
            <p:nvPr/>
          </p:nvGrpSpPr>
          <p:grpSpPr>
            <a:xfrm>
              <a:off x="1969920" y="4036680"/>
              <a:ext cx="2599560" cy="482760"/>
              <a:chOff x="1969920" y="4036680"/>
              <a:chExt cx="2599560" cy="48276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4037400" y="4036680"/>
                <a:ext cx="532080" cy="482760"/>
                <a:chOff x="4037400" y="4036680"/>
                <a:chExt cx="532080" cy="4827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037400" y="4036680"/>
                  <a:ext cx="53208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26096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3" h="200">
                      <a:moveTo>
                        <a:pt x="0" y="186"/>
                      </a:moveTo>
                      <a:lnTo>
                        <a:pt x="64" y="0"/>
                      </a:lnTo>
                      <a:lnTo>
                        <a:pt x="103" y="0"/>
                      </a:lnTo>
                      <a:lnTo>
                        <a:pt x="163" y="193"/>
                      </a:lnTo>
                      <a:lnTo>
                        <a:pt x="84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25520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6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4" y="201"/>
                      </a:lnTo>
                      <a:lnTo>
                        <a:pt x="166" y="9"/>
                      </a:lnTo>
                      <a:lnTo>
                        <a:pt x="85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38264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85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0" y="163"/>
                      </a:lnTo>
                      <a:lnTo>
                        <a:pt x="199" y="85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0940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199" h="163">
                      <a:moveTo>
                        <a:pt x="14" y="0"/>
                      </a:moveTo>
                      <a:lnTo>
                        <a:pt x="199" y="65"/>
                      </a:lnTo>
                      <a:lnTo>
                        <a:pt x="199" y="104"/>
                      </a:lnTo>
                      <a:lnTo>
                        <a:pt x="7" y="163"/>
                      </a:lnTo>
                      <a:lnTo>
                        <a:pt x="0" y="85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0940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4230000" y="4208400"/>
                  <a:ext cx="144360" cy="132840"/>
                  <a:chOff x="4230000" y="4208400"/>
                  <a:chExt cx="144360" cy="1328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4230000" y="4208400"/>
                    <a:ext cx="14436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259520" y="4236120"/>
                    <a:ext cx="8208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1969920" y="4036680"/>
                <a:ext cx="532800" cy="482760"/>
                <a:chOff x="1969920" y="4036680"/>
                <a:chExt cx="532800" cy="4827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969920" y="4036680"/>
                  <a:ext cx="532800" cy="48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194200" y="4350600"/>
                  <a:ext cx="92520" cy="102960"/>
                </a:xfrm>
                <a:custGeom>
                  <a:avLst/>
                  <a:gdLst/>
                  <a:ahLst/>
                  <a:rect l="l" t="t" r="r" b="b"/>
                  <a:pathLst>
                    <a:path w="161" h="200">
                      <a:moveTo>
                        <a:pt x="0" y="186"/>
                      </a:moveTo>
                      <a:lnTo>
                        <a:pt x="62" y="0"/>
                      </a:lnTo>
                      <a:lnTo>
                        <a:pt x="101" y="0"/>
                      </a:lnTo>
                      <a:lnTo>
                        <a:pt x="161" y="193"/>
                      </a:lnTo>
                      <a:lnTo>
                        <a:pt x="83" y="200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188440" y="4101480"/>
                  <a:ext cx="95040" cy="102960"/>
                </a:xfrm>
                <a:custGeom>
                  <a:avLst/>
                  <a:gdLst/>
                  <a:ahLst/>
                  <a:rect l="l" t="t" r="r" b="b"/>
                  <a:pathLst>
                    <a:path w="167" h="201">
                      <a:moveTo>
                        <a:pt x="0" y="15"/>
                      </a:moveTo>
                      <a:lnTo>
                        <a:pt x="66" y="201"/>
                      </a:lnTo>
                      <a:lnTo>
                        <a:pt x="106" y="201"/>
                      </a:lnTo>
                      <a:lnTo>
                        <a:pt x="167" y="9"/>
                      </a:lnTo>
                      <a:lnTo>
                        <a:pt x="86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31588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0" h="163">
                      <a:moveTo>
                        <a:pt x="186" y="0"/>
                      </a:moveTo>
                      <a:lnTo>
                        <a:pt x="0" y="65"/>
                      </a:lnTo>
                      <a:lnTo>
                        <a:pt x="0" y="104"/>
                      </a:lnTo>
                      <a:lnTo>
                        <a:pt x="192" y="163"/>
                      </a:lnTo>
                      <a:lnTo>
                        <a:pt x="200" y="85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041920" y="4233240"/>
                  <a:ext cx="114480" cy="83160"/>
                </a:xfrm>
                <a:custGeom>
                  <a:avLst/>
                  <a:gdLst/>
                  <a:ahLst/>
                  <a:rect l="l" t="t" r="r" b="b"/>
                  <a:pathLst>
                    <a:path w="201" h="163">
                      <a:moveTo>
                        <a:pt x="15" y="0"/>
                      </a:moveTo>
                      <a:lnTo>
                        <a:pt x="201" y="65"/>
                      </a:lnTo>
                      <a:lnTo>
                        <a:pt x="201" y="104"/>
                      </a:lnTo>
                      <a:lnTo>
                        <a:pt x="9" y="163"/>
                      </a:lnTo>
                      <a:lnTo>
                        <a:pt x="0" y="8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041920" y="4099320"/>
                  <a:ext cx="384120" cy="349920"/>
                </a:xfrm>
                <a:prstGeom prst="ellips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2162160" y="4208400"/>
                  <a:ext cx="145440" cy="132840"/>
                  <a:chOff x="2162160" y="4208400"/>
                  <a:chExt cx="145440" cy="1328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2162160" y="4208400"/>
                    <a:ext cx="145440" cy="132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192760" y="4236120"/>
                    <a:ext cx="81360" cy="77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01" name=""/>
          <p:cNvGrpSpPr/>
          <p:nvPr/>
        </p:nvGrpSpPr>
        <p:grpSpPr>
          <a:xfrm>
            <a:off x="6934320" y="3429000"/>
            <a:ext cx="1798920" cy="1618200"/>
            <a:chOff x="6934320" y="3429000"/>
            <a:chExt cx="1798920" cy="1618200"/>
          </a:xfrm>
        </p:grpSpPr>
        <p:grpSp>
          <p:nvGrpSpPr>
            <p:cNvPr id="202" name=""/>
            <p:cNvGrpSpPr/>
            <p:nvPr/>
          </p:nvGrpSpPr>
          <p:grpSpPr>
            <a:xfrm>
              <a:off x="6934320" y="3429000"/>
              <a:ext cx="1798920" cy="1618200"/>
              <a:chOff x="6934320" y="3429000"/>
              <a:chExt cx="1798920" cy="1618200"/>
            </a:xfrm>
          </p:grpSpPr>
          <p:sp>
            <p:nvSpPr>
              <p:cNvPr id="203" name=""/>
              <p:cNvSpPr/>
              <p:nvPr/>
            </p:nvSpPr>
            <p:spPr>
              <a:xfrm>
                <a:off x="6934320" y="3429000"/>
                <a:ext cx="1798920" cy="161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92480" y="4481640"/>
                <a:ext cx="313200" cy="344880"/>
              </a:xfrm>
              <a:custGeom>
                <a:avLst/>
                <a:gdLst/>
                <a:ahLst/>
                <a:rect l="l" t="t" r="r" b="b"/>
                <a:pathLst>
                  <a:path w="161" h="200">
                    <a:moveTo>
                      <a:pt x="0" y="186"/>
                    </a:moveTo>
                    <a:lnTo>
                      <a:pt x="62" y="0"/>
                    </a:lnTo>
                    <a:lnTo>
                      <a:pt x="101" y="0"/>
                    </a:lnTo>
                    <a:lnTo>
                      <a:pt x="161" y="193"/>
                    </a:lnTo>
                    <a:lnTo>
                      <a:pt x="83" y="200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73040" y="3646440"/>
                <a:ext cx="321120" cy="344880"/>
              </a:xfrm>
              <a:custGeom>
                <a:avLst/>
                <a:gdLst/>
                <a:ahLst/>
                <a:rect l="l" t="t" r="r" b="b"/>
                <a:pathLst>
                  <a:path w="167" h="201">
                    <a:moveTo>
                      <a:pt x="0" y="15"/>
                    </a:moveTo>
                    <a:lnTo>
                      <a:pt x="66" y="201"/>
                    </a:lnTo>
                    <a:lnTo>
                      <a:pt x="106" y="201"/>
                    </a:lnTo>
                    <a:lnTo>
                      <a:pt x="167" y="9"/>
                    </a:lnTo>
                    <a:lnTo>
                      <a:pt x="86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10216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0" h="163">
                    <a:moveTo>
                      <a:pt x="186" y="0"/>
                    </a:moveTo>
                    <a:lnTo>
                      <a:pt x="0" y="65"/>
                    </a:lnTo>
                    <a:lnTo>
                      <a:pt x="0" y="104"/>
                    </a:lnTo>
                    <a:lnTo>
                      <a:pt x="192" y="163"/>
                    </a:lnTo>
                    <a:lnTo>
                      <a:pt x="200" y="85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77320" y="4087800"/>
                <a:ext cx="387000" cy="279360"/>
              </a:xfrm>
              <a:custGeom>
                <a:avLst/>
                <a:gdLst/>
                <a:ahLst/>
                <a:rect l="l" t="t" r="r" b="b"/>
                <a:pathLst>
                  <a:path w="201" h="163">
                    <a:moveTo>
                      <a:pt x="15" y="0"/>
                    </a:moveTo>
                    <a:lnTo>
                      <a:pt x="201" y="65"/>
                    </a:lnTo>
                    <a:lnTo>
                      <a:pt x="201" y="104"/>
                    </a:lnTo>
                    <a:lnTo>
                      <a:pt x="9" y="163"/>
                    </a:lnTo>
                    <a:lnTo>
                      <a:pt x="0" y="8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77320" y="3639240"/>
                <a:ext cx="1297080" cy="117288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7583400" y="4005000"/>
                <a:ext cx="490680" cy="444600"/>
                <a:chOff x="7583400" y="4005000"/>
                <a:chExt cx="490680" cy="4446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583400" y="4005000"/>
                  <a:ext cx="490680" cy="44460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687440" y="4097880"/>
                  <a:ext cx="275040" cy="25848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7785720" y="3996360"/>
              <a:ext cx="113040" cy="100800"/>
            </a:xfrm>
            <a:prstGeom prst="hexagon">
              <a:avLst>
                <a:gd name="adj" fmla="val 28036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83200" y="4358520"/>
              <a:ext cx="113400" cy="101160"/>
            </a:xfrm>
            <a:prstGeom prst="hexagon">
              <a:avLst>
                <a:gd name="adj" fmla="val 280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057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67520" y="4171320"/>
              <a:ext cx="113400" cy="100800"/>
            </a:xfrm>
            <a:prstGeom prst="hexagon">
              <a:avLst>
                <a:gd name="adj" fmla="val 28125"/>
                <a:gd name="vf" fmla="val 1154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267080" y="4495680"/>
            <a:ext cx="35053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67080" y="3428640"/>
            <a:ext cx="35053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 Implement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nder items that fall below a size threshol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reen space size of bounding volu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ess computational approac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to object combined with some notion of global object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geometry ra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led vertices are not transformed, lit, and cli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host download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data moved from memory into graph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sists occluder se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not change fill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een space projection already min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es few pixels from rasterization 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lling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tribution Usefulnes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(LOD)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archite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fter culling, need to draw what is lef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ill too much geometry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multiple Levels of Detail, I.e. multi-resolu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tch geometric complexity to visible on-screen space cover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duce geometric complexity to maintain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95560" y="1905120"/>
            <a:ext cx="60958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ss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ting LOD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 Fields vs 3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Dependent: nice, but compute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-Independent: fast, memory int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decide which LOD level to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trivia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smooth transitions between lev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morp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eight Field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ly thought of as infinite terr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alized algorithms can be u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terrain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3880" y="3200400"/>
            <a:ext cx="6912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3D Mod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eral purpose simplification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use on height fields al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re are real-time view-dependent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so used for compre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lod" descr=""/>
          <p:cNvPicPr/>
          <p:nvPr/>
        </p:nvPicPr>
        <p:blipFill>
          <a:blip r:embed="rId1"/>
          <a:stretch/>
        </p:blipFill>
        <p:spPr>
          <a:xfrm>
            <a:off x="690480" y="3692520"/>
            <a:ext cx="9183600" cy="207180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912240" y="5667480"/>
            <a:ext cx="8859240" cy="424080"/>
            <a:chOff x="912240" y="5667480"/>
            <a:chExt cx="8859240" cy="424080"/>
          </a:xfrm>
        </p:grpSpPr>
        <p:sp>
          <p:nvSpPr>
            <p:cNvPr id="234" name=""/>
            <p:cNvSpPr/>
            <p:nvPr/>
          </p:nvSpPr>
          <p:spPr>
            <a:xfrm>
              <a:off x="912240" y="5667480"/>
              <a:ext cx="186696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2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13520" y="5667480"/>
              <a:ext cx="172512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5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9536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4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87840" y="5667480"/>
              <a:ext cx="1583640" cy="424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6 Triang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hen to switch LOD leve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bility to only generate LOD models is not sufficien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to know when to use which LO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constant hard metric: distance from e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heuristics: cost, benefit, rank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bias LODs to ensure frame rate targets are reach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evel determin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system rendering characteris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cost of rendering each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 objects with highest benefit while remaining under the targe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evel determination can be time consuming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Determining cost of render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is affected by many factor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phics hardware: published benchmarks, startup te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umber of vertices: primarily a function of LOD algorith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ing Quality: lighting, shading, wire frame, anti-aliasing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14680" y="1905120"/>
            <a:ext cx="6858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 Fun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ost alone is not good enough, need benefit also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ndered size of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rror tolerance between LOD level and reference mod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ortance in sce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OD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have enough time to run full LOD optimization problem and render the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cost and benefit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optimization problem into a ranking of Benefit/C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frame-to-frame cohe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 sure to consider time taken to calcul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arget Frame Rat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target frame rate attempts to bound the maximum render tim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ol Culling and LOD aggressive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tain a constant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hieve an acceptable interactive frame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7543800" y="3049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Rendering 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work, culling, LOD, draw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endering path forms a pipe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43560" y="5638680"/>
            <a:ext cx="11142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71600" y="3276720"/>
            <a:ext cx="5314320" cy="533520"/>
            <a:chOff x="1371600" y="3276720"/>
            <a:chExt cx="5314320" cy="533520"/>
          </a:xfrm>
        </p:grpSpPr>
        <p:grpSp>
          <p:nvGrpSpPr>
            <p:cNvPr id="55" name=""/>
            <p:cNvGrpSpPr/>
            <p:nvPr/>
          </p:nvGrpSpPr>
          <p:grpSpPr>
            <a:xfrm>
              <a:off x="1371600" y="3276720"/>
              <a:ext cx="1028160" cy="533520"/>
              <a:chOff x="1371600" y="3276720"/>
              <a:chExt cx="1028160" cy="533520"/>
            </a:xfrm>
          </p:grpSpPr>
          <p:sp>
            <p:nvSpPr>
              <p:cNvPr id="56" name=""/>
              <p:cNvSpPr/>
              <p:nvPr/>
            </p:nvSpPr>
            <p:spPr>
              <a:xfrm>
                <a:off x="137160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57280" y="3276720"/>
                <a:ext cx="7225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Ap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800080" y="3276720"/>
              <a:ext cx="1028160" cy="533520"/>
              <a:chOff x="2800080" y="3276720"/>
              <a:chExt cx="1028160" cy="533520"/>
            </a:xfrm>
          </p:grpSpPr>
          <p:sp>
            <p:nvSpPr>
              <p:cNvPr id="59" name=""/>
              <p:cNvSpPr/>
              <p:nvPr/>
            </p:nvSpPr>
            <p:spPr>
              <a:xfrm>
                <a:off x="280008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886840" y="3276720"/>
                <a:ext cx="70416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ul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4228920" y="3276720"/>
              <a:ext cx="1028160" cy="533520"/>
              <a:chOff x="4228920" y="3276720"/>
              <a:chExt cx="1028160" cy="533520"/>
            </a:xfrm>
          </p:grpSpPr>
          <p:sp>
            <p:nvSpPr>
              <p:cNvPr id="62" name=""/>
              <p:cNvSpPr/>
              <p:nvPr/>
            </p:nvSpPr>
            <p:spPr>
              <a:xfrm>
                <a:off x="4228920" y="3276720"/>
                <a:ext cx="1028160" cy="533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314240" y="3276720"/>
                <a:ext cx="80784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LO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657760" y="3276720"/>
              <a:ext cx="1028160" cy="533160"/>
              <a:chOff x="5657760" y="3276720"/>
              <a:chExt cx="1028160" cy="533160"/>
            </a:xfrm>
          </p:grpSpPr>
          <p:sp>
            <p:nvSpPr>
              <p:cNvPr id="65" name=""/>
              <p:cNvSpPr/>
              <p:nvPr/>
            </p:nvSpPr>
            <p:spPr>
              <a:xfrm>
                <a:off x="5657760" y="3276720"/>
                <a:ext cx="1028160" cy="533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658120" y="3276720"/>
                <a:ext cx="891720" cy="491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Draw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240012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574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29000" y="3505320"/>
              <a:ext cx="42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stages give more time to cull or generate LO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stage adds lat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92760" y="3079800"/>
            <a:ext cx="9480960" cy="3013200"/>
            <a:chOff x="392760" y="3079800"/>
            <a:chExt cx="9480960" cy="3013200"/>
          </a:xfrm>
        </p:grpSpPr>
        <p:grpSp>
          <p:nvGrpSpPr>
            <p:cNvPr id="257" name=""/>
            <p:cNvGrpSpPr/>
            <p:nvPr/>
          </p:nvGrpSpPr>
          <p:grpSpPr>
            <a:xfrm>
              <a:off x="1646640" y="3079800"/>
              <a:ext cx="8227080" cy="3013200"/>
              <a:chOff x="1646640" y="3079800"/>
              <a:chExt cx="8227080" cy="301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817520" y="5853240"/>
                <a:ext cx="1114200" cy="7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1646640" y="3315240"/>
                <a:ext cx="8227080" cy="1925280"/>
                <a:chOff x="1646640" y="3315240"/>
                <a:chExt cx="8227080" cy="192528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1646640" y="3315240"/>
                  <a:ext cx="5312880" cy="506880"/>
                  <a:chOff x="1646640" y="3315240"/>
                  <a:chExt cx="5312880" cy="506880"/>
                </a:xfrm>
              </p:grpSpPr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1646640" y="3315240"/>
                    <a:ext cx="1027800" cy="506880"/>
                    <a:chOff x="1646640" y="3315240"/>
                    <a:chExt cx="1027800" cy="506880"/>
                  </a:xfrm>
                </p:grpSpPr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164664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1732320" y="331524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3074400" y="3315240"/>
                    <a:ext cx="1027800" cy="506880"/>
                    <a:chOff x="3074400" y="3315240"/>
                    <a:chExt cx="1027800" cy="50688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307440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3161160" y="331524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4502880" y="3315240"/>
                    <a:ext cx="1027800" cy="506880"/>
                    <a:chOff x="4502880" y="3315240"/>
                    <a:chExt cx="1027800" cy="50688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450288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587840" y="331524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5931720" y="3315240"/>
                    <a:ext cx="1027800" cy="506880"/>
                    <a:chOff x="5931720" y="3315240"/>
                    <a:chExt cx="1027800" cy="50688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5931720" y="331524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5932080" y="331524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3" name=""/>
                  <p:cNvSpPr/>
                  <p:nvPr/>
                </p:nvSpPr>
                <p:spPr>
                  <a:xfrm>
                    <a:off x="267480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41317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5503320" y="353232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3103560" y="4023360"/>
                  <a:ext cx="5312880" cy="506880"/>
                  <a:chOff x="3103560" y="4023360"/>
                  <a:chExt cx="5312880" cy="50688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3103560" y="4023360"/>
                    <a:ext cx="1027800" cy="506880"/>
                    <a:chOff x="3103560" y="4023360"/>
                    <a:chExt cx="1027800" cy="50688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310356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3189240" y="402336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4531320" y="4023360"/>
                    <a:ext cx="1027800" cy="506880"/>
                    <a:chOff x="4531320" y="4023360"/>
                    <a:chExt cx="1027800" cy="5068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453132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4618080" y="402336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959800" y="4023360"/>
                    <a:ext cx="1027800" cy="506880"/>
                    <a:chOff x="5959800" y="4023360"/>
                    <a:chExt cx="1027800" cy="50688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95980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6044760" y="402336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7388640" y="4023360"/>
                    <a:ext cx="1027800" cy="506880"/>
                    <a:chOff x="7388640" y="4023360"/>
                    <a:chExt cx="1027800" cy="50688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8640" y="4023360"/>
                      <a:ext cx="1027800" cy="50688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7389000" y="402336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9" name=""/>
                  <p:cNvSpPr/>
                  <p:nvPr/>
                </p:nvSpPr>
                <p:spPr>
                  <a:xfrm>
                    <a:off x="413172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886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960240" y="4240440"/>
                    <a:ext cx="4280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4560480" y="4733280"/>
                  <a:ext cx="5313240" cy="507240"/>
                  <a:chOff x="4560480" y="4733280"/>
                  <a:chExt cx="5313240" cy="507240"/>
                </a:xfrm>
              </p:grpSpPr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4560480" y="4733280"/>
                    <a:ext cx="1028160" cy="507240"/>
                    <a:chOff x="4560480" y="4733280"/>
                    <a:chExt cx="1028160" cy="50724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5604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4646160" y="4733280"/>
                      <a:ext cx="7225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5988600" y="4733280"/>
                    <a:ext cx="1028160" cy="507240"/>
                    <a:chOff x="5988600" y="4733280"/>
                    <a:chExt cx="1028160" cy="50724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598860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6075360" y="4733280"/>
                      <a:ext cx="70416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7417080" y="4733280"/>
                    <a:ext cx="1028160" cy="507240"/>
                    <a:chOff x="7417080" y="4733280"/>
                    <a:chExt cx="1028160" cy="50724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741708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502400" y="4733280"/>
                      <a:ext cx="80784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8845560" y="4733280"/>
                    <a:ext cx="1028160" cy="507240"/>
                    <a:chOff x="8845560" y="4733280"/>
                    <a:chExt cx="1028160" cy="50724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8845560" y="4733280"/>
                      <a:ext cx="1028160" cy="507240"/>
                    </a:xfrm>
                    <a:prstGeom prst="roundRect">
                      <a:avLst>
                        <a:gd name="adj" fmla="val 16667"/>
                      </a:avLst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8845920" y="4733280"/>
                      <a:ext cx="891720" cy="49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  <a:effectLst>
                      <a:outerShdw dist="40186" dir="1096358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5" name=""/>
                  <p:cNvSpPr/>
                  <p:nvPr/>
                </p:nvSpPr>
                <p:spPr>
                  <a:xfrm>
                    <a:off x="558900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04592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8417160" y="4950360"/>
                    <a:ext cx="428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8" name=""/>
              <p:cNvSpPr/>
              <p:nvPr/>
            </p:nvSpPr>
            <p:spPr>
              <a:xfrm>
                <a:off x="286776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6072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964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73900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35840" y="3079800"/>
                <a:ext cx="0" cy="2945880"/>
              </a:xfrm>
              <a:prstGeom prst="line">
                <a:avLst/>
              </a:prstGeom>
              <a:ln w="28440">
                <a:solidFill>
                  <a:srgbClr val="97939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273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37212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0960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9056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0948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190440" y="5546520"/>
                <a:ext cx="466200" cy="54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1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392760" y="328968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2760" y="402372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2760" y="4739760"/>
              <a:ext cx="1161360" cy="5464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rd part is data synchron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pelining simplifies synchro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atch out for memory blo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cene Graph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 scene graph is the basic data structures holding the description of your scen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-able, sort-able, and can contain multi-resolution 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erarchical Bounding Volu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istics gathering and timing infra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 large scenes can do memory management and database pag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Application Architectures: 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rade-off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 Complex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yinyang" descr=""/>
          <p:cNvPicPr/>
          <p:nvPr/>
        </p:nvPicPr>
        <p:blipFill>
          <a:blip r:embed="rId1"/>
          <a:stretch/>
        </p:blipFill>
        <p:spPr>
          <a:xfrm>
            <a:off x="7308720" y="257040"/>
            <a:ext cx="1381320" cy="12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: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ost importantly - Think about balance!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snap" descr=""/>
          <p:cNvPicPr/>
          <p:nvPr/>
        </p:nvPicPr>
        <p:blipFill>
          <a:blip r:embed="rId1">
            <a:biLevel thresh="50000"/>
            <a:lum bright="-48000"/>
          </a:blip>
          <a:stretch/>
        </p:blipFill>
        <p:spPr>
          <a:xfrm>
            <a:off x="3124080" y="2590920"/>
            <a:ext cx="318132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6080" y="294840"/>
            <a:ext cx="83642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Techniqu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rving data to avoid reren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ll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ing geometry that isn't vi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 of Detail Managemen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ing geometric complex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534520" y="3048120"/>
            <a:ext cx="1143000" cy="1414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1216080" cy="1308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81880" y="5410080"/>
            <a:ext cx="951120" cy="2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compute what can be stor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on’t redraw what has already been draw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Image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ing sto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pplication data caching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ches geometry in a format that can be quickly traversed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isplay lis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d by graphics AP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d by application develop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ake as flat as possib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eometry Caching:</a:t>
            </a:r>
            <a:br>
              <a:rPr sz="3700"/>
            </a:b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ccelerates traversa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s memory locality and data alig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traversal logi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ies state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5:38:34Z</dcterms:created>
  <dc:creator>Keith Cok</dc:creator>
  <dc:description/>
  <dc:language>en-US</dc:language>
  <cp:lastModifiedBy>Keith Cok</cp:lastModifiedBy>
  <cp:lastPrinted>2000-06-06T19:18:09Z</cp:lastPrinted>
  <dcterms:modified xsi:type="dcterms:W3CDTF">2000-08-07T19:58:07Z</dcterms:modified>
  <cp:revision>32</cp:revision>
  <dc:subject/>
  <dc:title>Developing Efficient Graphics Software</dc:title>
</cp:coreProperties>
</file>