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10288588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844560" y="688680"/>
            <a:ext cx="51703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8FBA-E678-4492-BE18-E8BB57B96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0EC1-A75C-4ECD-951E-2642DDA4B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6C6C-FFCB-43BD-8FF4-608B14C8B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CI: cpu, memory, and PCI are controlled by the glue, while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s live on a shared bus (PC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fx on bus, local mem for fb, tex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 devices compete for scarce resource, bandwidt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GP: cpu, memory, pci, and agp are directly controlled byt the g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at’s all very interesting, but how do I code for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D3F8-90FA-43F8-BC22-792C02847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int in any of this is to learn how your app uses different hardware, and then to write code which can better take advantag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, any of these architectural diffs end up meaning that you have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erent resources at your dispo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erent data paths which make different things ‘fas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ample, AGP vs PCI,.number of textures, and texture ‘download’ sp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on’t write code for a PCI or AGP specifically, but understanding the tradeoffs means different possibilities for your ap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77D1-C17B-49D4-BAE3-C8A91F3D5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pu to do work, op on re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ata to regs, copied successively from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scribe lat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loser to cpu, faster a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, this makes sense, who thought of this, and why have cach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not just faster memo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161F-FCAF-48E4-9BA6-F3230C5EF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pu to do work, op on re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ata to regs, copied successively from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scribe lat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loser to cpu, faster a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, this makes sense, who thought of this, and why have cach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not just faster memo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79D7-CEE1-4243-947A-5129DF9C7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ches are a tradeoff between fast and expensive, and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slow and che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erent operating freq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ches take advantage of two observation of data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emporal locality: data which has just been used is very lik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used again shor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ample, finding the max of a set. The ‘tempmax’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ften reset frequently, as new maximums ar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patial locality: data which has just been accessed is likel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adjacent to data which will next be used. For examp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vertex arrays, or even individual vertices. Often placed in an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, seems obvious that if my data works like that (and I make it work _more_ like that, that I’ll achieve some efficiencies. How does the cache get fil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42E3-8F4A-4588-A726-6A41916F4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pp not drawing as fast as ex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reasons are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ver some of those reasons, from a hardware perspec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5395-CA3A-45D1-A536-324A7C230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ches are a tradeoff between fast and expensive, and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slow and che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erent operating freq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ches take advantage of two observation of data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emporal locality: data which has just been used is very lik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used again shor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ample, finding the max of a set. The ‘tempmax’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ften reset frequently, as new maximums ar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patial locality: data which has just been accessed is likel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adjacent to data which will next be used. For examp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vertex arrays, or even individual vertices. Often placed in an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, seems obvious that if my data works like that (and I make it work _more_ like that, that I’ll achieve some efficiencies. How does the cache get fil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613C-ADC0-42C5-88FA-30467A4C3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lk a piece of data down to the c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, so that’s logically what happens, what’ -physically- goes 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07F7-81B9-4ED9-B68F-4B5BC4A24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s is a high-level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umerous details (associative vs direct cache mappings, et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included - read a text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ad the notes for 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EA67-DD81-485F-93DA-536709760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mportant to have good cache behavior for comm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sts are often allocated only as-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ample, build a list of parts in a cad ap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user creates some other stuff (requiring more mallo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user adds another part. That part will likely not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guous with the previous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d a situation on the right top could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’s warming up to 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38C1-06E5-4EFE-BD82-931A7695E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mportant to have good cache behavior for comm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sts are often allocated only as-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ample, build a list of parts in a cad ap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user creates some other stuff (requiring more mallo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user adds another part. That part will likely not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guous with the previous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d a situation on the right top could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’s warming up to 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ABB8-C021-4883-800F-68EB2B919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a! I knew there was 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examp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wo compu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ocate either seperate vertex /normal arrays or interlea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73DA-2F03-44F5-AD55-50CF08A7F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implification of physical hardware with opengl p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ata buffer to lessen the effects of how fast card and data feed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xf: transformed from world  to eye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ght: physical l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xf from eye-to-clip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FD2C-52D0-4B1A-A2DC-FDD681A78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DE7C-E523-4DB0-AEB9-90B015870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all hardware (including the T- often a display-list cache in opengl parl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xf &amp; rast h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raster ops on h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te not all work from a phase done in hardware, but there exist some functionality in h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ample, do texture, but not f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CB36-EA12-4EB5-8847-9179C68A4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203D-4B96-4ED1-AE69-9BEBC579D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lk about archite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pu/memory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raphics systems and a taxonomy for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raphics hardware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it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ow to dup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 please read the course notes for much much more detail in any o fhtese areas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0E5F-AC27-4A64-8B25-9CD3CB0CA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BEB0-C12D-4AF8-A3BA-791B14F5A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6F42-73BD-4F8B-B09B-4E611130A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E684-F225-44DE-8FFD-EE06D25D3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9A2B-CCC4-46C6-B754-803242D9A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7010-79BE-4074-86C3-86494638E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7740-B82A-4F69-94F5-299425A4F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, per-machine, at app startup, generate data. vertex arrays, display lists, texture format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 data in database, per-machine, also keep a time-to-live for this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pp startup, check database, or re-generate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052F-886E-4CBA-AE66-4B28F58BB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99CC-0B12-42FE-812F-EBA65ED54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ocus further: removing bottlencecks, balancing system 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lene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finition: bottleneck: portion of app which limits overall pe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nd in this case, the graphics rendering per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leneck Id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ottlencks are slippery and elusive cr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ne app, one dataset, a particular bottlen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 dataset, diff bottlen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 platform, diff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leneck Squas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nce one is squashed, likely will move to another pl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nse, rep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brings us to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gain, the goal is to eliminate bottlenecks through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do that, mu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DE58-FC22-4384-97FE-124642C9A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con to draw attention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t an exact philosophical match, but it looks n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rying to make point, again and again, that balanced system utilization is key. Wha twe hope to provide is awareness of a number of ideas and issues which can help you to attain a harmonious balance of system u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key to balancing system utilization is to first understand the application and the system on which it r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, we begin with hard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C151-C388-46C7-A5F8-3811DEAD2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825480" y="689040"/>
            <a:ext cx="5149800" cy="343368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w dev exp” write once, run somewhere else, slo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gging reveals an implementatino decision de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blem rooted in the fact that different systems imp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hardware (cpu, gfx, memory, disk, net) in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y? Because each vendor has a better idea. System level stuff, as well as gf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lk about dif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: systems differ within basic architec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: data flow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s: bandwidth and latency to do real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fx w/texture, gfx w/o tex + ac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fx on agp, gfx on dedicated link to memory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48F4-8408-49AA-BDAC-CFC3A5E91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alking more about hardware, it’s important to understand two aspects of data transfer which affect all apps, these are latency and band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f: latency: time required to do some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ata from disk, bit from memory, state on gf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in time to complete a communication with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f b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mount of data can be transferred in a specific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sk 80MB/s, network 10Mb/s,  mem 3Gb/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ach box represents unit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ncy is relevant many places. We’ll talk more about it throughout the course. For now, back to archite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BAEA-D5D0-4B5C-A4E1-392B1E119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alking more about hardware, it’s important to understand two aspects of data transfer which affect all apps, these are latency and band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f: latency: time required to do some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ata from disk, bit from memory, state on gf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in time to complete a communication with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f b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mount of data can be transferred in a specific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sk 80MB/s, network 10Mb/s,  mem 3Gb/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ach box represents unit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ncy is relevant many places. We’ll talk more about it throughout the course. For now, back to archite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3D5A-A14A-4D6D-B43A-E4D1DF255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 present an absctract system to discuss how data moves in a computing plat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gfx app does many things, wave hands around for a b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sk/net 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uff data in memory, compute, tesselate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hove data to graphics, get data from 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you know what your app does, so why are you telling me this, and how do I write better code? Wait for it … wait for i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s cloud, manages that. What is the cloud, and 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ill describe shor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nk about how these paths are used to transfer data, and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used by your ap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rtened or elim data path app is f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ess hardware in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int: in certain modes of op, app doing particular things, to particular parts of the system. Understanding what parts are in use is key to maximizing perform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C9DF9-7E18-4BA1-9C00-65CBF8BD9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E39B6-2363-40D1-BCE2-B0CB18D5AB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93479-3FB1-40BD-873A-F12047D4E4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604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260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3948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604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85260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AC482-E26D-47E6-AD38-784FE6FB85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D9E83-9401-45FA-8BFB-A6EFDF9986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0A4C8-A91F-4814-936B-D62950E024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2AC46-1F55-45F1-B278-C627BB49EB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A7AE5-86B3-4902-8375-2B29276BFF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3920" y="294840"/>
            <a:ext cx="836604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67588-9CA3-4A21-A385-732AD5AE3B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BDD0F-9A50-44D6-B821-2FA9CD4D85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65453-DEB5-478C-8F6F-BBAEB32DBB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85D77-C86C-4E30-A3F6-D44789377D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7320" y="160200"/>
            <a:ext cx="999000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74600" y="1833480"/>
            <a:ext cx="995832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57040" y="6248520"/>
            <a:ext cx="2143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BC13-B6CD-4AAA-B724-E47237DD84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7155000" y="5908680"/>
            <a:ext cx="283680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8777160" y="403200"/>
            <a:ext cx="124632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57320" y="1824120"/>
            <a:ext cx="998676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6.jpeg"/><Relationship Id="rId6" Type="http://schemas.openxmlformats.org/officeDocument/2006/relationships/image" Target="../media/image8.jpeg"/><Relationship Id="rId7" Type="http://schemas.openxmlformats.org/officeDocument/2006/relationships/image" Target="../media/image10.jpeg"/><Relationship Id="rId8" Type="http://schemas.openxmlformats.org/officeDocument/2006/relationships/image" Target="../media/image6.jpeg"/><Relationship Id="rId9" Type="http://schemas.openxmlformats.org/officeDocument/2006/relationships/image" Target="../media/image8.jpe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mputing Hardware Architecture &amp; Performanc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ob Kuehne, SGI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18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PCI, AGP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33520" y="1828800"/>
            <a:ext cx="3200400" cy="4571640"/>
            <a:chOff x="533520" y="1828800"/>
            <a:chExt cx="3200400" cy="4571640"/>
          </a:xfrm>
        </p:grpSpPr>
        <p:sp>
          <p:nvSpPr>
            <p:cNvPr id="116" name=""/>
            <p:cNvSpPr/>
            <p:nvPr/>
          </p:nvSpPr>
          <p:spPr>
            <a:xfrm>
              <a:off x="609480" y="1828800"/>
              <a:ext cx="1143000" cy="9907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1828800"/>
              <a:ext cx="1143000" cy="990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6200000">
              <a:off x="15228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is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106668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2895480" y="5562000"/>
              <a:ext cx="1219320" cy="45720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raphic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22" idx="0"/>
              <a:endCxn id="116" idx="2"/>
            </p:cNvCxnSpPr>
            <p:nvPr/>
          </p:nvCxnSpPr>
          <p:spPr>
            <a:xfrm flipV="1" rot="16200000">
              <a:off x="1314000" y="2685600"/>
              <a:ext cx="457920" cy="724680"/>
            </a:xfrm>
            <a:prstGeom prst="bentConnector3">
              <a:avLst>
                <a:gd name="adj1" fmla="val 49960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3" name=""/>
            <p:cNvCxnSpPr>
              <a:stCxn id="124" idx="0"/>
              <a:endCxn id="117" idx="2"/>
            </p:cNvCxnSpPr>
            <p:nvPr/>
          </p:nvCxnSpPr>
          <p:spPr>
            <a:xfrm flipH="1" flipV="1" rot="5400000">
              <a:off x="2495160" y="2685600"/>
              <a:ext cx="457920" cy="724680"/>
            </a:xfrm>
            <a:prstGeom prst="bentConnector3">
              <a:avLst>
                <a:gd name="adj1" fmla="val 49960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5" name=""/>
            <p:cNvCxnSpPr>
              <a:stCxn id="126" idx="2"/>
              <a:endCxn id="127" idx="0"/>
            </p:cNvCxnSpPr>
            <p:nvPr/>
          </p:nvCxnSpPr>
          <p:spPr>
            <a:xfrm flipV="1" rot="10800000">
              <a:off x="2133000" y="4038120"/>
              <a:ext cx="1080" cy="381960"/>
            </a:xfrm>
            <a:prstGeom prst="bentConnector2">
              <a:avLst/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28" name=""/>
            <p:cNvSpPr/>
            <p:nvPr/>
          </p:nvSpPr>
          <p:spPr>
            <a:xfrm rot="16200000">
              <a:off x="198108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/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533520" y="4419720"/>
              <a:ext cx="3200040" cy="380880"/>
              <a:chOff x="533520" y="4419720"/>
              <a:chExt cx="320004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533520" y="4419720"/>
                <a:ext cx="3200040" cy="380880"/>
              </a:xfrm>
              <a:prstGeom prst="rect">
                <a:avLst/>
              </a:prstGeom>
              <a:solidFill>
                <a:srgbClr val="fec524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C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33520" y="4419720"/>
                <a:ext cx="8002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333800" y="4419720"/>
                <a:ext cx="799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133360" y="4419720"/>
                <a:ext cx="799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933280" y="4419720"/>
                <a:ext cx="8002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cxnSp>
          <p:nvCxnSpPr>
            <p:cNvPr id="134" name=""/>
            <p:cNvCxnSpPr>
              <a:stCxn id="118" idx="3"/>
              <a:endCxn id="130" idx="2"/>
            </p:cNvCxnSpPr>
            <p:nvPr/>
          </p:nvCxnSpPr>
          <p:spPr>
            <a:xfrm flipH="1" flipV="1" rot="5400000">
              <a:off x="656640" y="4903200"/>
              <a:ext cx="380160" cy="173880"/>
            </a:xfrm>
            <a:prstGeom prst="bentConnector3">
              <a:avLst>
                <a:gd name="adj1" fmla="val 49763"/>
              </a:avLst>
            </a:prstGeom>
            <a:ln w="1260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5" name=""/>
            <p:cNvCxnSpPr>
              <a:stCxn id="119" idx="3"/>
              <a:endCxn id="131" idx="2"/>
            </p:cNvCxnSpPr>
            <p:nvPr/>
          </p:nvCxnSpPr>
          <p:spPr>
            <a:xfrm flipH="1" flipV="1" rot="5400000">
              <a:off x="1513800" y="4960440"/>
              <a:ext cx="380160" cy="59400"/>
            </a:xfrm>
            <a:prstGeom prst="bentConnector3">
              <a:avLst>
                <a:gd name="adj1" fmla="val 49763"/>
              </a:avLst>
            </a:prstGeom>
            <a:ln w="12600">
              <a:solidFill>
                <a:srgbClr val="6666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6" name=""/>
            <p:cNvCxnSpPr>
              <a:stCxn id="128" idx="3"/>
              <a:endCxn id="132" idx="2"/>
            </p:cNvCxnSpPr>
            <p:nvPr/>
          </p:nvCxnSpPr>
          <p:spPr>
            <a:xfrm flipV="1" rot="16200000">
              <a:off x="2371320" y="4961880"/>
              <a:ext cx="380160" cy="56160"/>
            </a:xfrm>
            <a:prstGeom prst="bentConnector3">
              <a:avLst>
                <a:gd name="adj1" fmla="val 49763"/>
              </a:avLst>
            </a:prstGeom>
            <a:ln w="12600">
              <a:solidFill>
                <a:srgbClr val="6666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7" name=""/>
            <p:cNvCxnSpPr>
              <a:stCxn id="120" idx="3"/>
              <a:endCxn id="133" idx="2"/>
            </p:cNvCxnSpPr>
            <p:nvPr/>
          </p:nvCxnSpPr>
          <p:spPr>
            <a:xfrm flipV="1" rot="16200000">
              <a:off x="3228480" y="4904640"/>
              <a:ext cx="380160" cy="170640"/>
            </a:xfrm>
            <a:prstGeom prst="bentConnector3">
              <a:avLst>
                <a:gd name="adj1" fmla="val 49763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138" name=""/>
            <p:cNvGrpSpPr/>
            <p:nvPr/>
          </p:nvGrpSpPr>
          <p:grpSpPr>
            <a:xfrm>
              <a:off x="1676520" y="3276720"/>
              <a:ext cx="914400" cy="761760"/>
              <a:chOff x="1676520" y="3276720"/>
              <a:chExt cx="914400" cy="761760"/>
            </a:xfrm>
          </p:grpSpPr>
          <p:sp>
            <p:nvSpPr>
              <p:cNvPr id="126" name=""/>
              <p:cNvSpPr/>
              <p:nvPr/>
            </p:nvSpPr>
            <p:spPr>
              <a:xfrm>
                <a:off x="1676520" y="3276720"/>
                <a:ext cx="914400" cy="761760"/>
              </a:xfrm>
              <a:prstGeom prst="rect">
                <a:avLst/>
              </a:prstGeom>
              <a:solidFill>
                <a:srgbClr val="6666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glu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676520" y="3276720"/>
                <a:ext cx="457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133720" y="3276720"/>
                <a:ext cx="457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" name=""/>
          <p:cNvGrpSpPr/>
          <p:nvPr/>
        </p:nvGrpSpPr>
        <p:grpSpPr>
          <a:xfrm>
            <a:off x="4572000" y="1828800"/>
            <a:ext cx="3124080" cy="4571640"/>
            <a:chOff x="4572000" y="1828800"/>
            <a:chExt cx="3124080" cy="4571640"/>
          </a:xfrm>
        </p:grpSpPr>
        <p:sp>
          <p:nvSpPr>
            <p:cNvPr id="140" name=""/>
            <p:cNvSpPr/>
            <p:nvPr/>
          </p:nvSpPr>
          <p:spPr>
            <a:xfrm>
              <a:off x="4572000" y="1828800"/>
              <a:ext cx="1143000" cy="9907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38680" y="3276720"/>
              <a:ext cx="914400" cy="76176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lu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76760" y="1828800"/>
              <a:ext cx="1143000" cy="990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6200000">
              <a:off x="419076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is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6200000">
              <a:off x="495252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6200000">
              <a:off x="6857640" y="5562000"/>
              <a:ext cx="1219320" cy="45720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raphic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46" name=""/>
            <p:cNvCxnSpPr>
              <a:stCxn id="147" idx="0"/>
              <a:endCxn id="140" idx="2"/>
            </p:cNvCxnSpPr>
            <p:nvPr/>
          </p:nvCxnSpPr>
          <p:spPr>
            <a:xfrm flipV="1" rot="16200000">
              <a:off x="5276160" y="2685600"/>
              <a:ext cx="457920" cy="724680"/>
            </a:xfrm>
            <a:prstGeom prst="bentConnector3">
              <a:avLst>
                <a:gd name="adj1" fmla="val 49960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48" name=""/>
            <p:cNvCxnSpPr>
              <a:stCxn id="149" idx="0"/>
              <a:endCxn id="142" idx="2"/>
            </p:cNvCxnSpPr>
            <p:nvPr/>
          </p:nvCxnSpPr>
          <p:spPr>
            <a:xfrm flipH="1" flipV="1" rot="5400000">
              <a:off x="6457320" y="2685600"/>
              <a:ext cx="457920" cy="724680"/>
            </a:xfrm>
            <a:prstGeom prst="bentConnector3">
              <a:avLst>
                <a:gd name="adj1" fmla="val 49960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0" name=""/>
            <p:cNvCxnSpPr>
              <a:stCxn id="151" idx="2"/>
              <a:endCxn id="152" idx="0"/>
            </p:cNvCxnSpPr>
            <p:nvPr/>
          </p:nvCxnSpPr>
          <p:spPr>
            <a:xfrm flipH="1" rot="16200000">
              <a:off x="6609960" y="3752280"/>
              <a:ext cx="381960" cy="953280"/>
            </a:xfrm>
            <a:prstGeom prst="bentConnector3">
              <a:avLst>
                <a:gd name="adj1" fmla="val 50000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53" name=""/>
            <p:cNvSpPr/>
            <p:nvPr/>
          </p:nvSpPr>
          <p:spPr>
            <a:xfrm rot="16200000">
              <a:off x="571464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/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2000" y="4419720"/>
              <a:ext cx="1981080" cy="38088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C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47960" y="4419720"/>
              <a:ext cx="648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95960" y="4419720"/>
              <a:ext cx="647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43600" y="4419720"/>
              <a:ext cx="647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43" idx="3"/>
              <a:endCxn id="155" idx="2"/>
            </p:cNvCxnSpPr>
            <p:nvPr/>
          </p:nvCxnSpPr>
          <p:spPr>
            <a:xfrm flipH="1" flipV="1" rot="5400000">
              <a:off x="4695120" y="4903200"/>
              <a:ext cx="380160" cy="173880"/>
            </a:xfrm>
            <a:prstGeom prst="bentConnector3">
              <a:avLst>
                <a:gd name="adj1" fmla="val 49952"/>
              </a:avLst>
            </a:prstGeom>
            <a:ln w="1260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9" name=""/>
            <p:cNvCxnSpPr>
              <a:stCxn id="144" idx="3"/>
              <a:endCxn id="156" idx="2"/>
            </p:cNvCxnSpPr>
            <p:nvPr/>
          </p:nvCxnSpPr>
          <p:spPr>
            <a:xfrm flipH="1" flipV="1" rot="5400000">
              <a:off x="5400000" y="4960440"/>
              <a:ext cx="380160" cy="59400"/>
            </a:xfrm>
            <a:prstGeom prst="bentConnector3">
              <a:avLst>
                <a:gd name="adj1" fmla="val 49763"/>
              </a:avLst>
            </a:prstGeom>
            <a:ln w="12600">
              <a:solidFill>
                <a:srgbClr val="6666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0" name=""/>
            <p:cNvCxnSpPr>
              <a:stCxn id="153" idx="3"/>
              <a:endCxn id="157" idx="2"/>
            </p:cNvCxnSpPr>
            <p:nvPr/>
          </p:nvCxnSpPr>
          <p:spPr>
            <a:xfrm flipV="1" rot="16200000">
              <a:off x="6104880" y="4961880"/>
              <a:ext cx="380160" cy="56520"/>
            </a:xfrm>
            <a:prstGeom prst="bentConnector3">
              <a:avLst>
                <a:gd name="adj1" fmla="val 49763"/>
              </a:avLst>
            </a:prstGeom>
            <a:ln w="12600">
              <a:solidFill>
                <a:srgbClr val="6666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1" name=""/>
            <p:cNvCxnSpPr>
              <a:stCxn id="145" idx="3"/>
              <a:endCxn id="152" idx="2"/>
            </p:cNvCxnSpPr>
            <p:nvPr/>
          </p:nvCxnSpPr>
          <p:spPr>
            <a:xfrm flipV="1" rot="16200000">
              <a:off x="7181280" y="4895280"/>
              <a:ext cx="380160" cy="189720"/>
            </a:xfrm>
            <a:prstGeom prst="bentConnector3">
              <a:avLst>
                <a:gd name="adj1" fmla="val 49763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47" name=""/>
            <p:cNvSpPr/>
            <p:nvPr/>
          </p:nvSpPr>
          <p:spPr>
            <a:xfrm>
              <a:off x="5638680" y="327672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95880" y="327672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38680" y="365760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5880" y="365760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58000" y="4419720"/>
              <a:ext cx="838080" cy="380880"/>
            </a:xfrm>
            <a:prstGeom prst="rect">
              <a:avLst/>
            </a:prstGeom>
            <a:solidFill>
              <a:srgbClr val="fec52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G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63" name=""/>
            <p:cNvCxnSpPr>
              <a:stCxn id="162" idx="2"/>
              <a:endCxn id="154" idx="0"/>
            </p:cNvCxnSpPr>
            <p:nvPr/>
          </p:nvCxnSpPr>
          <p:spPr>
            <a:xfrm rot="5400000">
              <a:off x="5523480" y="4076280"/>
              <a:ext cx="381960" cy="30564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666699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7626240" y="3448080"/>
            <a:ext cx="1820520" cy="1236240"/>
            <a:chOff x="7626240" y="3448080"/>
            <a:chExt cx="1820520" cy="1236240"/>
          </a:xfrm>
        </p:grpSpPr>
        <p:grpSp>
          <p:nvGrpSpPr>
            <p:cNvPr id="165" name=""/>
            <p:cNvGrpSpPr/>
            <p:nvPr/>
          </p:nvGrpSpPr>
          <p:grpSpPr>
            <a:xfrm>
              <a:off x="8245080" y="3585600"/>
              <a:ext cx="927720" cy="686520"/>
              <a:chOff x="8245080" y="3585600"/>
              <a:chExt cx="927720" cy="686520"/>
            </a:xfrm>
          </p:grpSpPr>
          <p:sp>
            <p:nvSpPr>
              <p:cNvPr id="166" name=""/>
              <p:cNvSpPr/>
              <p:nvPr/>
            </p:nvSpPr>
            <p:spPr>
              <a:xfrm>
                <a:off x="8245080" y="3585600"/>
                <a:ext cx="927720" cy="6865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322480" y="3654000"/>
                <a:ext cx="773280" cy="549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8245080" y="4341240"/>
              <a:ext cx="850320" cy="274680"/>
              <a:chOff x="8245080" y="4341240"/>
              <a:chExt cx="850320" cy="274680"/>
            </a:xfrm>
          </p:grpSpPr>
          <p:sp>
            <p:nvSpPr>
              <p:cNvPr id="169" name=""/>
              <p:cNvSpPr/>
              <p:nvPr/>
            </p:nvSpPr>
            <p:spPr>
              <a:xfrm>
                <a:off x="8245080" y="4341240"/>
                <a:ext cx="850320" cy="27468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8322120" y="4410000"/>
                <a:ext cx="695520" cy="137160"/>
                <a:chOff x="8322120" y="4410000"/>
                <a:chExt cx="695520" cy="137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832212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832212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8399520" y="441000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8399520" y="447840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847656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847656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855396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55396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631360" y="441000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631360" y="447840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870840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870840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878580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878580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863200" y="441000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8863200" y="447840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894024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894024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9" name=""/>
            <p:cNvGrpSpPr/>
            <p:nvPr/>
          </p:nvGrpSpPr>
          <p:grpSpPr>
            <a:xfrm>
              <a:off x="9250200" y="4410000"/>
              <a:ext cx="196560" cy="274320"/>
              <a:chOff x="9250200" y="4410000"/>
              <a:chExt cx="196560" cy="274320"/>
            </a:xfrm>
          </p:grpSpPr>
          <p:sp>
            <p:nvSpPr>
              <p:cNvPr id="190" name=""/>
              <p:cNvSpPr/>
              <p:nvPr/>
            </p:nvSpPr>
            <p:spPr>
              <a:xfrm>
                <a:off x="9250200" y="4410000"/>
                <a:ext cx="196560" cy="274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9306360" y="4410000"/>
                <a:ext cx="84240" cy="997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9095760" y="4272480"/>
              <a:ext cx="309240" cy="1375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7626240" y="3448080"/>
              <a:ext cx="541080" cy="1167840"/>
              <a:chOff x="7626240" y="3448080"/>
              <a:chExt cx="541080" cy="1167840"/>
            </a:xfrm>
          </p:grpSpPr>
          <p:sp>
            <p:nvSpPr>
              <p:cNvPr id="194" name=""/>
              <p:cNvSpPr/>
              <p:nvPr/>
            </p:nvSpPr>
            <p:spPr>
              <a:xfrm>
                <a:off x="7626240" y="3448080"/>
                <a:ext cx="541080" cy="11678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703640" y="351684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703640" y="372276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7" name=""/>
          <p:cNvGrpSpPr/>
          <p:nvPr/>
        </p:nvGrpSpPr>
        <p:grpSpPr>
          <a:xfrm>
            <a:off x="4222800" y="4135320"/>
            <a:ext cx="1820520" cy="1238040"/>
            <a:chOff x="4222800" y="4135320"/>
            <a:chExt cx="1820520" cy="1238040"/>
          </a:xfrm>
        </p:grpSpPr>
        <p:grpSp>
          <p:nvGrpSpPr>
            <p:cNvPr id="198" name=""/>
            <p:cNvGrpSpPr/>
            <p:nvPr/>
          </p:nvGrpSpPr>
          <p:grpSpPr>
            <a:xfrm>
              <a:off x="4841640" y="4272840"/>
              <a:ext cx="927720" cy="687600"/>
              <a:chOff x="4841640" y="4272840"/>
              <a:chExt cx="927720" cy="687600"/>
            </a:xfrm>
          </p:grpSpPr>
          <p:sp>
            <p:nvSpPr>
              <p:cNvPr id="199" name=""/>
              <p:cNvSpPr/>
              <p:nvPr/>
            </p:nvSpPr>
            <p:spPr>
              <a:xfrm>
                <a:off x="4841640" y="4272840"/>
                <a:ext cx="927720" cy="68760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919040" y="4341600"/>
                <a:ext cx="773280" cy="54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4841640" y="5029560"/>
              <a:ext cx="850320" cy="275040"/>
              <a:chOff x="4841640" y="5029560"/>
              <a:chExt cx="850320" cy="275040"/>
            </a:xfrm>
          </p:grpSpPr>
          <p:sp>
            <p:nvSpPr>
              <p:cNvPr id="202" name=""/>
              <p:cNvSpPr/>
              <p:nvPr/>
            </p:nvSpPr>
            <p:spPr>
              <a:xfrm>
                <a:off x="4841640" y="5029560"/>
                <a:ext cx="850320" cy="27504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4918680" y="5098320"/>
                <a:ext cx="695520" cy="137160"/>
                <a:chOff x="4918680" y="5098320"/>
                <a:chExt cx="695520" cy="13716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491868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91868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99608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608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07312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07312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5052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15052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22792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22792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30496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30496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38236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38236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45976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45976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53680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53680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2" name=""/>
            <p:cNvGrpSpPr/>
            <p:nvPr/>
          </p:nvGrpSpPr>
          <p:grpSpPr>
            <a:xfrm>
              <a:off x="5846760" y="5098680"/>
              <a:ext cx="196560" cy="274680"/>
              <a:chOff x="5846760" y="5098680"/>
              <a:chExt cx="196560" cy="274680"/>
            </a:xfrm>
          </p:grpSpPr>
          <p:sp>
            <p:nvSpPr>
              <p:cNvPr id="223" name=""/>
              <p:cNvSpPr/>
              <p:nvPr/>
            </p:nvSpPr>
            <p:spPr>
              <a:xfrm>
                <a:off x="5846760" y="5098680"/>
                <a:ext cx="196560" cy="2746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902920" y="5098680"/>
                <a:ext cx="84240" cy="997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5692320" y="4960800"/>
              <a:ext cx="309240" cy="1375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4222800" y="4135320"/>
              <a:ext cx="541080" cy="1169640"/>
              <a:chOff x="4222800" y="4135320"/>
              <a:chExt cx="541080" cy="1169640"/>
            </a:xfrm>
          </p:grpSpPr>
          <p:sp>
            <p:nvSpPr>
              <p:cNvPr id="227" name=""/>
              <p:cNvSpPr/>
              <p:nvPr/>
            </p:nvSpPr>
            <p:spPr>
              <a:xfrm>
                <a:off x="4222800" y="4135320"/>
                <a:ext cx="541080" cy="1169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00200" y="420408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00200" y="441036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0" name=""/>
          <p:cNvGrpSpPr/>
          <p:nvPr/>
        </p:nvGrpSpPr>
        <p:grpSpPr>
          <a:xfrm>
            <a:off x="4222800" y="2828880"/>
            <a:ext cx="1820520" cy="1238040"/>
            <a:chOff x="4222800" y="2828880"/>
            <a:chExt cx="1820520" cy="1238040"/>
          </a:xfrm>
        </p:grpSpPr>
        <p:grpSp>
          <p:nvGrpSpPr>
            <p:cNvPr id="231" name=""/>
            <p:cNvGrpSpPr/>
            <p:nvPr/>
          </p:nvGrpSpPr>
          <p:grpSpPr>
            <a:xfrm>
              <a:off x="4841640" y="2966400"/>
              <a:ext cx="927720" cy="687600"/>
              <a:chOff x="4841640" y="2966400"/>
              <a:chExt cx="927720" cy="687600"/>
            </a:xfrm>
          </p:grpSpPr>
          <p:sp>
            <p:nvSpPr>
              <p:cNvPr id="232" name=""/>
              <p:cNvSpPr/>
              <p:nvPr/>
            </p:nvSpPr>
            <p:spPr>
              <a:xfrm>
                <a:off x="4841640" y="2966400"/>
                <a:ext cx="927720" cy="68760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919040" y="3035160"/>
                <a:ext cx="773280" cy="54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841640" y="3723120"/>
              <a:ext cx="850320" cy="275040"/>
              <a:chOff x="4841640" y="3723120"/>
              <a:chExt cx="850320" cy="275040"/>
            </a:xfrm>
          </p:grpSpPr>
          <p:sp>
            <p:nvSpPr>
              <p:cNvPr id="235" name=""/>
              <p:cNvSpPr/>
              <p:nvPr/>
            </p:nvSpPr>
            <p:spPr>
              <a:xfrm>
                <a:off x="4841640" y="3723120"/>
                <a:ext cx="850320" cy="27504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4918680" y="3791880"/>
                <a:ext cx="695520" cy="137160"/>
                <a:chOff x="4918680" y="3791880"/>
                <a:chExt cx="695520" cy="13716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491868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91868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99608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99608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07312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07312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15052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15052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22792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22792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30496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30496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538236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38236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45976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45976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53680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53680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5846760" y="3792240"/>
              <a:ext cx="196560" cy="274680"/>
              <a:chOff x="5846760" y="3792240"/>
              <a:chExt cx="196560" cy="274680"/>
            </a:xfrm>
          </p:grpSpPr>
          <p:sp>
            <p:nvSpPr>
              <p:cNvPr id="256" name=""/>
              <p:cNvSpPr/>
              <p:nvPr/>
            </p:nvSpPr>
            <p:spPr>
              <a:xfrm>
                <a:off x="5846760" y="3792240"/>
                <a:ext cx="196560" cy="2746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902920" y="3792240"/>
                <a:ext cx="84240" cy="997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5692320" y="3654360"/>
              <a:ext cx="309240" cy="1375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222800" y="2828880"/>
              <a:ext cx="541080" cy="1169640"/>
              <a:chOff x="4222800" y="2828880"/>
              <a:chExt cx="541080" cy="1169640"/>
            </a:xfrm>
          </p:grpSpPr>
          <p:sp>
            <p:nvSpPr>
              <p:cNvPr id="260" name=""/>
              <p:cNvSpPr/>
              <p:nvPr/>
            </p:nvSpPr>
            <p:spPr>
              <a:xfrm>
                <a:off x="4222800" y="2828880"/>
                <a:ext cx="541080" cy="1169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300200" y="289764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300200" y="310392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2133720" y="2828880"/>
            <a:ext cx="1820520" cy="1238040"/>
            <a:chOff x="2133720" y="2828880"/>
            <a:chExt cx="1820520" cy="1238040"/>
          </a:xfrm>
        </p:grpSpPr>
        <p:grpSp>
          <p:nvGrpSpPr>
            <p:cNvPr id="264" name=""/>
            <p:cNvGrpSpPr/>
            <p:nvPr/>
          </p:nvGrpSpPr>
          <p:grpSpPr>
            <a:xfrm>
              <a:off x="2752560" y="2966400"/>
              <a:ext cx="927720" cy="687600"/>
              <a:chOff x="2752560" y="2966400"/>
              <a:chExt cx="927720" cy="687600"/>
            </a:xfrm>
          </p:grpSpPr>
          <p:sp>
            <p:nvSpPr>
              <p:cNvPr id="265" name=""/>
              <p:cNvSpPr/>
              <p:nvPr/>
            </p:nvSpPr>
            <p:spPr>
              <a:xfrm>
                <a:off x="2752560" y="2966400"/>
                <a:ext cx="927720" cy="68760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829960" y="3035160"/>
                <a:ext cx="773280" cy="54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2752560" y="3723120"/>
              <a:ext cx="850320" cy="275040"/>
              <a:chOff x="2752560" y="3723120"/>
              <a:chExt cx="850320" cy="275040"/>
            </a:xfrm>
          </p:grpSpPr>
          <p:sp>
            <p:nvSpPr>
              <p:cNvPr id="268" name=""/>
              <p:cNvSpPr/>
              <p:nvPr/>
            </p:nvSpPr>
            <p:spPr>
              <a:xfrm>
                <a:off x="2752560" y="3723120"/>
                <a:ext cx="850320" cy="27504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2829600" y="3791880"/>
                <a:ext cx="695520" cy="137160"/>
                <a:chOff x="2829600" y="3791880"/>
                <a:chExt cx="695520" cy="13716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82960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82960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90700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90700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98404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98404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06144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06144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13884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13884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21588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321588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29328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29328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37068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37068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44772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44772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3757680" y="3792240"/>
              <a:ext cx="196560" cy="274680"/>
              <a:chOff x="3757680" y="3792240"/>
              <a:chExt cx="196560" cy="274680"/>
            </a:xfrm>
          </p:grpSpPr>
          <p:sp>
            <p:nvSpPr>
              <p:cNvPr id="289" name=""/>
              <p:cNvSpPr/>
              <p:nvPr/>
            </p:nvSpPr>
            <p:spPr>
              <a:xfrm>
                <a:off x="3757680" y="3792240"/>
                <a:ext cx="196560" cy="2746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813840" y="3792240"/>
                <a:ext cx="84240" cy="997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3603240" y="3654360"/>
              <a:ext cx="309240" cy="1375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2133720" y="2828880"/>
              <a:ext cx="541080" cy="1169640"/>
              <a:chOff x="2133720" y="2828880"/>
              <a:chExt cx="541080" cy="1169640"/>
            </a:xfrm>
          </p:grpSpPr>
          <p:sp>
            <p:nvSpPr>
              <p:cNvPr id="293" name=""/>
              <p:cNvSpPr/>
              <p:nvPr/>
            </p:nvSpPr>
            <p:spPr>
              <a:xfrm>
                <a:off x="2133720" y="2828880"/>
                <a:ext cx="541080" cy="1169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211120" y="289764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211120" y="310392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6" name=""/>
          <p:cNvGrpSpPr/>
          <p:nvPr/>
        </p:nvGrpSpPr>
        <p:grpSpPr>
          <a:xfrm>
            <a:off x="2133720" y="4135320"/>
            <a:ext cx="1820520" cy="1238040"/>
            <a:chOff x="2133720" y="4135320"/>
            <a:chExt cx="1820520" cy="1238040"/>
          </a:xfrm>
        </p:grpSpPr>
        <p:grpSp>
          <p:nvGrpSpPr>
            <p:cNvPr id="297" name=""/>
            <p:cNvGrpSpPr/>
            <p:nvPr/>
          </p:nvGrpSpPr>
          <p:grpSpPr>
            <a:xfrm>
              <a:off x="2752560" y="4272840"/>
              <a:ext cx="927720" cy="687600"/>
              <a:chOff x="2752560" y="4272840"/>
              <a:chExt cx="927720" cy="687600"/>
            </a:xfrm>
          </p:grpSpPr>
          <p:sp>
            <p:nvSpPr>
              <p:cNvPr id="298" name=""/>
              <p:cNvSpPr/>
              <p:nvPr/>
            </p:nvSpPr>
            <p:spPr>
              <a:xfrm>
                <a:off x="2752560" y="4272840"/>
                <a:ext cx="927720" cy="68760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29960" y="4341600"/>
                <a:ext cx="773280" cy="54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752560" y="5029560"/>
              <a:ext cx="850320" cy="275040"/>
              <a:chOff x="2752560" y="5029560"/>
              <a:chExt cx="850320" cy="275040"/>
            </a:xfrm>
          </p:grpSpPr>
          <p:sp>
            <p:nvSpPr>
              <p:cNvPr id="301" name=""/>
              <p:cNvSpPr/>
              <p:nvPr/>
            </p:nvSpPr>
            <p:spPr>
              <a:xfrm>
                <a:off x="2752560" y="5029560"/>
                <a:ext cx="850320" cy="27504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2" name=""/>
              <p:cNvGrpSpPr/>
              <p:nvPr/>
            </p:nvGrpSpPr>
            <p:grpSpPr>
              <a:xfrm>
                <a:off x="2829600" y="5098320"/>
                <a:ext cx="695520" cy="137160"/>
                <a:chOff x="2829600" y="5098320"/>
                <a:chExt cx="695520" cy="13716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282960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82960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90700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90700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98404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98404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306144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306144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13884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13884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21588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21588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29328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29328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37068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37068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344772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344772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757680" y="5098680"/>
              <a:ext cx="196560" cy="274680"/>
              <a:chOff x="3757680" y="5098680"/>
              <a:chExt cx="196560" cy="274680"/>
            </a:xfrm>
          </p:grpSpPr>
          <p:sp>
            <p:nvSpPr>
              <p:cNvPr id="322" name=""/>
              <p:cNvSpPr/>
              <p:nvPr/>
            </p:nvSpPr>
            <p:spPr>
              <a:xfrm>
                <a:off x="3757680" y="5098680"/>
                <a:ext cx="196560" cy="2746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813840" y="5098680"/>
                <a:ext cx="84240" cy="997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3603240" y="4960800"/>
              <a:ext cx="309240" cy="1375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2133720" y="4135320"/>
              <a:ext cx="541080" cy="1169640"/>
              <a:chOff x="2133720" y="4135320"/>
              <a:chExt cx="541080" cy="1169640"/>
            </a:xfrm>
          </p:grpSpPr>
          <p:sp>
            <p:nvSpPr>
              <p:cNvPr id="326" name=""/>
              <p:cNvSpPr/>
              <p:nvPr/>
            </p:nvSpPr>
            <p:spPr>
              <a:xfrm>
                <a:off x="2133720" y="4135320"/>
                <a:ext cx="541080" cy="1169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211120" y="420408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211120" y="441036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9" name=""/>
          <p:cNvSpPr/>
          <p:nvPr/>
        </p:nvSpPr>
        <p:spPr>
          <a:xfrm>
            <a:off x="2830680" y="3035160"/>
            <a:ext cx="772920" cy="54936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17960" y="3035160"/>
            <a:ext cx="774720" cy="549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23200" y="3929040"/>
            <a:ext cx="385920" cy="2746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917960" y="4341960"/>
            <a:ext cx="774720" cy="549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365200" y="2416320"/>
            <a:ext cx="5260680" cy="3300120"/>
            <a:chOff x="2365200" y="2416320"/>
            <a:chExt cx="5260680" cy="3300120"/>
          </a:xfrm>
        </p:grpSpPr>
        <p:grpSp>
          <p:nvGrpSpPr>
            <p:cNvPr id="334" name=""/>
            <p:cNvGrpSpPr/>
            <p:nvPr/>
          </p:nvGrpSpPr>
          <p:grpSpPr>
            <a:xfrm>
              <a:off x="2365200" y="2416320"/>
              <a:ext cx="4486680" cy="3300120"/>
              <a:chOff x="2365200" y="2416320"/>
              <a:chExt cx="4486680" cy="3300120"/>
            </a:xfrm>
          </p:grpSpPr>
          <p:sp>
            <p:nvSpPr>
              <p:cNvPr id="335" name=""/>
              <p:cNvSpPr/>
              <p:nvPr/>
            </p:nvSpPr>
            <p:spPr>
              <a:xfrm>
                <a:off x="2365200" y="2416320"/>
                <a:ext cx="4486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365200" y="5716440"/>
                <a:ext cx="4486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851880" y="2416320"/>
                <a:ext cx="0" cy="3300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530960" y="5303880"/>
                <a:ext cx="0" cy="412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365200" y="5303880"/>
                <a:ext cx="0" cy="412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365200" y="2416320"/>
                <a:ext cx="0" cy="412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530960" y="2416320"/>
                <a:ext cx="0" cy="412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6852240" y="4134960"/>
              <a:ext cx="773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8323200" y="3654360"/>
            <a:ext cx="385920" cy="2746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709120" y="3654360"/>
            <a:ext cx="387360" cy="2746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30680" y="4341960"/>
            <a:ext cx="772920" cy="549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709120" y="3929040"/>
            <a:ext cx="3873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385240" y="2201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4280" y="29520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Cluster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202560" y="2201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09280" y="5478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126240" y="5478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3124080" y="2133720"/>
            <a:ext cx="5360760" cy="4190760"/>
            <a:chOff x="3124080" y="2133720"/>
            <a:chExt cx="5360760" cy="4190760"/>
          </a:xfrm>
        </p:grpSpPr>
        <p:grpSp>
          <p:nvGrpSpPr>
            <p:cNvPr id="353" name=""/>
            <p:cNvGrpSpPr/>
            <p:nvPr/>
          </p:nvGrpSpPr>
          <p:grpSpPr>
            <a:xfrm>
              <a:off x="7238880" y="3733920"/>
              <a:ext cx="1028520" cy="761760"/>
              <a:chOff x="7238880" y="3733920"/>
              <a:chExt cx="1028520" cy="761760"/>
            </a:xfrm>
          </p:grpSpPr>
          <p:sp>
            <p:nvSpPr>
              <p:cNvPr id="354" name=""/>
              <p:cNvSpPr/>
              <p:nvPr/>
            </p:nvSpPr>
            <p:spPr>
              <a:xfrm>
                <a:off x="7238880" y="3733920"/>
                <a:ext cx="1028520" cy="7617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324560" y="3809880"/>
                <a:ext cx="85716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5438880" y="3124080"/>
              <a:ext cx="1028160" cy="762120"/>
              <a:chOff x="5438880" y="3124080"/>
              <a:chExt cx="1028160" cy="762120"/>
            </a:xfrm>
          </p:grpSpPr>
          <p:sp>
            <p:nvSpPr>
              <p:cNvPr id="357" name=""/>
              <p:cNvSpPr/>
              <p:nvPr/>
            </p:nvSpPr>
            <p:spPr>
              <a:xfrm>
                <a:off x="5438880" y="3124080"/>
                <a:ext cx="102816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524560" y="3200400"/>
                <a:ext cx="85716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5438880" y="5410080"/>
              <a:ext cx="1028160" cy="762120"/>
              <a:chOff x="5438880" y="5410080"/>
              <a:chExt cx="1028160" cy="762120"/>
            </a:xfrm>
          </p:grpSpPr>
          <p:sp>
            <p:nvSpPr>
              <p:cNvPr id="360" name=""/>
              <p:cNvSpPr/>
              <p:nvPr/>
            </p:nvSpPr>
            <p:spPr>
              <a:xfrm>
                <a:off x="5438880" y="5410080"/>
                <a:ext cx="102816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524560" y="5486400"/>
                <a:ext cx="85716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5438880" y="2133720"/>
              <a:ext cx="1028160" cy="761760"/>
              <a:chOff x="5438880" y="2133720"/>
              <a:chExt cx="1028160" cy="761760"/>
            </a:xfrm>
          </p:grpSpPr>
          <p:sp>
            <p:nvSpPr>
              <p:cNvPr id="363" name=""/>
              <p:cNvSpPr/>
              <p:nvPr/>
            </p:nvSpPr>
            <p:spPr>
              <a:xfrm>
                <a:off x="5438880" y="2133720"/>
                <a:ext cx="1028160" cy="7617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524560" y="2209680"/>
                <a:ext cx="85716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7153200" y="4572000"/>
              <a:ext cx="1331640" cy="457200"/>
              <a:chOff x="7153200" y="4572000"/>
              <a:chExt cx="1331640" cy="457200"/>
            </a:xfrm>
          </p:grpSpPr>
          <p:grpSp>
            <p:nvGrpSpPr>
              <p:cNvPr id="366" name=""/>
              <p:cNvGrpSpPr/>
              <p:nvPr/>
            </p:nvGrpSpPr>
            <p:grpSpPr>
              <a:xfrm>
                <a:off x="7153200" y="4647960"/>
                <a:ext cx="942120" cy="304920"/>
                <a:chOff x="7153200" y="4647960"/>
                <a:chExt cx="942120" cy="3049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7153200" y="4647960"/>
                  <a:ext cx="942120" cy="304920"/>
                </a:xfrm>
                <a:prstGeom prst="rect">
                  <a:avLst/>
                </a:prstGeom>
                <a:solidFill>
                  <a:srgbClr val="863d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8" name=""/>
                <p:cNvGrpSpPr/>
                <p:nvPr/>
              </p:nvGrpSpPr>
              <p:grpSpPr>
                <a:xfrm>
                  <a:off x="7238520" y="4724280"/>
                  <a:ext cx="770760" cy="152280"/>
                  <a:chOff x="7238520" y="4724280"/>
                  <a:chExt cx="770760" cy="15228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723852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723852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7324200" y="4724280"/>
                    <a:ext cx="8532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7324200" y="4800240"/>
                    <a:ext cx="8532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740952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740952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749520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749520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7581240" y="4724280"/>
                    <a:ext cx="8532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7581240" y="4800240"/>
                    <a:ext cx="8532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766656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766656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775224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775224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7838280" y="4724280"/>
                    <a:ext cx="8532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7838280" y="4800240"/>
                    <a:ext cx="8532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792360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792360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7" name=""/>
              <p:cNvGrpSpPr/>
              <p:nvPr/>
            </p:nvGrpSpPr>
            <p:grpSpPr>
              <a:xfrm>
                <a:off x="8267040" y="4724280"/>
                <a:ext cx="217800" cy="304920"/>
                <a:chOff x="8267040" y="4724280"/>
                <a:chExt cx="217800" cy="3049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8267040" y="4724280"/>
                  <a:ext cx="217800" cy="3049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8328960" y="4724280"/>
                  <a:ext cx="93240" cy="11088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0" name=""/>
              <p:cNvSpPr/>
              <p:nvPr/>
            </p:nvSpPr>
            <p:spPr>
              <a:xfrm>
                <a:off x="8095680" y="4572000"/>
                <a:ext cx="342720" cy="152280"/>
              </a:xfrm>
              <a:custGeom>
                <a:avLst/>
                <a:gdLst/>
                <a:ahLst/>
                <a:rect l="l" t="t" r="r" b="b"/>
                <a:pathLst>
                  <a:path w="192" h="96">
                    <a:moveTo>
                      <a:pt x="144" y="96"/>
                    </a:moveTo>
                    <a:cubicBezTo>
                      <a:pt x="168" y="80"/>
                      <a:pt x="192" y="64"/>
                      <a:pt x="192" y="48"/>
                    </a:cubicBezTo>
                    <a:cubicBezTo>
                      <a:pt x="192" y="32"/>
                      <a:pt x="168" y="0"/>
                      <a:pt x="144" y="0"/>
                    </a:cubicBezTo>
                    <a:cubicBezTo>
                      <a:pt x="120" y="0"/>
                      <a:pt x="72" y="40"/>
                      <a:pt x="48" y="48"/>
                    </a:cubicBezTo>
                    <a:cubicBezTo>
                      <a:pt x="24" y="56"/>
                      <a:pt x="8" y="48"/>
                      <a:pt x="0" y="48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3124080" y="2133720"/>
              <a:ext cx="1457280" cy="4190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295800" y="228600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24560" y="2209680"/>
              <a:ext cx="857160" cy="6098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24560" y="3200400"/>
              <a:ext cx="857160" cy="6094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324560" y="4114800"/>
              <a:ext cx="428760" cy="30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324560" y="3809880"/>
              <a:ext cx="428760" cy="3049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753320" y="3809880"/>
              <a:ext cx="428760" cy="3049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24560" y="5486400"/>
              <a:ext cx="857160" cy="609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753320" y="4114800"/>
              <a:ext cx="42876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95800" y="289548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95800" y="2590920"/>
              <a:ext cx="48888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295800" y="3276720"/>
              <a:ext cx="48888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295800" y="388620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95800" y="358128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295800" y="525780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295800" y="586728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95800" y="5562720"/>
              <a:ext cx="48888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95560" y="5257800"/>
              <a:ext cx="489240" cy="838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295800" y="426708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295800" y="4876920"/>
              <a:ext cx="48888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295800" y="457200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95560" y="3276720"/>
              <a:ext cx="489240" cy="838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95560" y="4267080"/>
              <a:ext cx="489240" cy="838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95560" y="2286000"/>
              <a:ext cx="489240" cy="838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4581360" y="2514600"/>
              <a:ext cx="857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755240" y="2278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4581360" y="3505320"/>
              <a:ext cx="857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755240" y="3268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4581360" y="5791320"/>
              <a:ext cx="857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55240" y="5554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4581360" y="4114800"/>
              <a:ext cx="2657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640920" y="3878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5438880" y="4343400"/>
              <a:ext cx="1028160" cy="762120"/>
              <a:chOff x="5438880" y="4343400"/>
              <a:chExt cx="1028160" cy="762120"/>
            </a:xfrm>
          </p:grpSpPr>
          <p:sp>
            <p:nvSpPr>
              <p:cNvPr id="424" name=""/>
              <p:cNvSpPr/>
              <p:nvPr/>
            </p:nvSpPr>
            <p:spPr>
              <a:xfrm>
                <a:off x="5438880" y="4343400"/>
                <a:ext cx="102816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524560" y="4419720"/>
                <a:ext cx="85716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5524560" y="4419720"/>
              <a:ext cx="8571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4581360" y="4724280"/>
              <a:ext cx="857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755240" y="4487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314280" y="29520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Single-System Image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2981160" y="2209680"/>
            <a:ext cx="85752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8296200" y="3429000"/>
            <a:ext cx="1028520" cy="762120"/>
            <a:chOff x="8296200" y="3429000"/>
            <a:chExt cx="1028520" cy="762120"/>
          </a:xfrm>
        </p:grpSpPr>
        <p:sp>
          <p:nvSpPr>
            <p:cNvPr id="432" name=""/>
            <p:cNvSpPr/>
            <p:nvPr/>
          </p:nvSpPr>
          <p:spPr>
            <a:xfrm>
              <a:off x="8296200" y="3429000"/>
              <a:ext cx="1028520" cy="7621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381880" y="3505320"/>
              <a:ext cx="8571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8296200" y="2590920"/>
            <a:ext cx="1028520" cy="761760"/>
            <a:chOff x="8296200" y="2590920"/>
            <a:chExt cx="1028520" cy="761760"/>
          </a:xfrm>
        </p:grpSpPr>
        <p:sp>
          <p:nvSpPr>
            <p:cNvPr id="435" name=""/>
            <p:cNvSpPr/>
            <p:nvPr/>
          </p:nvSpPr>
          <p:spPr>
            <a:xfrm>
              <a:off x="8296200" y="2590920"/>
              <a:ext cx="1028520" cy="761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381880" y="2666880"/>
              <a:ext cx="857160" cy="609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7182000" y="3429000"/>
            <a:ext cx="1028160" cy="762120"/>
            <a:chOff x="7182000" y="3429000"/>
            <a:chExt cx="1028160" cy="762120"/>
          </a:xfrm>
        </p:grpSpPr>
        <p:sp>
          <p:nvSpPr>
            <p:cNvPr id="438" name=""/>
            <p:cNvSpPr/>
            <p:nvPr/>
          </p:nvSpPr>
          <p:spPr>
            <a:xfrm>
              <a:off x="7182000" y="3429000"/>
              <a:ext cx="1028160" cy="7621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267680" y="3505320"/>
              <a:ext cx="8571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5381640" y="3429000"/>
            <a:ext cx="1331640" cy="1219320"/>
            <a:chOff x="5381640" y="3429000"/>
            <a:chExt cx="1331640" cy="1219320"/>
          </a:xfrm>
        </p:grpSpPr>
        <p:grpSp>
          <p:nvGrpSpPr>
            <p:cNvPr id="441" name=""/>
            <p:cNvGrpSpPr/>
            <p:nvPr/>
          </p:nvGrpSpPr>
          <p:grpSpPr>
            <a:xfrm>
              <a:off x="5381640" y="3429000"/>
              <a:ext cx="1028160" cy="762120"/>
              <a:chOff x="5381640" y="3429000"/>
              <a:chExt cx="1028160" cy="762120"/>
            </a:xfrm>
          </p:grpSpPr>
          <p:sp>
            <p:nvSpPr>
              <p:cNvPr id="442" name=""/>
              <p:cNvSpPr/>
              <p:nvPr/>
            </p:nvSpPr>
            <p:spPr>
              <a:xfrm>
                <a:off x="5381640" y="3429000"/>
                <a:ext cx="102816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467320" y="3505320"/>
                <a:ext cx="85716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5381640" y="4267440"/>
              <a:ext cx="942120" cy="304560"/>
              <a:chOff x="5381640" y="4267440"/>
              <a:chExt cx="942120" cy="304560"/>
            </a:xfrm>
          </p:grpSpPr>
          <p:sp>
            <p:nvSpPr>
              <p:cNvPr id="445" name=""/>
              <p:cNvSpPr/>
              <p:nvPr/>
            </p:nvSpPr>
            <p:spPr>
              <a:xfrm>
                <a:off x="5381640" y="4267440"/>
                <a:ext cx="942120" cy="30456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6" name=""/>
              <p:cNvGrpSpPr/>
              <p:nvPr/>
            </p:nvGrpSpPr>
            <p:grpSpPr>
              <a:xfrm>
                <a:off x="5466960" y="4343400"/>
                <a:ext cx="770760" cy="151560"/>
                <a:chOff x="5466960" y="4343400"/>
                <a:chExt cx="770760" cy="15156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546696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46696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555264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555264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563796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563796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72364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72364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580968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80968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89500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89500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598068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98068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06672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06672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15204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15204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5" name=""/>
            <p:cNvGrpSpPr/>
            <p:nvPr/>
          </p:nvGrpSpPr>
          <p:grpSpPr>
            <a:xfrm>
              <a:off x="6495480" y="4343400"/>
              <a:ext cx="217800" cy="304920"/>
              <a:chOff x="6495480" y="4343400"/>
              <a:chExt cx="217800" cy="304920"/>
            </a:xfrm>
          </p:grpSpPr>
          <p:sp>
            <p:nvSpPr>
              <p:cNvPr id="466" name=""/>
              <p:cNvSpPr/>
              <p:nvPr/>
            </p:nvSpPr>
            <p:spPr>
              <a:xfrm>
                <a:off x="6495480" y="4343400"/>
                <a:ext cx="217800" cy="3049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557400" y="4343400"/>
                <a:ext cx="93240" cy="11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>
              <a:off x="6324120" y="4191120"/>
              <a:ext cx="342720" cy="1522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4952880" y="2209680"/>
            <a:ext cx="85752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24600" y="2666880"/>
            <a:ext cx="857160" cy="611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295960" y="3048120"/>
            <a:ext cx="8571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467320" y="3505320"/>
            <a:ext cx="8571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1438200" y="3429000"/>
            <a:ext cx="1331640" cy="1219320"/>
            <a:chOff x="1438200" y="3429000"/>
            <a:chExt cx="1331640" cy="1219320"/>
          </a:xfrm>
        </p:grpSpPr>
        <p:grpSp>
          <p:nvGrpSpPr>
            <p:cNvPr id="474" name=""/>
            <p:cNvGrpSpPr/>
            <p:nvPr/>
          </p:nvGrpSpPr>
          <p:grpSpPr>
            <a:xfrm>
              <a:off x="1438200" y="3429000"/>
              <a:ext cx="1027800" cy="762120"/>
              <a:chOff x="1438200" y="3429000"/>
              <a:chExt cx="1027800" cy="762120"/>
            </a:xfrm>
          </p:grpSpPr>
          <p:sp>
            <p:nvSpPr>
              <p:cNvPr id="475" name=""/>
              <p:cNvSpPr/>
              <p:nvPr/>
            </p:nvSpPr>
            <p:spPr>
              <a:xfrm>
                <a:off x="1438200" y="3429000"/>
                <a:ext cx="102780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523880" y="3505320"/>
                <a:ext cx="85680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1438200" y="4267440"/>
              <a:ext cx="942120" cy="304560"/>
              <a:chOff x="1438200" y="4267440"/>
              <a:chExt cx="942120" cy="304560"/>
            </a:xfrm>
          </p:grpSpPr>
          <p:sp>
            <p:nvSpPr>
              <p:cNvPr id="478" name=""/>
              <p:cNvSpPr/>
              <p:nvPr/>
            </p:nvSpPr>
            <p:spPr>
              <a:xfrm>
                <a:off x="1438200" y="4267440"/>
                <a:ext cx="942120" cy="30456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1523520" y="4343400"/>
                <a:ext cx="770760" cy="151560"/>
                <a:chOff x="1523520" y="4343400"/>
                <a:chExt cx="770760" cy="1515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152352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152352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160920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160920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169452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169452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178020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78020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86624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86624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95156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95156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203724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03724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12328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212328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20860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20860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8" name=""/>
            <p:cNvGrpSpPr/>
            <p:nvPr/>
          </p:nvGrpSpPr>
          <p:grpSpPr>
            <a:xfrm>
              <a:off x="2552040" y="4343400"/>
              <a:ext cx="217800" cy="304920"/>
              <a:chOff x="2552040" y="4343400"/>
              <a:chExt cx="217800" cy="304920"/>
            </a:xfrm>
          </p:grpSpPr>
          <p:sp>
            <p:nvSpPr>
              <p:cNvPr id="499" name=""/>
              <p:cNvSpPr/>
              <p:nvPr/>
            </p:nvSpPr>
            <p:spPr>
              <a:xfrm>
                <a:off x="2552040" y="4343400"/>
                <a:ext cx="217800" cy="3049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613960" y="4343400"/>
                <a:ext cx="93240" cy="11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2380680" y="4191120"/>
              <a:ext cx="342720" cy="1522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523880" y="3810240"/>
              <a:ext cx="428040" cy="30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523880" y="3505320"/>
              <a:ext cx="428040" cy="3049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952280" y="3505320"/>
              <a:ext cx="428040" cy="3049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952280" y="3810240"/>
              <a:ext cx="428040" cy="30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3409920" y="3429000"/>
            <a:ext cx="1331640" cy="1219320"/>
            <a:chOff x="3409920" y="3429000"/>
            <a:chExt cx="1331640" cy="1219320"/>
          </a:xfrm>
        </p:grpSpPr>
        <p:grpSp>
          <p:nvGrpSpPr>
            <p:cNvPr id="507" name=""/>
            <p:cNvGrpSpPr/>
            <p:nvPr/>
          </p:nvGrpSpPr>
          <p:grpSpPr>
            <a:xfrm>
              <a:off x="3409920" y="3429000"/>
              <a:ext cx="1028160" cy="762120"/>
              <a:chOff x="3409920" y="3429000"/>
              <a:chExt cx="1028160" cy="762120"/>
            </a:xfrm>
          </p:grpSpPr>
          <p:sp>
            <p:nvSpPr>
              <p:cNvPr id="508" name=""/>
              <p:cNvSpPr/>
              <p:nvPr/>
            </p:nvSpPr>
            <p:spPr>
              <a:xfrm>
                <a:off x="3409920" y="3429000"/>
                <a:ext cx="102816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495600" y="3505320"/>
                <a:ext cx="85716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3409920" y="4267440"/>
              <a:ext cx="942120" cy="304560"/>
              <a:chOff x="3409920" y="4267440"/>
              <a:chExt cx="942120" cy="304560"/>
            </a:xfrm>
          </p:grpSpPr>
          <p:sp>
            <p:nvSpPr>
              <p:cNvPr id="511" name=""/>
              <p:cNvSpPr/>
              <p:nvPr/>
            </p:nvSpPr>
            <p:spPr>
              <a:xfrm>
                <a:off x="3409920" y="4267440"/>
                <a:ext cx="942120" cy="30456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12" name=""/>
              <p:cNvGrpSpPr/>
              <p:nvPr/>
            </p:nvGrpSpPr>
            <p:grpSpPr>
              <a:xfrm>
                <a:off x="3495240" y="4343400"/>
                <a:ext cx="770760" cy="151560"/>
                <a:chOff x="3495240" y="4343400"/>
                <a:chExt cx="770760" cy="1515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49524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49524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58092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358092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66624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366624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75192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75192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383796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83796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92328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392328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400896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00896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09500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409500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418032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418032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1" name=""/>
            <p:cNvGrpSpPr/>
            <p:nvPr/>
          </p:nvGrpSpPr>
          <p:grpSpPr>
            <a:xfrm>
              <a:off x="4523760" y="4343400"/>
              <a:ext cx="217800" cy="304920"/>
              <a:chOff x="4523760" y="4343400"/>
              <a:chExt cx="217800" cy="304920"/>
            </a:xfrm>
          </p:grpSpPr>
          <p:sp>
            <p:nvSpPr>
              <p:cNvPr id="532" name=""/>
              <p:cNvSpPr/>
              <p:nvPr/>
            </p:nvSpPr>
            <p:spPr>
              <a:xfrm>
                <a:off x="4523760" y="4343400"/>
                <a:ext cx="217800" cy="3049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585680" y="4343400"/>
                <a:ext cx="93240" cy="11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4352400" y="4191120"/>
              <a:ext cx="342720" cy="1522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2981160" y="2209680"/>
            <a:ext cx="85752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152880" y="2666880"/>
            <a:ext cx="857160" cy="611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324240" y="3048120"/>
            <a:ext cx="8571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495600" y="3505320"/>
            <a:ext cx="8571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7182000" y="2590920"/>
            <a:ext cx="1028160" cy="761760"/>
            <a:chOff x="7182000" y="2590920"/>
            <a:chExt cx="1028160" cy="761760"/>
          </a:xfrm>
        </p:grpSpPr>
        <p:sp>
          <p:nvSpPr>
            <p:cNvPr id="540" name=""/>
            <p:cNvSpPr/>
            <p:nvPr/>
          </p:nvSpPr>
          <p:spPr>
            <a:xfrm>
              <a:off x="7182000" y="2590920"/>
              <a:ext cx="1028160" cy="761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267680" y="2666880"/>
              <a:ext cx="857160" cy="609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7182000" y="4267080"/>
            <a:ext cx="942480" cy="304920"/>
            <a:chOff x="7182000" y="4267080"/>
            <a:chExt cx="942480" cy="304920"/>
          </a:xfrm>
        </p:grpSpPr>
        <p:sp>
          <p:nvSpPr>
            <p:cNvPr id="543" name=""/>
            <p:cNvSpPr/>
            <p:nvPr/>
          </p:nvSpPr>
          <p:spPr>
            <a:xfrm>
              <a:off x="7182000" y="4267080"/>
              <a:ext cx="942480" cy="304920"/>
            </a:xfrm>
            <a:prstGeom prst="rect">
              <a:avLst/>
            </a:prstGeom>
            <a:solidFill>
              <a:srgbClr val="863d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7267320" y="4343400"/>
              <a:ext cx="771120" cy="152280"/>
              <a:chOff x="7267320" y="4343400"/>
              <a:chExt cx="771120" cy="152280"/>
            </a:xfrm>
          </p:grpSpPr>
          <p:sp>
            <p:nvSpPr>
              <p:cNvPr id="545" name=""/>
              <p:cNvSpPr/>
              <p:nvPr/>
            </p:nvSpPr>
            <p:spPr>
              <a:xfrm>
                <a:off x="726732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26732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353000" y="4343400"/>
                <a:ext cx="8532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353000" y="4419360"/>
                <a:ext cx="8532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43832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43832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52436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52436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610040" y="4343400"/>
                <a:ext cx="8532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610040" y="4419360"/>
                <a:ext cx="8532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69572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69572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78140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78140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867440" y="4343400"/>
                <a:ext cx="8532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867440" y="4419360"/>
                <a:ext cx="8532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95276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95276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3" name=""/>
          <p:cNvGrpSpPr/>
          <p:nvPr/>
        </p:nvGrpSpPr>
        <p:grpSpPr>
          <a:xfrm>
            <a:off x="8296200" y="4343400"/>
            <a:ext cx="217440" cy="304920"/>
            <a:chOff x="8296200" y="4343400"/>
            <a:chExt cx="217440" cy="304920"/>
          </a:xfrm>
        </p:grpSpPr>
        <p:sp>
          <p:nvSpPr>
            <p:cNvPr id="564" name=""/>
            <p:cNvSpPr/>
            <p:nvPr/>
          </p:nvSpPr>
          <p:spPr>
            <a:xfrm>
              <a:off x="8296200" y="4343400"/>
              <a:ext cx="217440" cy="304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358120" y="4343400"/>
              <a:ext cx="93240" cy="1108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8124840" y="4191120"/>
            <a:ext cx="342720" cy="152280"/>
          </a:xfrm>
          <a:custGeom>
            <a:avLst/>
            <a:gdLst/>
            <a:ahLst/>
            <a:rect l="l" t="t" r="r" b="b"/>
            <a:pathLst>
              <a:path w="192" h="96">
                <a:moveTo>
                  <a:pt x="144" y="96"/>
                </a:moveTo>
                <a:cubicBezTo>
                  <a:pt x="168" y="80"/>
                  <a:pt x="192" y="64"/>
                  <a:pt x="192" y="48"/>
                </a:cubicBezTo>
                <a:cubicBezTo>
                  <a:pt x="192" y="32"/>
                  <a:pt x="168" y="0"/>
                  <a:pt x="144" y="0"/>
                </a:cubicBezTo>
                <a:cubicBezTo>
                  <a:pt x="120" y="0"/>
                  <a:pt x="72" y="40"/>
                  <a:pt x="48" y="48"/>
                </a:cubicBezTo>
                <a:cubicBezTo>
                  <a:pt x="24" y="56"/>
                  <a:pt x="8" y="48"/>
                  <a:pt x="0" y="4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267680" y="2666880"/>
            <a:ext cx="85716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381880" y="2666880"/>
            <a:ext cx="857520" cy="611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267680" y="3505320"/>
            <a:ext cx="8571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381880" y="3505320"/>
            <a:ext cx="85752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095480" y="4800600"/>
            <a:ext cx="1885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at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ling 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ompos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067200" y="4800600"/>
            <a:ext cx="1885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v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038560" y="4800600"/>
            <a:ext cx="1886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ling 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ompos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353360" y="4800600"/>
            <a:ext cx="1886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pl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14280" y="29520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Data Decompositions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314280" y="29520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Data Management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Data Managemen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e goal is to manage your data wel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 larger systems one technique is to use data decompositi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t these gains can be negated by poor management of individual subsystems or components. More later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The Poi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y learn about hardware?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understand how your app interacts with i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best utilize the hard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tentially can use extra hardware featu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ere?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atform document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alk with hardware vend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sn’t this a graphics course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baby0" descr=""/>
          <p:cNvPicPr/>
          <p:nvPr/>
        </p:nvPicPr>
        <p:blipFill>
          <a:blip r:embed="rId1"/>
          <a:stretch/>
        </p:blipFill>
        <p:spPr>
          <a:xfrm>
            <a:off x="3657600" y="2514600"/>
            <a:ext cx="214308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PU: Overvie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PU Operation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ata transferred from main memory to regis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PU works on data in regis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Latency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gisters: 0 (fre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vel-1 (L1) cache:  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vel-2 (L2) cache:  10x L1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in memory:  100x L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PU: Overvie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2666880" y="3352680"/>
            <a:ext cx="5410440" cy="1447920"/>
            <a:chOff x="2666880" y="3352680"/>
            <a:chExt cx="5410440" cy="1447920"/>
          </a:xfrm>
        </p:grpSpPr>
        <p:sp>
          <p:nvSpPr>
            <p:cNvPr id="588" name=""/>
            <p:cNvSpPr/>
            <p:nvPr/>
          </p:nvSpPr>
          <p:spPr>
            <a:xfrm>
              <a:off x="4114800" y="4114800"/>
              <a:ext cx="228600" cy="0"/>
            </a:xfrm>
            <a:prstGeom prst="line">
              <a:avLst/>
            </a:prstGeom>
            <a:ln w="254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666880" y="3352680"/>
              <a:ext cx="1447920" cy="14479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343400" y="3352680"/>
              <a:ext cx="533520" cy="1447920"/>
            </a:xfrm>
            <a:prstGeom prst="rect">
              <a:avLst/>
            </a:prstGeom>
            <a:solidFill>
              <a:srgbClr val="fec52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105520" y="3352680"/>
              <a:ext cx="533160" cy="1447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867280" y="3352680"/>
              <a:ext cx="533520" cy="144792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629400" y="3352680"/>
              <a:ext cx="1447920" cy="14479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ai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876920" y="4114800"/>
              <a:ext cx="228600" cy="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638680" y="4114800"/>
              <a:ext cx="228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00800" y="41148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PU, Cache, and Memory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aches designed to exploit data locality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mporal loca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atial loca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urse Overvie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y is your application drawing so slowly?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uld actually be the graph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uld be the data travers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uld be something entirely differ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PU, Cache, and Memory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2133720" y="2286000"/>
            <a:ext cx="5410080" cy="3276720"/>
            <a:chOff x="2133720" y="2286000"/>
            <a:chExt cx="5410080" cy="3276720"/>
          </a:xfrm>
        </p:grpSpPr>
        <p:sp>
          <p:nvSpPr>
            <p:cNvPr id="602" name=""/>
            <p:cNvSpPr/>
            <p:nvPr/>
          </p:nvSpPr>
          <p:spPr>
            <a:xfrm>
              <a:off x="5562720" y="2286000"/>
              <a:ext cx="1676160" cy="2666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ai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590920" y="2286000"/>
              <a:ext cx="1523880" cy="152388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590920" y="4191120"/>
              <a:ext cx="1523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590920" y="4572000"/>
              <a:ext cx="1523880" cy="38088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133720" y="5562720"/>
              <a:ext cx="5410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352680" y="4952880"/>
              <a:ext cx="0" cy="609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400800" y="4952880"/>
              <a:ext cx="0" cy="609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590920" y="3809880"/>
              <a:ext cx="1523880" cy="381240"/>
            </a:xfrm>
            <a:prstGeom prst="rect">
              <a:avLst/>
            </a:prstGeom>
            <a:solidFill>
              <a:srgbClr val="fec52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gist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mory: Cache &amp; Logical Flo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429000" y="2057400"/>
            <a:ext cx="1905120" cy="1371600"/>
          </a:xfrm>
          <a:prstGeom prst="flowChartDecision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L1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943600" y="2057400"/>
            <a:ext cx="1752480" cy="1371600"/>
          </a:xfrm>
          <a:prstGeom prst="flowChartDecision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L2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5800" y="2057400"/>
            <a:ext cx="2209680" cy="1371600"/>
          </a:xfrm>
          <a:prstGeom prst="flowChartDecision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Registe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14" name=""/>
          <p:cNvCxnSpPr>
            <a:stCxn id="613" idx="3"/>
            <a:endCxn id="611" idx="1"/>
          </p:cNvCxnSpPr>
          <p:nvPr/>
        </p:nvCxnSpPr>
        <p:spPr>
          <a:xfrm>
            <a:off x="2895480" y="2742840"/>
            <a:ext cx="53424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15" name=""/>
          <p:cNvCxnSpPr>
            <a:stCxn id="611" idx="3"/>
            <a:endCxn id="612" idx="1"/>
          </p:cNvCxnSpPr>
          <p:nvPr/>
        </p:nvCxnSpPr>
        <p:spPr>
          <a:xfrm>
            <a:off x="5333760" y="2742840"/>
            <a:ext cx="6102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16" name=""/>
          <p:cNvSpPr/>
          <p:nvPr/>
        </p:nvSpPr>
        <p:spPr>
          <a:xfrm>
            <a:off x="914400" y="4800600"/>
            <a:ext cx="1752480" cy="1219320"/>
          </a:xfrm>
          <a:prstGeom prst="flowChartProcess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17" name=""/>
          <p:cNvCxnSpPr>
            <a:stCxn id="612" idx="2"/>
            <a:endCxn id="618" idx="0"/>
          </p:cNvCxnSpPr>
          <p:nvPr/>
        </p:nvCxnSpPr>
        <p:spPr>
          <a:xfrm>
            <a:off x="6819480" y="3429000"/>
            <a:ext cx="1080" cy="13723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18" name=""/>
          <p:cNvSpPr/>
          <p:nvPr/>
        </p:nvSpPr>
        <p:spPr>
          <a:xfrm>
            <a:off x="5943600" y="4800600"/>
            <a:ext cx="1752480" cy="1219320"/>
          </a:xfrm>
          <a:prstGeom prst="flowChartProcess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py to L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505320" y="4800600"/>
            <a:ext cx="1752480" cy="1219320"/>
          </a:xfrm>
          <a:prstGeom prst="flowChartProcess">
            <a:avLst/>
          </a:prstGeom>
          <a:solidFill>
            <a:srgbClr val="fec52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py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20" name=""/>
          <p:cNvCxnSpPr>
            <a:stCxn id="611" idx="2"/>
            <a:endCxn id="619" idx="0"/>
          </p:cNvCxnSpPr>
          <p:nvPr/>
        </p:nvCxnSpPr>
        <p:spPr>
          <a:xfrm>
            <a:off x="4381200" y="3429000"/>
            <a:ext cx="1080" cy="13723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21" name=""/>
          <p:cNvCxnSpPr>
            <a:stCxn id="619" idx="1"/>
            <a:endCxn id="616" idx="3"/>
          </p:cNvCxnSpPr>
          <p:nvPr/>
        </p:nvCxnSpPr>
        <p:spPr>
          <a:xfrm flipH="1">
            <a:off x="2666160" y="5409720"/>
            <a:ext cx="83916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22" name=""/>
          <p:cNvCxnSpPr>
            <a:stCxn id="618" idx="1"/>
            <a:endCxn id="619" idx="3"/>
          </p:cNvCxnSpPr>
          <p:nvPr/>
        </p:nvCxnSpPr>
        <p:spPr>
          <a:xfrm flipH="1">
            <a:off x="5257080" y="5409720"/>
            <a:ext cx="68652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23" name=""/>
          <p:cNvSpPr/>
          <p:nvPr/>
        </p:nvSpPr>
        <p:spPr>
          <a:xfrm>
            <a:off x="7924680" y="3505320"/>
            <a:ext cx="1752840" cy="1218960"/>
          </a:xfrm>
          <a:prstGeom prst="flowChartProcess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py to L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24" name=""/>
          <p:cNvCxnSpPr>
            <a:stCxn id="612" idx="3"/>
            <a:endCxn id="623" idx="0"/>
          </p:cNvCxnSpPr>
          <p:nvPr/>
        </p:nvCxnSpPr>
        <p:spPr>
          <a:xfrm>
            <a:off x="7696080" y="2742840"/>
            <a:ext cx="1105920" cy="762840"/>
          </a:xfrm>
          <a:prstGeom prst="curved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23" idx="2"/>
            <a:endCxn id="618" idx="3"/>
          </p:cNvCxnSpPr>
          <p:nvPr/>
        </p:nvCxnSpPr>
        <p:spPr>
          <a:xfrm rot="5400000">
            <a:off x="7905240" y="4514400"/>
            <a:ext cx="686520" cy="1105920"/>
          </a:xfrm>
          <a:prstGeom prst="curved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26" name=""/>
          <p:cNvSpPr/>
          <p:nvPr/>
        </p:nvSpPr>
        <p:spPr>
          <a:xfrm>
            <a:off x="6477120" y="3429000"/>
            <a:ext cx="228600" cy="228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038480" y="3429000"/>
            <a:ext cx="228600" cy="228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447920" y="3429000"/>
            <a:ext cx="228600" cy="228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29" name=""/>
          <p:cNvCxnSpPr>
            <a:stCxn id="613" idx="2"/>
            <a:endCxn id="616" idx="0"/>
          </p:cNvCxnSpPr>
          <p:nvPr/>
        </p:nvCxnSpPr>
        <p:spPr>
          <a:xfrm>
            <a:off x="1790280" y="3429000"/>
            <a:ext cx="1080" cy="13723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30" name=""/>
          <p:cNvSpPr/>
          <p:nvPr/>
        </p:nvSpPr>
        <p:spPr>
          <a:xfrm>
            <a:off x="2819520" y="28195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334120" y="28195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696080" y="28195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mory: Cache &amp; Physical Flo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523880" y="3200400"/>
            <a:ext cx="182880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523880" y="2514600"/>
            <a:ext cx="182880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523880" y="4572000"/>
            <a:ext cx="182880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343400" y="251460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44197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523880" y="43434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523880" y="449568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41911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3880" y="41148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523880" y="403848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523880" y="39625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523880" y="38862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438280" y="39625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438280" y="38862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438280" y="41148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438280" y="403848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438280" y="41911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438280" y="41148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438280" y="43434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438280" y="426708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523880" y="4267080"/>
            <a:ext cx="914400" cy="7632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38280" y="449568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438280" y="44197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343400" y="2666880"/>
            <a:ext cx="18288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26668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343400" y="297180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9718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315200" y="4648320"/>
            <a:ext cx="1371600" cy="137160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315200" y="4267080"/>
            <a:ext cx="1371600" cy="381240"/>
          </a:xfrm>
          <a:prstGeom prst="rect">
            <a:avLst/>
          </a:prstGeom>
          <a:solidFill>
            <a:srgbClr val="fec52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67920" y="26305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449720" y="18288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498920" y="182880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2 Cac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166160" y="182880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1 Cac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343400" y="3124080"/>
            <a:ext cx="1828800" cy="1067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467480" y="25146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467480" y="26668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467480" y="281952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467480" y="29718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467480" y="327672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467480" y="3124080"/>
            <a:ext cx="914400" cy="152640"/>
          </a:xfrm>
          <a:prstGeom prst="rect">
            <a:avLst/>
          </a:prstGeom>
          <a:noFill/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467480" y="34290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467480" y="35812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828800" y="4267080"/>
            <a:ext cx="76320" cy="76320"/>
          </a:xfrm>
          <a:prstGeom prst="rect">
            <a:avLst/>
          </a:prstGeom>
          <a:solidFill>
            <a:srgbClr val="fec52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8077320" y="3124080"/>
            <a:ext cx="152280" cy="152640"/>
          </a:xfrm>
          <a:prstGeom prst="rect">
            <a:avLst/>
          </a:prstGeom>
          <a:solidFill>
            <a:srgbClr val="fec52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343400" y="327672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257800" y="327672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257800" y="31240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257800" y="29718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257800" y="25146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83" name=""/>
          <p:cNvCxnSpPr>
            <a:stCxn id="684" idx="0"/>
            <a:endCxn id="673" idx="1"/>
          </p:cNvCxnSpPr>
          <p:nvPr/>
        </p:nvCxnSpPr>
        <p:spPr>
          <a:xfrm flipH="1" rot="16200000">
            <a:off x="5921280" y="1678320"/>
            <a:ext cx="400680" cy="2642400"/>
          </a:xfrm>
          <a:prstGeom prst="curvedConnector5">
            <a:avLst>
              <a:gd name="adj1" fmla="val -52338"/>
              <a:gd name="adj2" fmla="val 29554"/>
              <a:gd name="adj3" fmla="val -52338"/>
            </a:avLst>
          </a:prstGeom>
          <a:ln w="25560">
            <a:solidFill>
              <a:srgbClr val="fec524"/>
            </a:solidFill>
            <a:miter/>
            <a:tailEnd len="med" type="triangle" w="med"/>
          </a:ln>
        </p:spPr>
      </p:cxnSp>
      <p:cxnSp>
        <p:nvCxnSpPr>
          <p:cNvPr id="685" name=""/>
          <p:cNvCxnSpPr>
            <a:stCxn id="677" idx="2"/>
            <a:endCxn id="662" idx="1"/>
          </p:cNvCxnSpPr>
          <p:nvPr/>
        </p:nvCxnSpPr>
        <p:spPr>
          <a:xfrm rot="5400000">
            <a:off x="7143120" y="3448080"/>
            <a:ext cx="1181880" cy="838800"/>
          </a:xfrm>
          <a:prstGeom prst="curvedConnector5">
            <a:avLst>
              <a:gd name="adj1" fmla="val 41925"/>
              <a:gd name="adj2" fmla="val 63632"/>
              <a:gd name="adj3" fmla="val 41925"/>
            </a:avLst>
          </a:prstGeom>
          <a:ln w="25560">
            <a:solidFill>
              <a:srgbClr val="fec524"/>
            </a:solidFill>
            <a:miter/>
            <a:tailEnd len="med" type="triangle" w="med"/>
          </a:ln>
        </p:spPr>
      </p:cxnSp>
      <p:sp>
        <p:nvSpPr>
          <p:cNvPr id="686" name=""/>
          <p:cNvSpPr/>
          <p:nvPr/>
        </p:nvSpPr>
        <p:spPr>
          <a:xfrm>
            <a:off x="4343400" y="342900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257800" y="34290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343400" y="3581280"/>
            <a:ext cx="18288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257800" y="35812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343400" y="373392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257800" y="373392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343400" y="388620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257800" y="38862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343400" y="4038480"/>
            <a:ext cx="18288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57800" y="40384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96" name=""/>
          <p:cNvCxnSpPr/>
          <p:nvPr/>
        </p:nvCxnSpPr>
        <p:spPr>
          <a:xfrm flipV="1">
            <a:off x="2437920" y="2971440"/>
            <a:ext cx="2807640" cy="1296000"/>
          </a:xfrm>
          <a:prstGeom prst="curvedConnector2">
            <a:avLst/>
          </a:prstGeom>
          <a:ln w="25560">
            <a:solidFill>
              <a:srgbClr val="fec524"/>
            </a:solidFill>
            <a:miter/>
            <a:tailEnd len="med" type="triangle" w="med"/>
          </a:ln>
        </p:spPr>
      </p:cxnSp>
      <p:sp>
        <p:nvSpPr>
          <p:cNvPr id="697" name=""/>
          <p:cNvSpPr/>
          <p:nvPr/>
        </p:nvSpPr>
        <p:spPr>
          <a:xfrm>
            <a:off x="4343400" y="2819520"/>
            <a:ext cx="1828800" cy="152280"/>
          </a:xfrm>
          <a:prstGeom prst="rect">
            <a:avLst/>
          </a:prstGeom>
          <a:noFill/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343400" y="2819520"/>
            <a:ext cx="914400" cy="1522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fec52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905120" y="4267080"/>
            <a:ext cx="75960" cy="763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105520" y="2819520"/>
            <a:ext cx="15228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229600" y="3124080"/>
            <a:ext cx="152280" cy="152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mory: Allocation &amp; Pool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st elements are often allocated as-need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leads to spatial dispa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ices, normals, textur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3429000" y="3962520"/>
            <a:ext cx="2895480" cy="1461960"/>
            <a:chOff x="3429000" y="3962520"/>
            <a:chExt cx="2895480" cy="1461960"/>
          </a:xfrm>
        </p:grpSpPr>
        <p:sp>
          <p:nvSpPr>
            <p:cNvPr id="705" name=""/>
            <p:cNvSpPr/>
            <p:nvPr/>
          </p:nvSpPr>
          <p:spPr>
            <a:xfrm>
              <a:off x="342900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60972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42900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60972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79080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97188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79080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971880" y="4145040"/>
              <a:ext cx="180720" cy="18252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42900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60972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42900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60972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79080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97188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79080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97188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15260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33368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15260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33368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51476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69548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51476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69548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15260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33368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15260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33368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1476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69548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14760" y="4510800"/>
              <a:ext cx="180720" cy="18252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69548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7656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05764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87656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5764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23872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41944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38720" y="4145040"/>
              <a:ext cx="180720" cy="18252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41944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87656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05764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87656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05764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23872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41944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23872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41944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60052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78160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60052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78160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96268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14340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96268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14340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60052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78160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60052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78160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96268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14340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96268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14340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42900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60972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2900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0972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79080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97188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79080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97188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42900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60972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42900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0972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79080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7188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9080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97188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15260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33368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15260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33368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51476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69548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1476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69548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15260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33368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5260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33368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51476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69548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51476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69548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87656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05764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87656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05764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23872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41944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23872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41944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87656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05764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87656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05764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23872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41944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23872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41944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0052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78160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60052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78160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96268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14340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96268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14340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60052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781600" y="5059080"/>
              <a:ext cx="180720" cy="18252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0052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78160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96268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14340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96268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14340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29000" y="3962520"/>
              <a:ext cx="2895480" cy="1461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mory: Allocation &amp; Pool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tigated by use of application memory manag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d: malloc, malloc, malloc, malloc,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d: pools - pool_init, pool_alloc,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3581280" y="3962520"/>
            <a:ext cx="2895480" cy="1461600"/>
            <a:chOff x="3581280" y="3962520"/>
            <a:chExt cx="2895480" cy="1461600"/>
          </a:xfrm>
        </p:grpSpPr>
        <p:sp>
          <p:nvSpPr>
            <p:cNvPr id="837" name=""/>
            <p:cNvSpPr/>
            <p:nvPr/>
          </p:nvSpPr>
          <p:spPr>
            <a:xfrm>
              <a:off x="358128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76200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58128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76200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94308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2416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94308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2416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58128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76200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58128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76200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94308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2416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94308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2416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305240" y="3962520"/>
              <a:ext cx="18036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48560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305240" y="4145400"/>
              <a:ext cx="18036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48560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66668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4776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66668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4776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305240" y="4328640"/>
              <a:ext cx="18036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48560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305240" y="4509720"/>
              <a:ext cx="18036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48560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66668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84776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66668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84776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02884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20956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02884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20956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39064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7172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39064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7172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2884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20956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02884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20956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39064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57172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9064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57172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75280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93388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75280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93388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11460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9568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11460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29568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75280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93388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75280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93388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11460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29568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11460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9568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8128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76200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58128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76200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94308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124160" y="4693320"/>
              <a:ext cx="180720" cy="18288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94308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12416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58128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200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58128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76200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94308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12416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4308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12416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05240" y="4693320"/>
              <a:ext cx="180360" cy="18288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485600" y="4693320"/>
              <a:ext cx="180720" cy="18288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305240" y="4876200"/>
              <a:ext cx="18036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48560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666680" y="4693320"/>
              <a:ext cx="180720" cy="18288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847760" y="4693320"/>
              <a:ext cx="180720" cy="182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66668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84776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305240" y="5059440"/>
              <a:ext cx="18036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48560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305240" y="5240520"/>
              <a:ext cx="18036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48560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66668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84776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66668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84776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028840" y="4693320"/>
              <a:ext cx="180720" cy="182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209560" y="4693320"/>
              <a:ext cx="180720" cy="182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02884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20956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390640" y="4693320"/>
              <a:ext cx="180720" cy="182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571720" y="4693320"/>
              <a:ext cx="180720" cy="182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39064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57172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02884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20956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02884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20956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39064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57172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39064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57172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75280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93388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75280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93388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11460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29568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11460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29568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75280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93388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75280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93388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11460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29568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11460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9568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581280" y="3962520"/>
              <a:ext cx="2895480" cy="1461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mory: Vertex Array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7315200" y="380880"/>
            <a:ext cx="1219320" cy="121932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9" name=""/>
          <p:cNvGraphicFramePr/>
          <p:nvPr/>
        </p:nvGraphicFramePr>
        <p:xfrm>
          <a:off x="1143000" y="1828800"/>
          <a:ext cx="6651720" cy="45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28800"/>
                    <a:ext cx="6651720" cy="45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Pip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1371600" y="2057400"/>
            <a:ext cx="7315200" cy="2600280"/>
            <a:chOff x="1371600" y="2057400"/>
            <a:chExt cx="7315200" cy="2600280"/>
          </a:xfrm>
        </p:grpSpPr>
        <p:sp>
          <p:nvSpPr>
            <p:cNvPr id="973" name=""/>
            <p:cNvSpPr/>
            <p:nvPr/>
          </p:nvSpPr>
          <p:spPr>
            <a:xfrm>
              <a:off x="1371600" y="2057400"/>
              <a:ext cx="7134120" cy="229860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180040" y="4356000"/>
              <a:ext cx="3144960" cy="30168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8505720" y="2782800"/>
              <a:ext cx="181080" cy="48420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701800" y="3751200"/>
              <a:ext cx="2598840" cy="422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IF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77" name=""/>
            <p:cNvGrpSpPr/>
            <p:nvPr/>
          </p:nvGrpSpPr>
          <p:grpSpPr>
            <a:xfrm>
              <a:off x="1673280" y="2481120"/>
              <a:ext cx="3205080" cy="1087560"/>
              <a:chOff x="1673280" y="2481120"/>
              <a:chExt cx="3205080" cy="1087560"/>
            </a:xfrm>
          </p:grpSpPr>
          <p:sp>
            <p:nvSpPr>
              <p:cNvPr id="978" name=""/>
              <p:cNvSpPr/>
              <p:nvPr/>
            </p:nvSpPr>
            <p:spPr>
              <a:xfrm>
                <a:off x="1673280" y="2481120"/>
                <a:ext cx="3205080" cy="1087560"/>
              </a:xfrm>
              <a:prstGeom prst="rect">
                <a:avLst/>
              </a:prstGeom>
              <a:solidFill>
                <a:srgbClr val="fec524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793880" y="2602080"/>
                <a:ext cx="907920" cy="84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xf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2822400" y="2602080"/>
                <a:ext cx="906480" cy="84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li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849840" y="2602080"/>
                <a:ext cx="907920" cy="84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ligh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982" name=""/>
              <p:cNvCxnSpPr>
                <a:stCxn id="979" idx="3"/>
                <a:endCxn id="980" idx="1"/>
              </p:cNvCxnSpPr>
              <p:nvPr/>
            </p:nvCxnSpPr>
            <p:spPr>
              <a:xfrm>
                <a:off x="2701440" y="3025440"/>
                <a:ext cx="121320" cy="1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983" name=""/>
              <p:cNvCxnSpPr>
                <a:stCxn id="980" idx="3"/>
                <a:endCxn id="981" idx="1"/>
              </p:cNvCxnSpPr>
              <p:nvPr/>
            </p:nvCxnSpPr>
            <p:spPr>
              <a:xfrm>
                <a:off x="3728880" y="3025440"/>
                <a:ext cx="121680" cy="1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grpSp>
          <p:nvGrpSpPr>
            <p:cNvPr id="984" name=""/>
            <p:cNvGrpSpPr/>
            <p:nvPr/>
          </p:nvGrpSpPr>
          <p:grpSpPr>
            <a:xfrm>
              <a:off x="5059440" y="2481120"/>
              <a:ext cx="3203640" cy="1087560"/>
              <a:chOff x="5059440" y="2481120"/>
              <a:chExt cx="3203640" cy="1087560"/>
            </a:xfrm>
          </p:grpSpPr>
          <p:sp>
            <p:nvSpPr>
              <p:cNvPr id="985" name=""/>
              <p:cNvSpPr/>
              <p:nvPr/>
            </p:nvSpPr>
            <p:spPr>
              <a:xfrm>
                <a:off x="5059440" y="2481120"/>
                <a:ext cx="3203640" cy="1087560"/>
              </a:xfrm>
              <a:prstGeom prst="rect">
                <a:avLst/>
              </a:prstGeom>
              <a:solidFill>
                <a:srgbClr val="fec524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180400" y="2602080"/>
                <a:ext cx="906480" cy="8456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ra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207840" y="2602080"/>
                <a:ext cx="906480" cy="8456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fx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235280" y="2602080"/>
                <a:ext cx="906480" cy="8456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fop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989" name=""/>
              <p:cNvCxnSpPr>
                <a:stCxn id="986" idx="3"/>
                <a:endCxn id="987" idx="1"/>
              </p:cNvCxnSpPr>
              <p:nvPr/>
            </p:nvCxnSpPr>
            <p:spPr>
              <a:xfrm>
                <a:off x="6086520" y="3024360"/>
                <a:ext cx="121320" cy="1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990" name=""/>
              <p:cNvCxnSpPr>
                <a:stCxn id="987" idx="3"/>
                <a:endCxn id="988" idx="1"/>
              </p:cNvCxnSpPr>
              <p:nvPr/>
            </p:nvCxnSpPr>
            <p:spPr>
              <a:xfrm>
                <a:off x="7113960" y="3024360"/>
                <a:ext cx="121320" cy="1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cxnSp>
          <p:nvCxnSpPr>
            <p:cNvPr id="991" name=""/>
            <p:cNvCxnSpPr>
              <a:stCxn id="974" idx="0"/>
              <a:endCxn id="976" idx="3"/>
            </p:cNvCxnSpPr>
            <p:nvPr/>
          </p:nvCxnSpPr>
          <p:spPr>
            <a:xfrm flipV="1" rot="16200000">
              <a:off x="5828760" y="3432960"/>
              <a:ext cx="394200" cy="1451880"/>
            </a:xfrm>
            <a:prstGeom prst="curvedConnector2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92" name=""/>
            <p:cNvCxnSpPr>
              <a:stCxn id="976" idx="1"/>
              <a:endCxn id="978" idx="1"/>
            </p:cNvCxnSpPr>
            <p:nvPr/>
          </p:nvCxnSpPr>
          <p:spPr>
            <a:xfrm rot="10800000">
              <a:off x="1672560" y="3025080"/>
              <a:ext cx="1028880" cy="937440"/>
            </a:xfrm>
            <a:prstGeom prst="curvedConnector5">
              <a:avLst>
                <a:gd name="adj1" fmla="val 122261"/>
                <a:gd name="adj2" fmla="val 49980"/>
                <a:gd name="adj3" fmla="val 122261"/>
              </a:avLst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93" name=""/>
            <p:cNvCxnSpPr>
              <a:stCxn id="981" idx="3"/>
              <a:endCxn id="986" idx="1"/>
            </p:cNvCxnSpPr>
            <p:nvPr/>
          </p:nvCxnSpPr>
          <p:spPr>
            <a:xfrm>
              <a:off x="4757400" y="3025440"/>
              <a:ext cx="4230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94" name=""/>
            <p:cNvCxnSpPr>
              <a:stCxn id="988" idx="3"/>
              <a:endCxn id="975" idx="3"/>
            </p:cNvCxnSpPr>
            <p:nvPr/>
          </p:nvCxnSpPr>
          <p:spPr>
            <a:xfrm>
              <a:off x="8141760" y="3024000"/>
              <a:ext cx="5454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995" name=""/>
          <p:cNvSpPr/>
          <p:nvPr/>
        </p:nvSpPr>
        <p:spPr>
          <a:xfrm>
            <a:off x="1295280" y="4876920"/>
            <a:ext cx="359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x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    world to scre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ligh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pply l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cli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 clip to 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257800" y="4876920"/>
            <a:ext cx="359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ra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 convert to pix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f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    apply textur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fop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 test pixel o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Akeley Taxonomy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 - Generate geometric da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 - Traverse data structu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 - Transform primitives world to scre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 - Rasterize triangles to pixe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 - Display framebuffer on output de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457200" y="1981080"/>
            <a:ext cx="8534160" cy="1692000"/>
            <a:chOff x="457200" y="1981080"/>
            <a:chExt cx="8534160" cy="1692000"/>
          </a:xfrm>
        </p:grpSpPr>
        <p:sp>
          <p:nvSpPr>
            <p:cNvPr id="1000" name=""/>
            <p:cNvSpPr/>
            <p:nvPr/>
          </p:nvSpPr>
          <p:spPr>
            <a:xfrm>
              <a:off x="4965840" y="3188520"/>
              <a:ext cx="1693800" cy="24300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737040" y="2302920"/>
              <a:ext cx="160920" cy="2613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953080" y="1981080"/>
              <a:ext cx="3847680" cy="123948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275280" y="2302920"/>
              <a:ext cx="1609920" cy="402120"/>
            </a:xfrm>
            <a:prstGeom prst="rect">
              <a:avLst/>
            </a:pr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046120" y="2302920"/>
              <a:ext cx="1529640" cy="402120"/>
            </a:xfrm>
            <a:prstGeom prst="rect">
              <a:avLst/>
            </a:pr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381440" y="2222280"/>
              <a:ext cx="1609920" cy="402120"/>
            </a:xfrm>
            <a:prstGeom prst="rect">
              <a:avLst/>
            </a:pr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57200" y="2141640"/>
              <a:ext cx="1610280" cy="402480"/>
            </a:xfrm>
            <a:prstGeom prst="rect">
              <a:avLst/>
            </a:pr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57200" y="2786040"/>
              <a:ext cx="1610280" cy="402120"/>
            </a:xfrm>
            <a:prstGeom prst="rect">
              <a:avLst/>
            </a:pr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008" name=""/>
            <p:cNvCxnSpPr>
              <a:stCxn id="1006" idx="2"/>
              <a:endCxn id="1007" idx="0"/>
            </p:cNvCxnSpPr>
            <p:nvPr/>
          </p:nvCxnSpPr>
          <p:spPr>
            <a:xfrm>
              <a:off x="1261800" y="2544480"/>
              <a:ext cx="1080" cy="241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009" name=""/>
            <p:cNvCxnSpPr>
              <a:stCxn id="1007" idx="2"/>
              <a:endCxn id="1000" idx="2"/>
            </p:cNvCxnSpPr>
            <p:nvPr/>
          </p:nvCxnSpPr>
          <p:spPr>
            <a:xfrm flipH="1" rot="16200000">
              <a:off x="3414960" y="1034280"/>
              <a:ext cx="243720" cy="4551480"/>
            </a:xfrm>
            <a:prstGeom prst="curvedConnector5">
              <a:avLst>
                <a:gd name="adj1" fmla="val 199260"/>
                <a:gd name="adj2" fmla="val 50000"/>
                <a:gd name="adj3" fmla="val 19926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010" name=""/>
            <p:cNvCxnSpPr>
              <a:stCxn id="1003" idx="3"/>
              <a:endCxn id="1004" idx="1"/>
            </p:cNvCxnSpPr>
            <p:nvPr/>
          </p:nvCxnSpPr>
          <p:spPr>
            <a:xfrm>
              <a:off x="4885200" y="2503800"/>
              <a:ext cx="161280" cy="10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011" name=""/>
            <p:cNvCxnSpPr>
              <a:stCxn id="1004" idx="3"/>
              <a:endCxn id="1005" idx="1"/>
            </p:cNvCxnSpPr>
            <p:nvPr/>
          </p:nvCxnSpPr>
          <p:spPr>
            <a:xfrm flipV="1">
              <a:off x="6576120" y="2422800"/>
              <a:ext cx="805680" cy="810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012" name=""/>
            <p:cNvSpPr/>
            <p:nvPr/>
          </p:nvSpPr>
          <p:spPr>
            <a:xfrm>
              <a:off x="3025440" y="2514240"/>
              <a:ext cx="2844720" cy="925560"/>
            </a:xfrm>
            <a:custGeom>
              <a:avLst/>
              <a:gdLst/>
              <a:ahLst/>
              <a:rect l="l" t="t" r="r" b="b"/>
              <a:pathLst>
                <a:path w="1696" h="552">
                  <a:moveTo>
                    <a:pt x="1657" y="552"/>
                  </a:moveTo>
                  <a:cubicBezTo>
                    <a:pt x="1696" y="470"/>
                    <a:pt x="1676" y="336"/>
                    <a:pt x="1578" y="305"/>
                  </a:cubicBezTo>
                  <a:cubicBezTo>
                    <a:pt x="1514" y="263"/>
                    <a:pt x="1449" y="239"/>
                    <a:pt x="1373" y="231"/>
                  </a:cubicBezTo>
                  <a:cubicBezTo>
                    <a:pt x="1058" y="236"/>
                    <a:pt x="747" y="250"/>
                    <a:pt x="436" y="300"/>
                  </a:cubicBezTo>
                  <a:cubicBezTo>
                    <a:pt x="342" y="297"/>
                    <a:pt x="228" y="302"/>
                    <a:pt x="131" y="284"/>
                  </a:cubicBezTo>
                  <a:cubicBezTo>
                    <a:pt x="104" y="279"/>
                    <a:pt x="66" y="268"/>
                    <a:pt x="46" y="247"/>
                  </a:cubicBezTo>
                  <a:cubicBezTo>
                    <a:pt x="32" y="232"/>
                    <a:pt x="9" y="200"/>
                    <a:pt x="9" y="200"/>
                  </a:cubicBezTo>
                  <a:cubicBezTo>
                    <a:pt x="0" y="171"/>
                    <a:pt x="4" y="190"/>
                    <a:pt x="4" y="142"/>
                  </a:cubicBezTo>
                  <a:cubicBezTo>
                    <a:pt x="12" y="92"/>
                    <a:pt x="32" y="71"/>
                    <a:pt x="67" y="36"/>
                  </a:cubicBezTo>
                  <a:cubicBezTo>
                    <a:pt x="71" y="32"/>
                    <a:pt x="73" y="25"/>
                    <a:pt x="78" y="21"/>
                  </a:cubicBezTo>
                  <a:cubicBezTo>
                    <a:pt x="87" y="14"/>
                    <a:pt x="98" y="9"/>
                    <a:pt x="109" y="5"/>
                  </a:cubicBezTo>
                  <a:cubicBezTo>
                    <a:pt x="116" y="2"/>
                    <a:pt x="127" y="1"/>
                    <a:pt x="131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7427880" y="3657600"/>
            <a:ext cx="692280" cy="2828520"/>
            <a:chOff x="7427880" y="3657600"/>
            <a:chExt cx="692280" cy="2828520"/>
          </a:xfrm>
        </p:grpSpPr>
        <p:pic>
          <p:nvPicPr>
            <p:cNvPr id="1014" name="D" descr=""/>
            <p:cNvPicPr/>
            <p:nvPr/>
          </p:nvPicPr>
          <p:blipFill>
            <a:blip r:embed="rId1"/>
            <a:stretch/>
          </p:blipFill>
          <p:spPr>
            <a:xfrm>
              <a:off x="7427880" y="5960880"/>
              <a:ext cx="69228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5" name="G" descr=""/>
            <p:cNvPicPr/>
            <p:nvPr/>
          </p:nvPicPr>
          <p:blipFill>
            <a:blip r:embed="rId2"/>
            <a:stretch/>
          </p:blipFill>
          <p:spPr>
            <a:xfrm>
              <a:off x="7427880" y="3657600"/>
              <a:ext cx="68508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R" descr=""/>
            <p:cNvPicPr/>
            <p:nvPr/>
          </p:nvPicPr>
          <p:blipFill>
            <a:blip r:embed="rId3"/>
            <a:stretch/>
          </p:blipFill>
          <p:spPr>
            <a:xfrm>
              <a:off x="7427880" y="5384880"/>
              <a:ext cx="68508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7" name="T" descr=""/>
            <p:cNvPicPr/>
            <p:nvPr/>
          </p:nvPicPr>
          <p:blipFill>
            <a:blip r:embed="rId4"/>
            <a:stretch/>
          </p:blipFill>
          <p:spPr>
            <a:xfrm>
              <a:off x="7427880" y="4233240"/>
              <a:ext cx="68508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8" name="X" descr=""/>
            <p:cNvPicPr/>
            <p:nvPr/>
          </p:nvPicPr>
          <p:blipFill>
            <a:blip r:embed="rId5"/>
            <a:stretch/>
          </p:blipFill>
          <p:spPr>
            <a:xfrm>
              <a:off x="7427880" y="4809240"/>
              <a:ext cx="685080" cy="525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Hardwar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4 types of hardware are common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-TXRD : all hard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T-XRD 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TX-RD 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TXR-D : all soft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4952880" y="2514600"/>
            <a:ext cx="2895480" cy="2288880"/>
            <a:chOff x="4952880" y="2514600"/>
            <a:chExt cx="2895480" cy="2288880"/>
          </a:xfrm>
        </p:grpSpPr>
        <p:pic>
          <p:nvPicPr>
            <p:cNvPr id="1022" name="D" descr=""/>
            <p:cNvPicPr/>
            <p:nvPr/>
          </p:nvPicPr>
          <p:blipFill>
            <a:blip r:embed="rId1"/>
            <a:stretch/>
          </p:blipFill>
          <p:spPr>
            <a:xfrm>
              <a:off x="7175520" y="2514600"/>
              <a:ext cx="672840" cy="51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3" name="R" descr=""/>
            <p:cNvPicPr/>
            <p:nvPr/>
          </p:nvPicPr>
          <p:blipFill>
            <a:blip r:embed="rId2"/>
            <a:stretch/>
          </p:blipFill>
          <p:spPr>
            <a:xfrm>
              <a:off x="6434640" y="2514600"/>
              <a:ext cx="665280" cy="51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4" name="T" descr=""/>
            <p:cNvPicPr/>
            <p:nvPr/>
          </p:nvPicPr>
          <p:blipFill>
            <a:blip r:embed="rId3"/>
            <a:stretch/>
          </p:blipFill>
          <p:spPr>
            <a:xfrm>
              <a:off x="4952880" y="2514600"/>
              <a:ext cx="664920" cy="51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5" name="X" descr=""/>
            <p:cNvPicPr/>
            <p:nvPr/>
          </p:nvPicPr>
          <p:blipFill>
            <a:blip r:embed="rId4"/>
            <a:stretch/>
          </p:blipFill>
          <p:spPr>
            <a:xfrm>
              <a:off x="5693400" y="2514600"/>
              <a:ext cx="665280" cy="51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" name="D" descr=""/>
            <p:cNvPicPr/>
            <p:nvPr/>
          </p:nvPicPr>
          <p:blipFill>
            <a:blip r:embed="rId5"/>
            <a:stretch/>
          </p:blipFill>
          <p:spPr>
            <a:xfrm>
              <a:off x="7175520" y="3107160"/>
              <a:ext cx="672840" cy="51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7" name="R" descr=""/>
            <p:cNvPicPr/>
            <p:nvPr/>
          </p:nvPicPr>
          <p:blipFill>
            <a:blip r:embed="rId6"/>
            <a:stretch/>
          </p:blipFill>
          <p:spPr>
            <a:xfrm>
              <a:off x="6434640" y="3107160"/>
              <a:ext cx="665280" cy="51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X" descr=""/>
            <p:cNvPicPr/>
            <p:nvPr/>
          </p:nvPicPr>
          <p:blipFill>
            <a:blip r:embed="rId7"/>
            <a:stretch/>
          </p:blipFill>
          <p:spPr>
            <a:xfrm>
              <a:off x="5693400" y="3107160"/>
              <a:ext cx="665280" cy="51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" name="D" descr=""/>
            <p:cNvPicPr/>
            <p:nvPr/>
          </p:nvPicPr>
          <p:blipFill>
            <a:blip r:embed="rId8"/>
            <a:stretch/>
          </p:blipFill>
          <p:spPr>
            <a:xfrm>
              <a:off x="7175520" y="3699720"/>
              <a:ext cx="672840" cy="51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0" name="R" descr=""/>
            <p:cNvPicPr/>
            <p:nvPr/>
          </p:nvPicPr>
          <p:blipFill>
            <a:blip r:embed="rId9"/>
            <a:stretch/>
          </p:blipFill>
          <p:spPr>
            <a:xfrm>
              <a:off x="6434640" y="3699720"/>
              <a:ext cx="665280" cy="51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1" name="D" descr=""/>
            <p:cNvPicPr/>
            <p:nvPr/>
          </p:nvPicPr>
          <p:blipFill>
            <a:blip r:embed="rId10"/>
            <a:stretch/>
          </p:blipFill>
          <p:spPr>
            <a:xfrm>
              <a:off x="7175520" y="4293000"/>
              <a:ext cx="672840" cy="5104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Performanc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enchmark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ust, but verify.” - an ex-presid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iangle rate: speed at which primitives are transformed (X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ll rate: speed at which primitives are rasterized (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th complexity: number of times pixel fil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aveat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ntization, fastpat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our Gu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latform architecture &amp; component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mo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raph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raphics performanc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asurements: triangle rate, fill rate, misc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produce &amp; maximiz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Framerate Quantiz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ramerate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quantizatio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is the result of a buffer-swap occurring at the next vertical retrac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cessary to avoid image artifacts such as tea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ample: 100Hz display refres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6" name=""/>
          <p:cNvGrpSpPr/>
          <p:nvPr/>
        </p:nvGrpSpPr>
        <p:grpSpPr>
          <a:xfrm>
            <a:off x="3962520" y="1905120"/>
            <a:ext cx="4114800" cy="3428640"/>
            <a:chOff x="3962520" y="1905120"/>
            <a:chExt cx="4114800" cy="3428640"/>
          </a:xfrm>
        </p:grpSpPr>
        <p:grpSp>
          <p:nvGrpSpPr>
            <p:cNvPr id="1037" name=""/>
            <p:cNvGrpSpPr/>
            <p:nvPr/>
          </p:nvGrpSpPr>
          <p:grpSpPr>
            <a:xfrm>
              <a:off x="3962520" y="1905120"/>
              <a:ext cx="1371600" cy="3428280"/>
              <a:chOff x="3962520" y="1905120"/>
              <a:chExt cx="1371600" cy="3428280"/>
            </a:xfrm>
          </p:grpSpPr>
          <p:sp>
            <p:nvSpPr>
              <p:cNvPr id="1038" name=""/>
              <p:cNvSpPr/>
              <p:nvPr/>
            </p:nvSpPr>
            <p:spPr>
              <a:xfrm>
                <a:off x="39625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4197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48769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3341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5791320" y="1905120"/>
              <a:ext cx="1371600" cy="3428280"/>
              <a:chOff x="5791320" y="1905120"/>
              <a:chExt cx="1371600" cy="3428280"/>
            </a:xfrm>
          </p:grpSpPr>
          <p:sp>
            <p:nvSpPr>
              <p:cNvPr id="1043" name=""/>
              <p:cNvSpPr/>
              <p:nvPr/>
            </p:nvSpPr>
            <p:spPr>
              <a:xfrm>
                <a:off x="57913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2485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7057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1629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47" name=""/>
            <p:cNvSpPr/>
            <p:nvPr/>
          </p:nvSpPr>
          <p:spPr>
            <a:xfrm>
              <a:off x="7620120" y="1905120"/>
              <a:ext cx="0" cy="342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8077320" y="1905120"/>
              <a:ext cx="0" cy="342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Framerate Quantiz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0" name=""/>
          <p:cNvGrpSpPr/>
          <p:nvPr/>
        </p:nvGrpSpPr>
        <p:grpSpPr>
          <a:xfrm>
            <a:off x="3962520" y="2133720"/>
            <a:ext cx="380880" cy="380880"/>
            <a:chOff x="3962520" y="2133720"/>
            <a:chExt cx="380880" cy="380880"/>
          </a:xfrm>
        </p:grpSpPr>
        <p:sp>
          <p:nvSpPr>
            <p:cNvPr id="1051" name=""/>
            <p:cNvSpPr/>
            <p:nvPr/>
          </p:nvSpPr>
          <p:spPr>
            <a:xfrm>
              <a:off x="3962520" y="213372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962520" y="232416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1679040" y="27432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 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3962520" y="3352680"/>
            <a:ext cx="533160" cy="381240"/>
            <a:chOff x="3962520" y="3352680"/>
            <a:chExt cx="533160" cy="381240"/>
          </a:xfrm>
        </p:grpSpPr>
        <p:sp>
          <p:nvSpPr>
            <p:cNvPr id="1055" name=""/>
            <p:cNvSpPr/>
            <p:nvPr/>
          </p:nvSpPr>
          <p:spPr>
            <a:xfrm>
              <a:off x="3962520" y="3352680"/>
              <a:ext cx="533160" cy="3812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962520" y="3543120"/>
              <a:ext cx="53316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7" name=""/>
          <p:cNvGrpSpPr/>
          <p:nvPr/>
        </p:nvGrpSpPr>
        <p:grpSpPr>
          <a:xfrm>
            <a:off x="4876920" y="3352680"/>
            <a:ext cx="533160" cy="381240"/>
            <a:chOff x="4876920" y="3352680"/>
            <a:chExt cx="533160" cy="381240"/>
          </a:xfrm>
        </p:grpSpPr>
        <p:sp>
          <p:nvSpPr>
            <p:cNvPr id="1058" name=""/>
            <p:cNvSpPr/>
            <p:nvPr/>
          </p:nvSpPr>
          <p:spPr>
            <a:xfrm>
              <a:off x="4876920" y="3352680"/>
              <a:ext cx="533160" cy="3812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876920" y="3543120"/>
              <a:ext cx="53316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5791320" y="3352680"/>
            <a:ext cx="533160" cy="381240"/>
            <a:chOff x="5791320" y="3352680"/>
            <a:chExt cx="533160" cy="381240"/>
          </a:xfrm>
        </p:grpSpPr>
        <p:sp>
          <p:nvSpPr>
            <p:cNvPr id="1061" name=""/>
            <p:cNvSpPr/>
            <p:nvPr/>
          </p:nvSpPr>
          <p:spPr>
            <a:xfrm>
              <a:off x="5791320" y="3352680"/>
              <a:ext cx="533160" cy="3812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791320" y="3543120"/>
              <a:ext cx="53316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4419720" y="2743200"/>
            <a:ext cx="380880" cy="380880"/>
            <a:chOff x="4419720" y="2743200"/>
            <a:chExt cx="380880" cy="380880"/>
          </a:xfrm>
        </p:grpSpPr>
        <p:sp>
          <p:nvSpPr>
            <p:cNvPr id="1064" name=""/>
            <p:cNvSpPr/>
            <p:nvPr/>
          </p:nvSpPr>
          <p:spPr>
            <a:xfrm>
              <a:off x="4419720" y="274320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419720" y="293364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4876920" y="2743200"/>
            <a:ext cx="380880" cy="380880"/>
            <a:chOff x="4876920" y="2743200"/>
            <a:chExt cx="380880" cy="380880"/>
          </a:xfrm>
        </p:grpSpPr>
        <p:sp>
          <p:nvSpPr>
            <p:cNvPr id="1067" name=""/>
            <p:cNvSpPr/>
            <p:nvPr/>
          </p:nvSpPr>
          <p:spPr>
            <a:xfrm>
              <a:off x="4876920" y="274320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876920" y="293364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5334120" y="2743200"/>
            <a:ext cx="380880" cy="380880"/>
            <a:chOff x="5334120" y="2743200"/>
            <a:chExt cx="380880" cy="380880"/>
          </a:xfrm>
        </p:grpSpPr>
        <p:sp>
          <p:nvSpPr>
            <p:cNvPr id="1070" name=""/>
            <p:cNvSpPr/>
            <p:nvPr/>
          </p:nvSpPr>
          <p:spPr>
            <a:xfrm>
              <a:off x="5334120" y="274320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334120" y="293364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5791320" y="2743200"/>
            <a:ext cx="380880" cy="380880"/>
            <a:chOff x="5791320" y="2743200"/>
            <a:chExt cx="380880" cy="380880"/>
          </a:xfrm>
        </p:grpSpPr>
        <p:sp>
          <p:nvSpPr>
            <p:cNvPr id="1073" name=""/>
            <p:cNvSpPr/>
            <p:nvPr/>
          </p:nvSpPr>
          <p:spPr>
            <a:xfrm>
              <a:off x="5791320" y="274320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791320" y="293364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3962520" y="3962520"/>
            <a:ext cx="837720" cy="380880"/>
            <a:chOff x="3962520" y="3962520"/>
            <a:chExt cx="837720" cy="380880"/>
          </a:xfrm>
        </p:grpSpPr>
        <p:sp>
          <p:nvSpPr>
            <p:cNvPr id="1076" name=""/>
            <p:cNvSpPr/>
            <p:nvPr/>
          </p:nvSpPr>
          <p:spPr>
            <a:xfrm>
              <a:off x="3962520" y="3962520"/>
              <a:ext cx="83772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962520" y="4152960"/>
              <a:ext cx="83772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4876920" y="3962520"/>
            <a:ext cx="837720" cy="380880"/>
            <a:chOff x="4876920" y="3962520"/>
            <a:chExt cx="837720" cy="380880"/>
          </a:xfrm>
        </p:grpSpPr>
        <p:sp>
          <p:nvSpPr>
            <p:cNvPr id="1079" name=""/>
            <p:cNvSpPr/>
            <p:nvPr/>
          </p:nvSpPr>
          <p:spPr>
            <a:xfrm>
              <a:off x="4876920" y="3962520"/>
              <a:ext cx="83772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876920" y="4152960"/>
              <a:ext cx="83772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5791320" y="3962520"/>
            <a:ext cx="837720" cy="380880"/>
            <a:chOff x="5791320" y="3962520"/>
            <a:chExt cx="837720" cy="380880"/>
          </a:xfrm>
        </p:grpSpPr>
        <p:sp>
          <p:nvSpPr>
            <p:cNvPr id="1082" name=""/>
            <p:cNvSpPr/>
            <p:nvPr/>
          </p:nvSpPr>
          <p:spPr>
            <a:xfrm>
              <a:off x="5791320" y="3962520"/>
              <a:ext cx="83772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791320" y="4152960"/>
              <a:ext cx="83772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5334120" y="4572000"/>
            <a:ext cx="990000" cy="380880"/>
            <a:chOff x="5334120" y="4572000"/>
            <a:chExt cx="990000" cy="380880"/>
          </a:xfrm>
        </p:grpSpPr>
        <p:sp>
          <p:nvSpPr>
            <p:cNvPr id="1085" name=""/>
            <p:cNvSpPr/>
            <p:nvPr/>
          </p:nvSpPr>
          <p:spPr>
            <a:xfrm>
              <a:off x="5334120" y="4572000"/>
              <a:ext cx="99000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334120" y="4762440"/>
              <a:ext cx="99000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3962520" y="4572000"/>
            <a:ext cx="990000" cy="380880"/>
            <a:chOff x="3962520" y="4572000"/>
            <a:chExt cx="990000" cy="380880"/>
          </a:xfrm>
        </p:grpSpPr>
        <p:sp>
          <p:nvSpPr>
            <p:cNvPr id="1088" name=""/>
            <p:cNvSpPr/>
            <p:nvPr/>
          </p:nvSpPr>
          <p:spPr>
            <a:xfrm>
              <a:off x="3962520" y="4572000"/>
              <a:ext cx="99000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962520" y="4762440"/>
              <a:ext cx="99000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6705720" y="4572000"/>
            <a:ext cx="990000" cy="380880"/>
            <a:chOff x="6705720" y="4572000"/>
            <a:chExt cx="990000" cy="380880"/>
          </a:xfrm>
        </p:grpSpPr>
        <p:sp>
          <p:nvSpPr>
            <p:cNvPr id="1091" name=""/>
            <p:cNvSpPr/>
            <p:nvPr/>
          </p:nvSpPr>
          <p:spPr>
            <a:xfrm>
              <a:off x="6705720" y="4572000"/>
              <a:ext cx="99000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705720" y="4762440"/>
              <a:ext cx="99000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3" name=""/>
          <p:cNvSpPr/>
          <p:nvPr/>
        </p:nvSpPr>
        <p:spPr>
          <a:xfrm>
            <a:off x="1678680" y="33526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 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678680" y="396252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 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678680" y="457200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3 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6655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1227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5799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0371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4943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9515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4087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8659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3231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3962520" y="2743200"/>
            <a:ext cx="380880" cy="380880"/>
            <a:chOff x="3962520" y="2743200"/>
            <a:chExt cx="380880" cy="380880"/>
          </a:xfrm>
        </p:grpSpPr>
        <p:sp>
          <p:nvSpPr>
            <p:cNvPr id="1106" name=""/>
            <p:cNvSpPr/>
            <p:nvPr/>
          </p:nvSpPr>
          <p:spPr>
            <a:xfrm>
              <a:off x="3962520" y="274320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962520" y="293364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4343400" y="2133720"/>
            <a:ext cx="380880" cy="380880"/>
            <a:chOff x="4343400" y="2133720"/>
            <a:chExt cx="380880" cy="380880"/>
          </a:xfrm>
        </p:grpSpPr>
        <p:sp>
          <p:nvSpPr>
            <p:cNvPr id="1109" name=""/>
            <p:cNvSpPr/>
            <p:nvPr/>
          </p:nvSpPr>
          <p:spPr>
            <a:xfrm>
              <a:off x="4343400" y="213372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343400" y="232416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4724280" y="2133720"/>
            <a:ext cx="381240" cy="380880"/>
            <a:chOff x="4724280" y="2133720"/>
            <a:chExt cx="381240" cy="380880"/>
          </a:xfrm>
        </p:grpSpPr>
        <p:sp>
          <p:nvSpPr>
            <p:cNvPr id="1112" name=""/>
            <p:cNvSpPr/>
            <p:nvPr/>
          </p:nvSpPr>
          <p:spPr>
            <a:xfrm>
              <a:off x="4724280" y="2133720"/>
              <a:ext cx="38124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724280" y="2324160"/>
              <a:ext cx="38124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5105520" y="2133720"/>
            <a:ext cx="380880" cy="380880"/>
            <a:chOff x="5105520" y="2133720"/>
            <a:chExt cx="380880" cy="380880"/>
          </a:xfrm>
        </p:grpSpPr>
        <p:sp>
          <p:nvSpPr>
            <p:cNvPr id="1115" name=""/>
            <p:cNvSpPr/>
            <p:nvPr/>
          </p:nvSpPr>
          <p:spPr>
            <a:xfrm>
              <a:off x="5105520" y="213372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105520" y="232416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5486400" y="2133720"/>
            <a:ext cx="380880" cy="380880"/>
            <a:chOff x="5486400" y="2133720"/>
            <a:chExt cx="380880" cy="380880"/>
          </a:xfrm>
        </p:grpSpPr>
        <p:sp>
          <p:nvSpPr>
            <p:cNvPr id="1118" name=""/>
            <p:cNvSpPr/>
            <p:nvPr/>
          </p:nvSpPr>
          <p:spPr>
            <a:xfrm>
              <a:off x="5486400" y="213372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486400" y="232416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5867280" y="2133720"/>
            <a:ext cx="381240" cy="380880"/>
            <a:chOff x="5867280" y="2133720"/>
            <a:chExt cx="381240" cy="380880"/>
          </a:xfrm>
        </p:grpSpPr>
        <p:sp>
          <p:nvSpPr>
            <p:cNvPr id="1121" name=""/>
            <p:cNvSpPr/>
            <p:nvPr/>
          </p:nvSpPr>
          <p:spPr>
            <a:xfrm>
              <a:off x="5867280" y="2133720"/>
              <a:ext cx="38124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867280" y="2324160"/>
              <a:ext cx="38124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3" name=""/>
          <p:cNvSpPr/>
          <p:nvPr/>
        </p:nvSpPr>
        <p:spPr>
          <a:xfrm>
            <a:off x="1069200" y="213372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-sync 120 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1676520" y="5867280"/>
            <a:ext cx="6324480" cy="533520"/>
            <a:chOff x="1676520" y="5867280"/>
            <a:chExt cx="6324480" cy="533520"/>
          </a:xfrm>
        </p:grpSpPr>
        <p:sp>
          <p:nvSpPr>
            <p:cNvPr id="1125" name=""/>
            <p:cNvSpPr/>
            <p:nvPr/>
          </p:nvSpPr>
          <p:spPr>
            <a:xfrm>
              <a:off x="1676520" y="5867280"/>
              <a:ext cx="6324480" cy="533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6" name=""/>
            <p:cNvGrpSpPr/>
            <p:nvPr/>
          </p:nvGrpSpPr>
          <p:grpSpPr>
            <a:xfrm>
              <a:off x="1981080" y="5943600"/>
              <a:ext cx="381240" cy="380880"/>
              <a:chOff x="1981080" y="5943600"/>
              <a:chExt cx="381240" cy="380880"/>
            </a:xfrm>
          </p:grpSpPr>
          <p:sp>
            <p:nvSpPr>
              <p:cNvPr id="1127" name=""/>
              <p:cNvSpPr/>
              <p:nvPr/>
            </p:nvSpPr>
            <p:spPr>
              <a:xfrm>
                <a:off x="1981080" y="5943600"/>
                <a:ext cx="381240" cy="3808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1981080" y="6134040"/>
                <a:ext cx="381240" cy="0"/>
              </a:xfrm>
              <a:prstGeom prst="line">
                <a:avLst/>
              </a:prstGeom>
              <a:ln w="76320">
                <a:solidFill>
                  <a:srgbClr val="fec52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29" name=""/>
            <p:cNvSpPr/>
            <p:nvPr/>
          </p:nvSpPr>
          <p:spPr>
            <a:xfrm>
              <a:off x="1981080" y="5867280"/>
              <a:ext cx="37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one graphics fra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334120" y="5867280"/>
              <a:ext cx="2590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/100 secon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Fastpath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stpath: the most optimized path through graphics hardware (and driver softwar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st path: float verts, float norms, AGBR textures, z-te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ss fast path: float verts, float norms, RGBA textures, z-te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3" name=""/>
          <p:cNvGraphicFramePr/>
          <p:nvPr/>
        </p:nvGraphicFramePr>
        <p:xfrm>
          <a:off x="1828800" y="1828800"/>
          <a:ext cx="5715000" cy="454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828800"/>
                    <a:ext cx="5715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Fastpath Exampl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st path is often synonymous with ideal pat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 usage of graphics falls on a continu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Fastpath Poi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1905120" y="3352680"/>
            <a:ext cx="5867280" cy="2133360"/>
            <a:chOff x="1905120" y="3352680"/>
            <a:chExt cx="5867280" cy="2133360"/>
          </a:xfrm>
        </p:grpSpPr>
        <p:sp>
          <p:nvSpPr>
            <p:cNvPr id="1139" name=""/>
            <p:cNvSpPr/>
            <p:nvPr/>
          </p:nvSpPr>
          <p:spPr>
            <a:xfrm>
              <a:off x="1905120" y="3352680"/>
              <a:ext cx="5867280" cy="2133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666880" y="4190760"/>
              <a:ext cx="4190760" cy="304920"/>
            </a:xfrm>
            <a:prstGeom prst="rect">
              <a:avLst/>
            </a:prstGeom>
            <a:gradFill rotWithShape="0">
              <a:gsLst>
                <a:gs pos="0">
                  <a:srgbClr val="fec524"/>
                </a:gs>
                <a:gs pos="100000">
                  <a:srgbClr val="79509e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905120" y="3352680"/>
              <a:ext cx="213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ast pat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hardware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096960" y="3352680"/>
              <a:ext cx="163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low pat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software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133360" y="44956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400800" y="449568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Qual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4572000" y="4495680"/>
              <a:ext cx="1080" cy="380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743200" y="4952880"/>
              <a:ext cx="441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here is your application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7391520" y="380880"/>
            <a:ext cx="1218960" cy="1219320"/>
            <a:chOff x="7391520" y="380880"/>
            <a:chExt cx="1218960" cy="1219320"/>
          </a:xfrm>
        </p:grpSpPr>
        <p:sp>
          <p:nvSpPr>
            <p:cNvPr id="1148" name=""/>
            <p:cNvSpPr/>
            <p:nvPr/>
          </p:nvSpPr>
          <p:spPr>
            <a:xfrm>
              <a:off x="7391520" y="380880"/>
              <a:ext cx="1218960" cy="1219320"/>
            </a:xfrm>
            <a:prstGeom prst="ellipse">
              <a:avLst/>
            </a:prstGeom>
            <a:solidFill>
              <a:srgbClr val="9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49" name="snap" descr=""/>
            <p:cNvPicPr/>
            <p:nvPr/>
          </p:nvPicPr>
          <p:blipFill>
            <a:blip r:embed="rId1">
              <a:biLevel thresh="50000"/>
              <a:lum bright="-48000"/>
            </a:blip>
            <a:stretch/>
          </p:blipFill>
          <p:spPr>
            <a:xfrm>
              <a:off x="7467480" y="457200"/>
              <a:ext cx="106704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st quantify what hardware can 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ow the plat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t run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at can your application 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quality do you need, and w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speed do you need, and w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Fastpath Poi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7391520" y="380880"/>
            <a:ext cx="1218960" cy="1219320"/>
            <a:chOff x="7391520" y="380880"/>
            <a:chExt cx="1218960" cy="1219320"/>
          </a:xfrm>
        </p:grpSpPr>
        <p:sp>
          <p:nvSpPr>
            <p:cNvPr id="1153" name=""/>
            <p:cNvSpPr/>
            <p:nvPr/>
          </p:nvSpPr>
          <p:spPr>
            <a:xfrm>
              <a:off x="7391520" y="380880"/>
              <a:ext cx="1218960" cy="1219320"/>
            </a:xfrm>
            <a:prstGeom prst="ellipse">
              <a:avLst/>
            </a:prstGeom>
            <a:solidFill>
              <a:srgbClr val="9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54" name="snap" descr=""/>
            <p:cNvPicPr/>
            <p:nvPr/>
          </p:nvPicPr>
          <p:blipFill>
            <a:blip r:embed="rId1">
              <a:biLevel thresh="50000"/>
              <a:lum bright="-48000"/>
            </a:blip>
            <a:stretch/>
          </p:blipFill>
          <p:spPr>
            <a:xfrm>
              <a:off x="7467480" y="457200"/>
              <a:ext cx="106704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Hardware: Test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uplicate performance numbers simply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od: build a simple test progr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tter: SPECglperf™ - http://www.spec.or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Maximize performance in an app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od: Use fast API extens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tter: Create an “is-fast” test, use what is verified as fa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Hardware: “Is-Fast”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est each platform to determine fast path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ce, per-machine, test primitives and mod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ex array format, texture format, display list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ore data in databa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 hardware changes or time-to-l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ad data from database at startu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 database or re-generat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7391520" y="380880"/>
            <a:ext cx="1218960" cy="1219320"/>
            <a:chOff x="7391520" y="380880"/>
            <a:chExt cx="1218960" cy="1219320"/>
          </a:xfrm>
        </p:grpSpPr>
        <p:sp>
          <p:nvSpPr>
            <p:cNvPr id="1160" name=""/>
            <p:cNvSpPr/>
            <p:nvPr/>
          </p:nvSpPr>
          <p:spPr>
            <a:xfrm>
              <a:off x="7391520" y="380880"/>
              <a:ext cx="1218960" cy="1219320"/>
            </a:xfrm>
            <a:prstGeom prst="ellipse">
              <a:avLst/>
            </a:prstGeom>
            <a:solidFill>
              <a:srgbClr val="9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61" name="snap" descr=""/>
            <p:cNvPicPr/>
            <p:nvPr/>
          </p:nvPicPr>
          <p:blipFill>
            <a:blip r:embed="rId1">
              <a:biLevel thresh="50000"/>
              <a:lum bright="-48000"/>
            </a:blip>
            <a:stretch/>
          </p:blipFill>
          <p:spPr>
            <a:xfrm>
              <a:off x="7467480" y="457200"/>
              <a:ext cx="106704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hink Globally, Act Locally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nk globally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now the platforms &amp; graphics hard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hardware effectively in your ap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lance hardware utiliz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7391520" y="380880"/>
            <a:ext cx="1218960" cy="1219320"/>
            <a:chOff x="7391520" y="380880"/>
            <a:chExt cx="1218960" cy="1219320"/>
          </a:xfrm>
        </p:grpSpPr>
        <p:sp>
          <p:nvSpPr>
            <p:cNvPr id="1165" name=""/>
            <p:cNvSpPr/>
            <p:nvPr/>
          </p:nvSpPr>
          <p:spPr>
            <a:xfrm>
              <a:off x="7391520" y="380880"/>
              <a:ext cx="1218960" cy="1219320"/>
            </a:xfrm>
            <a:prstGeom prst="ellipse">
              <a:avLst/>
            </a:prstGeom>
            <a:solidFill>
              <a:srgbClr val="9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66" name="snap" descr=""/>
            <p:cNvPicPr/>
            <p:nvPr/>
          </p:nvPicPr>
          <p:blipFill>
            <a:blip r:embed="rId1">
              <a:biLevel thresh="50000"/>
              <a:lum bright="-48000"/>
            </a:blip>
            <a:stretch/>
          </p:blipFill>
          <p:spPr>
            <a:xfrm>
              <a:off x="7467480" y="457200"/>
              <a:ext cx="106704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ttlenecks &amp; Balanc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ottleneck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nd th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iminate them (sort of - move them around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alanc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derstand hardware archite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lly utilize hard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Yin &amp; Ya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Yin and yang are the two primal cosmic principles of the universe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best state for everything in the universe is a state of harmony represented by a balance of yin and yang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keptics Dictionary -- http://skepdic.com/yinyang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391520" y="380880"/>
            <a:ext cx="1218960" cy="1219320"/>
            <a:chOff x="7391520" y="380880"/>
            <a:chExt cx="1218960" cy="1219320"/>
          </a:xfrm>
        </p:grpSpPr>
        <p:sp>
          <p:nvSpPr>
            <p:cNvPr id="62" name=""/>
            <p:cNvSpPr/>
            <p:nvPr/>
          </p:nvSpPr>
          <p:spPr>
            <a:xfrm>
              <a:off x="7391520" y="380880"/>
              <a:ext cx="1218960" cy="1219320"/>
            </a:xfrm>
            <a:prstGeom prst="ellipse">
              <a:avLst/>
            </a:prstGeom>
            <a:solidFill>
              <a:srgbClr val="9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" name="snap" descr=""/>
            <p:cNvPicPr/>
            <p:nvPr/>
          </p:nvPicPr>
          <p:blipFill>
            <a:blip r:embed="rId1">
              <a:biLevel thresh="50000"/>
              <a:lum bright="-48000"/>
            </a:blip>
            <a:stretch/>
          </p:blipFill>
          <p:spPr>
            <a:xfrm>
              <a:off x="7467480" y="457200"/>
              <a:ext cx="106704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Write Once Run Everywhere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My application ran fast on that platform! Why is this one so slow?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fferent platforms require different tun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fferent platforms implement hardware different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ro: Architecture &amp;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: Storage capacities, buffers, &amp; ca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ect: Bandwidth &amp; lat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tency: time required to communicate a unit of da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ndwidth: data transferred per unit ti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atency &amp; Bandwidth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tency bottlenec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ndwidth bottlenec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atency &amp; Bandwidth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828800" y="3200400"/>
            <a:ext cx="5486400" cy="457200"/>
            <a:chOff x="1828800" y="3200400"/>
            <a:chExt cx="5486400" cy="457200"/>
          </a:xfrm>
        </p:grpSpPr>
        <p:sp>
          <p:nvSpPr>
            <p:cNvPr id="71" name=""/>
            <p:cNvSpPr/>
            <p:nvPr/>
          </p:nvSpPr>
          <p:spPr>
            <a:xfrm>
              <a:off x="36576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148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20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292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864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436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008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8288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860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432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004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1828800" y="4343400"/>
            <a:ext cx="5486400" cy="457200"/>
            <a:chOff x="1828800" y="4343400"/>
            <a:chExt cx="5486400" cy="457200"/>
          </a:xfrm>
        </p:grpSpPr>
        <p:sp>
          <p:nvSpPr>
            <p:cNvPr id="84" name=""/>
            <p:cNvSpPr/>
            <p:nvPr/>
          </p:nvSpPr>
          <p:spPr>
            <a:xfrm>
              <a:off x="36576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148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8288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860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432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004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0292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436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864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008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580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820960" y="5305320"/>
            <a:ext cx="3417840" cy="1557000"/>
            <a:chOff x="2820960" y="5305320"/>
            <a:chExt cx="3417840" cy="1557000"/>
          </a:xfrm>
        </p:grpSpPr>
        <p:sp>
          <p:nvSpPr>
            <p:cNvPr id="97" name=""/>
            <p:cNvSpPr/>
            <p:nvPr/>
          </p:nvSpPr>
          <p:spPr>
            <a:xfrm>
              <a:off x="2820960" y="5305320"/>
              <a:ext cx="3417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: unit of 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: texture setup 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: texture download 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95840" y="5381280"/>
              <a:ext cx="304560" cy="3049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Software Vie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3520" y="1981080"/>
            <a:ext cx="8534160" cy="4267440"/>
            <a:chOff x="533520" y="1981080"/>
            <a:chExt cx="8534160" cy="4267440"/>
          </a:xfrm>
        </p:grpSpPr>
        <p:sp>
          <p:nvSpPr>
            <p:cNvPr id="101" name=""/>
            <p:cNvSpPr/>
            <p:nvPr/>
          </p:nvSpPr>
          <p:spPr>
            <a:xfrm>
              <a:off x="6019920" y="1981080"/>
              <a:ext cx="1447560" cy="53352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raphic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20120" y="3352680"/>
              <a:ext cx="1447560" cy="53352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/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53080" y="5334120"/>
              <a:ext cx="1447920" cy="53316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s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3520" y="4952880"/>
              <a:ext cx="1447560" cy="533520"/>
            </a:xfrm>
            <a:prstGeom prst="rect">
              <a:avLst/>
            </a:prstGeom>
            <a:solidFill>
              <a:srgbClr val="fec52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1981080" y="4267080"/>
              <a:ext cx="1447920" cy="9144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5715000" y="2514600"/>
              <a:ext cx="990720" cy="838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095880" y="3581280"/>
              <a:ext cx="1524240" cy="3812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6019560" y="4419720"/>
              <a:ext cx="1143000" cy="9144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3520" y="2666880"/>
              <a:ext cx="1447560" cy="5335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1980720" y="2971800"/>
              <a:ext cx="1600200" cy="533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52680" y="2971800"/>
              <a:ext cx="2740320" cy="2049480"/>
            </a:xfrm>
            <a:custGeom>
              <a:avLst/>
              <a:gdLst/>
              <a:ahLst/>
              <a:rect l="l" t="t" r="r" b="b"/>
              <a:pathLst>
                <a:path w="2443" h="1901">
                  <a:moveTo>
                    <a:pt x="713" y="1831"/>
                  </a:moveTo>
                  <a:cubicBezTo>
                    <a:pt x="773" y="1852"/>
                    <a:pt x="832" y="1885"/>
                    <a:pt x="892" y="1901"/>
                  </a:cubicBezTo>
                  <a:cubicBezTo>
                    <a:pt x="965" y="1898"/>
                    <a:pt x="1037" y="1897"/>
                    <a:pt x="1110" y="1893"/>
                  </a:cubicBezTo>
                  <a:cubicBezTo>
                    <a:pt x="1135" y="1891"/>
                    <a:pt x="1181" y="1870"/>
                    <a:pt x="1181" y="1870"/>
                  </a:cubicBezTo>
                  <a:cubicBezTo>
                    <a:pt x="1224" y="1841"/>
                    <a:pt x="1260" y="1812"/>
                    <a:pt x="1290" y="1769"/>
                  </a:cubicBezTo>
                  <a:cubicBezTo>
                    <a:pt x="1335" y="1783"/>
                    <a:pt x="1306" y="1771"/>
                    <a:pt x="1368" y="1815"/>
                  </a:cubicBezTo>
                  <a:cubicBezTo>
                    <a:pt x="1400" y="1838"/>
                    <a:pt x="1522" y="1863"/>
                    <a:pt x="1562" y="1870"/>
                  </a:cubicBezTo>
                  <a:cubicBezTo>
                    <a:pt x="1630" y="1867"/>
                    <a:pt x="1697" y="1867"/>
                    <a:pt x="1765" y="1862"/>
                  </a:cubicBezTo>
                  <a:cubicBezTo>
                    <a:pt x="1846" y="1856"/>
                    <a:pt x="1899" y="1778"/>
                    <a:pt x="1960" y="1737"/>
                  </a:cubicBezTo>
                  <a:cubicBezTo>
                    <a:pt x="1977" y="1711"/>
                    <a:pt x="2022" y="1667"/>
                    <a:pt x="2022" y="1667"/>
                  </a:cubicBezTo>
                  <a:cubicBezTo>
                    <a:pt x="2038" y="1621"/>
                    <a:pt x="2088" y="1612"/>
                    <a:pt x="2131" y="1597"/>
                  </a:cubicBezTo>
                  <a:cubicBezTo>
                    <a:pt x="2137" y="1595"/>
                    <a:pt x="2187" y="1560"/>
                    <a:pt x="2201" y="1550"/>
                  </a:cubicBezTo>
                  <a:cubicBezTo>
                    <a:pt x="2263" y="1507"/>
                    <a:pt x="2318" y="1462"/>
                    <a:pt x="2365" y="1402"/>
                  </a:cubicBezTo>
                  <a:cubicBezTo>
                    <a:pt x="2378" y="1366"/>
                    <a:pt x="2389" y="1340"/>
                    <a:pt x="2396" y="1301"/>
                  </a:cubicBezTo>
                  <a:cubicBezTo>
                    <a:pt x="2386" y="1226"/>
                    <a:pt x="2380" y="1184"/>
                    <a:pt x="2326" y="1130"/>
                  </a:cubicBezTo>
                  <a:cubicBezTo>
                    <a:pt x="2343" y="1079"/>
                    <a:pt x="2387" y="1038"/>
                    <a:pt x="2412" y="989"/>
                  </a:cubicBezTo>
                  <a:cubicBezTo>
                    <a:pt x="2421" y="948"/>
                    <a:pt x="2436" y="913"/>
                    <a:pt x="2443" y="872"/>
                  </a:cubicBezTo>
                  <a:cubicBezTo>
                    <a:pt x="2435" y="769"/>
                    <a:pt x="2428" y="714"/>
                    <a:pt x="2373" y="631"/>
                  </a:cubicBezTo>
                  <a:cubicBezTo>
                    <a:pt x="2362" y="614"/>
                    <a:pt x="2352" y="596"/>
                    <a:pt x="2334" y="584"/>
                  </a:cubicBezTo>
                  <a:cubicBezTo>
                    <a:pt x="2285" y="551"/>
                    <a:pt x="2211" y="539"/>
                    <a:pt x="2154" y="522"/>
                  </a:cubicBezTo>
                  <a:cubicBezTo>
                    <a:pt x="2117" y="396"/>
                    <a:pt x="2162" y="228"/>
                    <a:pt x="2069" y="116"/>
                  </a:cubicBezTo>
                  <a:cubicBezTo>
                    <a:pt x="2028" y="67"/>
                    <a:pt x="1905" y="39"/>
                    <a:pt x="1843" y="23"/>
                  </a:cubicBezTo>
                  <a:cubicBezTo>
                    <a:pt x="1817" y="16"/>
                    <a:pt x="1765" y="0"/>
                    <a:pt x="1765" y="0"/>
                  </a:cubicBezTo>
                  <a:cubicBezTo>
                    <a:pt x="1744" y="2"/>
                    <a:pt x="1723" y="2"/>
                    <a:pt x="1703" y="7"/>
                  </a:cubicBezTo>
                  <a:cubicBezTo>
                    <a:pt x="1678" y="14"/>
                    <a:pt x="1654" y="47"/>
                    <a:pt x="1632" y="62"/>
                  </a:cubicBezTo>
                  <a:cubicBezTo>
                    <a:pt x="1589" y="55"/>
                    <a:pt x="1550" y="42"/>
                    <a:pt x="1508" y="31"/>
                  </a:cubicBezTo>
                  <a:cubicBezTo>
                    <a:pt x="1373" y="37"/>
                    <a:pt x="1342" y="27"/>
                    <a:pt x="1243" y="62"/>
                  </a:cubicBezTo>
                  <a:cubicBezTo>
                    <a:pt x="1225" y="68"/>
                    <a:pt x="1187" y="97"/>
                    <a:pt x="1173" y="116"/>
                  </a:cubicBezTo>
                  <a:cubicBezTo>
                    <a:pt x="1162" y="131"/>
                    <a:pt x="1142" y="163"/>
                    <a:pt x="1142" y="163"/>
                  </a:cubicBezTo>
                  <a:cubicBezTo>
                    <a:pt x="1139" y="173"/>
                    <a:pt x="1137" y="184"/>
                    <a:pt x="1134" y="194"/>
                  </a:cubicBezTo>
                  <a:cubicBezTo>
                    <a:pt x="1129" y="210"/>
                    <a:pt x="1118" y="241"/>
                    <a:pt x="1118" y="241"/>
                  </a:cubicBezTo>
                  <a:cubicBezTo>
                    <a:pt x="1056" y="219"/>
                    <a:pt x="999" y="190"/>
                    <a:pt x="939" y="163"/>
                  </a:cubicBezTo>
                  <a:cubicBezTo>
                    <a:pt x="882" y="138"/>
                    <a:pt x="813" y="129"/>
                    <a:pt x="752" y="116"/>
                  </a:cubicBezTo>
                  <a:cubicBezTo>
                    <a:pt x="732" y="119"/>
                    <a:pt x="689" y="120"/>
                    <a:pt x="666" y="132"/>
                  </a:cubicBezTo>
                  <a:cubicBezTo>
                    <a:pt x="630" y="150"/>
                    <a:pt x="606" y="187"/>
                    <a:pt x="573" y="210"/>
                  </a:cubicBezTo>
                  <a:cubicBezTo>
                    <a:pt x="562" y="225"/>
                    <a:pt x="554" y="243"/>
                    <a:pt x="542" y="257"/>
                  </a:cubicBezTo>
                  <a:cubicBezTo>
                    <a:pt x="522" y="281"/>
                    <a:pt x="515" y="275"/>
                    <a:pt x="503" y="303"/>
                  </a:cubicBezTo>
                  <a:cubicBezTo>
                    <a:pt x="478" y="360"/>
                    <a:pt x="506" y="343"/>
                    <a:pt x="464" y="358"/>
                  </a:cubicBezTo>
                  <a:cubicBezTo>
                    <a:pt x="404" y="342"/>
                    <a:pt x="336" y="363"/>
                    <a:pt x="277" y="381"/>
                  </a:cubicBezTo>
                  <a:cubicBezTo>
                    <a:pt x="269" y="389"/>
                    <a:pt x="262" y="399"/>
                    <a:pt x="253" y="405"/>
                  </a:cubicBezTo>
                  <a:cubicBezTo>
                    <a:pt x="246" y="410"/>
                    <a:pt x="236" y="407"/>
                    <a:pt x="230" y="413"/>
                  </a:cubicBezTo>
                  <a:cubicBezTo>
                    <a:pt x="129" y="514"/>
                    <a:pt x="233" y="438"/>
                    <a:pt x="168" y="483"/>
                  </a:cubicBezTo>
                  <a:cubicBezTo>
                    <a:pt x="165" y="491"/>
                    <a:pt x="164" y="499"/>
                    <a:pt x="160" y="506"/>
                  </a:cubicBezTo>
                  <a:cubicBezTo>
                    <a:pt x="156" y="514"/>
                    <a:pt x="148" y="520"/>
                    <a:pt x="144" y="529"/>
                  </a:cubicBezTo>
                  <a:cubicBezTo>
                    <a:pt x="125" y="572"/>
                    <a:pt x="113" y="625"/>
                    <a:pt x="105" y="670"/>
                  </a:cubicBezTo>
                  <a:cubicBezTo>
                    <a:pt x="100" y="698"/>
                    <a:pt x="90" y="755"/>
                    <a:pt x="90" y="755"/>
                  </a:cubicBezTo>
                  <a:cubicBezTo>
                    <a:pt x="93" y="776"/>
                    <a:pt x="102" y="797"/>
                    <a:pt x="98" y="818"/>
                  </a:cubicBezTo>
                  <a:cubicBezTo>
                    <a:pt x="96" y="827"/>
                    <a:pt x="81" y="826"/>
                    <a:pt x="74" y="833"/>
                  </a:cubicBezTo>
                  <a:cubicBezTo>
                    <a:pt x="62" y="845"/>
                    <a:pt x="56" y="865"/>
                    <a:pt x="51" y="880"/>
                  </a:cubicBezTo>
                  <a:cubicBezTo>
                    <a:pt x="48" y="890"/>
                    <a:pt x="46" y="901"/>
                    <a:pt x="43" y="911"/>
                  </a:cubicBezTo>
                  <a:cubicBezTo>
                    <a:pt x="38" y="927"/>
                    <a:pt x="27" y="958"/>
                    <a:pt x="27" y="958"/>
                  </a:cubicBezTo>
                  <a:cubicBezTo>
                    <a:pt x="20" y="1031"/>
                    <a:pt x="0" y="1148"/>
                    <a:pt x="59" y="1207"/>
                  </a:cubicBezTo>
                  <a:cubicBezTo>
                    <a:pt x="83" y="1231"/>
                    <a:pt x="149" y="1253"/>
                    <a:pt x="183" y="1262"/>
                  </a:cubicBezTo>
                  <a:cubicBezTo>
                    <a:pt x="155" y="1272"/>
                    <a:pt x="141" y="1289"/>
                    <a:pt x="129" y="1317"/>
                  </a:cubicBezTo>
                  <a:cubicBezTo>
                    <a:pt x="122" y="1332"/>
                    <a:pt x="118" y="1348"/>
                    <a:pt x="113" y="1363"/>
                  </a:cubicBezTo>
                  <a:cubicBezTo>
                    <a:pt x="110" y="1371"/>
                    <a:pt x="105" y="1387"/>
                    <a:pt x="105" y="1387"/>
                  </a:cubicBezTo>
                  <a:cubicBezTo>
                    <a:pt x="100" y="1435"/>
                    <a:pt x="90" y="1479"/>
                    <a:pt x="82" y="1527"/>
                  </a:cubicBezTo>
                  <a:cubicBezTo>
                    <a:pt x="91" y="1596"/>
                    <a:pt x="97" y="1640"/>
                    <a:pt x="136" y="1698"/>
                  </a:cubicBezTo>
                  <a:cubicBezTo>
                    <a:pt x="166" y="1742"/>
                    <a:pt x="268" y="1753"/>
                    <a:pt x="308" y="1761"/>
                  </a:cubicBezTo>
                  <a:cubicBezTo>
                    <a:pt x="419" y="1784"/>
                    <a:pt x="531" y="1812"/>
                    <a:pt x="643" y="1831"/>
                  </a:cubicBezTo>
                  <a:cubicBezTo>
                    <a:pt x="703" y="1822"/>
                    <a:pt x="681" y="1815"/>
                    <a:pt x="713" y="1831"/>
                  </a:cubicBez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81280" y="5715000"/>
              <a:ext cx="1447920" cy="533520"/>
            </a:xfrm>
            <a:prstGeom prst="rect">
              <a:avLst/>
            </a:prstGeom>
            <a:solidFill>
              <a:srgbClr val="063ff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343400" y="5028840"/>
              <a:ext cx="152280" cy="68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13:59:31Z</dcterms:created>
  <dc:creator>Keith Cok</dc:creator>
  <dc:description/>
  <dc:language>en-US</dc:language>
  <cp:lastModifiedBy>Keith Cok</cp:lastModifiedBy>
  <cp:lastPrinted>2000-06-06T21:04:26Z</cp:lastPrinted>
  <dcterms:modified xsi:type="dcterms:W3CDTF">2000-08-07T14:51:32Z</dcterms:modified>
  <cp:revision>3</cp:revision>
  <dc:subject/>
  <dc:title>Developing Efficient Graphics Software</dc:title>
</cp:coreProperties>
</file>