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FEE4-0F13-402D-9D93-B648948BF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BE1E-648D-4A59-860A-4BD25E251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60BC-F19D-4C4A-8818-91BC8F9B5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08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84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32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08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84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FADE-D363-4693-B703-760AC5AD92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10E1-F462-40A6-A1FA-7E74D3D588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A4F1-8231-43DA-AA8F-4F094D4AD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525D-7F0D-4CC5-9E51-DEB599538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D6F6-4105-4906-87E5-C398E8D87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9000" y="294840"/>
            <a:ext cx="74358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8C81-82D3-448D-AF93-74A24C98C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7D10-5BD0-41FB-BE74-73F38AD4D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1B56-B09C-458F-BB78-209B4560E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32EB-5803-44B6-B40A-2CD4C1BAE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9680" y="160200"/>
            <a:ext cx="888048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5520" y="1833480"/>
            <a:ext cx="885204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2967-0480-4970-AC29-9687CCD76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6359400" y="5908680"/>
            <a:ext cx="252252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7802640" y="403200"/>
            <a:ext cx="110628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39680" y="1824120"/>
            <a:ext cx="887724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Keith Cok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at we’ve learned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system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 between 3 foundations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mal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structured graphics API function ca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tuned/written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yinyang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2819520"/>
            <a:ext cx="1523880" cy="14475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1T01:09:48Z</dcterms:created>
  <dc:creator>Thomas J. True</dc:creator>
  <dc:description/>
  <dc:language>en-US</dc:language>
  <cp:lastModifiedBy>Keith Cok</cp:lastModifiedBy>
  <dcterms:modified xsi:type="dcterms:W3CDTF">2000-08-07T20:42:17Z</dcterms:modified>
  <cp:revision>4</cp:revision>
  <dc:subject/>
  <dc:title>Conclusion</dc:title>
</cp:coreProperties>
</file>